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自定义放映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372-B51E-4CCE-A363-09BF4FA7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A38-CEAD-408C-AABE-4AEA7A86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D26-0F29-482C-84A8-EBDB2F46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57F-B0CD-4D83-8206-7A0186B5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CF5-0665-46A7-9625-211E7FC8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15E-8752-46CF-8D38-D9A4DBD1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A59-1051-4F51-8E39-1BBFCE45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810-ED06-4F0A-9A24-4FE2B61E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640-0016-43B7-8AE5-D1389F6B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3FE-2940-4464-878D-C31A9627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613-7BF5-41AD-871A-86C1613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705-6371-4E3E-B9CD-6D4837A6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838B-A42A-4A75-82C7-0BBE2F21B0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5005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给  你  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48000" y="3932280"/>
            <a:ext cx="532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卿  </a:t>
            </a:r>
            <a:r>
              <a:rPr b="0" lang="zh-CN" sz="5500" spc="-1" strike="noStrike">
                <a:solidFill>
                  <a:srgbClr val="000000"/>
                </a:solidFill>
                <a:latin typeface="华文行楷"/>
                <a:ea typeface="华文行楷"/>
              </a:rPr>
              <a:t>&amp;  </a:t>
            </a:r>
            <a:r>
              <a:rPr b="0" lang="zh-CN" sz="5500" spc="-1" strike="noStrike">
                <a:solidFill>
                  <a:srgbClr val="000000"/>
                </a:solidFill>
                <a:latin typeface="华文行楷"/>
                <a:ea typeface="华文行楷"/>
              </a:rPr>
              <a:t>淑懿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05360"/>
            <a:ext cx="56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她将是你的新娘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她是别人用心托付在你手上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你要用你一生加倍照顾对待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苦或喜都要同享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2781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393192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要处处时时想着念的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2781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93192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要处处时时想着念的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626920" y="2997000"/>
            <a:ext cx="4249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爱就圆满了几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3499920"/>
            <a:ext cx="576072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他将是你的新郎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从今以后他就是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                         </a:t>
            </a: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一生的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他的一切都将和你紧密相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福和祸都要同当……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3284640"/>
            <a:ext cx="561636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她将是你的新娘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她是别人用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               </a:t>
            </a: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托付在你手上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你要用你一生加倍照顾对待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苦或喜都要同享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3069720"/>
            <a:ext cx="61927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328428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要处处时时想着念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                 </a:t>
            </a: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069720"/>
            <a:ext cx="61927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328428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要处处时时想着念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                 </a:t>
            </a: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6200" y="3935160"/>
            <a:ext cx="5761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他将是你的新郎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从今以后他就是你一生的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他的一切都将和你紧密相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福和祸都要同当……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2:52:50Z</dcterms:created>
  <dc:creator>微软用户</dc:creator>
  <dc:description/>
  <dc:language>en-US</dc:language>
  <cp:lastModifiedBy>微软用户</cp:lastModifiedBy>
  <dcterms:modified xsi:type="dcterms:W3CDTF">2013-03-28T09:56:59Z</dcterms:modified>
  <cp:revision>22</cp:revision>
  <dc:subject/>
  <dc:title>幻灯片 1</dc:title>
</cp:coreProperties>
</file>