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2A67-48E9-4F2A-9EE2-757DCFB942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C5D-87C4-4121-B536-61B3CB5C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F03-A99A-48BF-99A4-8D537ADD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C50-6767-4DF0-BF40-91BAFEDD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82E-EE39-410E-BEA5-09DEB145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87D-2D41-4E9C-8AD2-63D79E8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F97-2114-4AA8-87A3-51CB135D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924-F55D-414D-B1B5-F47AE912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21D-BE78-42B2-AE4C-A4AD3054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1DC-62CB-4E0B-9AE6-90330F07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B17-B52C-4D1C-A708-536DF49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15E-DD0C-403C-9AB0-CD00D10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570-F633-4E7B-9402-AC94569A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FEDF-FB3E-4AD8-99B4-3FA3F92C2E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特等奖 海南双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530400">
            <a:off x="1080" y="867960"/>
            <a:ext cx="3048120" cy="112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780960" y="533520"/>
            <a:ext cx="20574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flipH="1" rot="21531600">
            <a:off x="7086240" y="304560"/>
            <a:ext cx="1676520" cy="533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6T14:40:35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