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4D6A2-EDC3-420E-907E-D0D83775FB3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49D0-4A49-4674-87B8-2B2A19275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BC24-0E7E-4302-8713-49C9BBB82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6F36-AFD6-4655-A0F7-36C4A5236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FC57-BD5C-4F81-8030-82D406C1D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5519-8CA5-4C71-B407-95EF1CE77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DA57-BA66-4B95-BEA5-D1D46FFE5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A3D1-299E-4EB5-85EE-AE79D80A7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2298-9B77-45EA-9465-452D0F5CA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E21C-DDA5-4D3F-9A88-1C6AF6390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256E-3B8E-40E9-89F4-B99AB683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A9C3-9A64-4E8C-8F1C-0904BA70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F8AD-165B-412D-91EB-99CF32AF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0000"/>
            </a:gs>
            <a:gs pos="50000">
              <a:srgbClr val="ff0000"/>
            </a:gs>
            <a:gs pos="100000">
              <a:srgbClr val="d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B2B55-9B26-4F60-AC19-3AD9F91E6C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0000"/>
            </a:gs>
            <a:gs pos="50000">
              <a:srgbClr val="ff0000"/>
            </a:gs>
            <a:gs pos="100000">
              <a:srgbClr val="d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Arial"/>
                <a:ea typeface="微软雅黑"/>
              </a:rPr>
              <a:t>七等奖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0000"/>
            </a:gs>
            <a:gs pos="50000">
              <a:srgbClr val="ff0000"/>
            </a:gs>
            <a:gs pos="100000">
              <a:srgbClr val="d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七等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2-02-25T11:46:17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