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F474A-F0E6-46CD-A202-A65927952C6F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空白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FD859-5417-4320-817B-14C8B1098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3F299-0635-47E7-BB63-0B4935BE7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572FC-9F29-40C5-A6E5-32C3F0FCC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89B87-ED90-45D0-8F17-1A89258A0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EBC8B-8EBC-485B-9AB5-F371EEFD3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53647-51F6-4031-A3DE-371192E7C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8FBFD-3C87-44F1-A9B6-42D5AE1EA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64E82-7FB7-4111-B940-41C9FF0DC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64570-5F0D-4F7F-83D2-8099BD6C3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50AB5-B7A6-4DBD-A739-458BF7556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7E5D9-272A-43A4-A0D7-71B33FC6D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8BEA0-E606-440E-85FE-CCD2E5DFE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20000"/>
            </a:gs>
            <a:gs pos="50000">
              <a:srgbClr val="ff0000"/>
            </a:gs>
            <a:gs pos="100000">
              <a:srgbClr val="e2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905B7-7DCF-48C2-82DF-3F27319683D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20000"/>
            </a:gs>
            <a:gs pos="50000">
              <a:srgbClr val="ff0000"/>
            </a:gs>
            <a:gs pos="100000">
              <a:srgbClr val="e2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1600200"/>
            <a:ext cx="7924680" cy="388620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Arial"/>
                <a:ea typeface="微软雅黑"/>
              </a:rPr>
              <a:t>六等奖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Arial"/>
                <a:ea typeface="微软雅黑"/>
              </a:rPr>
              <a:t>中奖名单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20000"/>
            </a:gs>
            <a:gs pos="50000">
              <a:srgbClr val="ff0000"/>
            </a:gs>
            <a:gs pos="100000">
              <a:srgbClr val="e2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33520" y="380880"/>
            <a:ext cx="8001000" cy="609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0" rIns="90000" tIns="46800" bIns="46800" anchor="t">
            <a:noAutofit/>
          </a:bodyPr>
          <a:p>
            <a:pPr>
              <a:buSzPct val="1028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微软雅黑"/>
              </a:rPr>
              <a:t>张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行易软件 http://www.ExeSoft.cn</cp:lastModifiedBy>
  <dcterms:modified xsi:type="dcterms:W3CDTF">2012-02-27T00:43:54Z</dcterms:modified>
  <cp:revision>3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