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Zdy1" id="0">
      <p:sldLst>
        <p:sld r:id="rId4"/>
        <p:sld r:id="rId5"/>
      </p:sldLst>
    </p:custShow>
    <p:custShow name="Zdy2" id="1">
      <p:sldLst>
        <p:sld r:id="rId6"/>
        <p:sld r:id="rId7"/>
      </p:sldLst>
    </p:custShow>
    <p:custShow name="Zdy3" id="2">
      <p:sldLst>
        <p:sld r:id="rId8"/>
        <p:sld r:id="rId9"/>
      </p:sldLst>
    </p:custShow>
    <p:custShow name="Zdy4" id="3">
      <p:sldLst>
        <p:sld r:id="rId10"/>
        <p:sld r:id="rId11"/>
      </p:sldLst>
    </p:custShow>
    <p:custShow name="Zdy5" id="4">
      <p:sldLst>
        <p:sld r:id="rId12"/>
        <p:sld r:id="rId13"/>
      </p:sldLst>
    </p:custShow>
    <p:custShow name="Zdy6" id="5">
      <p:sldLst>
        <p:sld r:id="rId14"/>
        <p:sld r:id="rId15"/>
      </p:sldLst>
    </p:custShow>
    <p:custShow name="Zdy7" id="6">
      <p:sldLst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946-610A-416D-904A-FCFA0CFA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EFE-F2A7-4393-BAA1-F5AE5C32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49F-3713-4C56-AB6F-02F00E9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B74-CE4B-41DF-8EF7-AA88C058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865-7C41-41D8-AC7A-B0E8ED72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A7F-6018-4230-ADE3-6D2F35B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D60-8FA6-46C2-95C4-DE059B5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79E-397E-416C-AE24-38A5BFD9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672-F2AD-4731-8F3A-1289E115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15A-2672-49AE-86BC-D6FDCD5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63E-3F08-416E-9601-F269018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3D4-4E95-4B3B-A3A1-304636E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414-E994-41EA-AE2B-FAA62F00B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趣味动画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趣味动画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助兴节目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助兴节目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抽奖环节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抽奖环节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祝福贺词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祝福贺词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主题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主题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司仪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司仪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领导嘉宾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领导嘉宾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28T09:53:5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