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599988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30000" y="144360"/>
            <a:ext cx="11342520" cy="74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30000" y="1368000"/>
            <a:ext cx="1134252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0000" y="4012920"/>
            <a:ext cx="1134252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0000" y="144360"/>
            <a:ext cx="11342520" cy="74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0000" y="1368000"/>
            <a:ext cx="553500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2200" y="1368000"/>
            <a:ext cx="553500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30000" y="4012920"/>
            <a:ext cx="553500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442200" y="4012920"/>
            <a:ext cx="553500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0000" y="144360"/>
            <a:ext cx="11342520" cy="74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0000" y="1368000"/>
            <a:ext cx="365220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080" y="1368000"/>
            <a:ext cx="365220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00520" y="1368000"/>
            <a:ext cx="365220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0000" y="4012920"/>
            <a:ext cx="365220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465080" y="4012920"/>
            <a:ext cx="365220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00520" y="4012920"/>
            <a:ext cx="365220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144360"/>
            <a:ext cx="11342520" cy="74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30000" y="1368000"/>
            <a:ext cx="1134252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144360"/>
            <a:ext cx="11342520" cy="74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1368000"/>
            <a:ext cx="11342520" cy="5064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0000" y="144360"/>
            <a:ext cx="11342520" cy="74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30000" y="1368000"/>
            <a:ext cx="5535000" cy="5064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442200" y="1368000"/>
            <a:ext cx="5535000" cy="5064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144360"/>
            <a:ext cx="11342520" cy="74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30000" y="144360"/>
            <a:ext cx="11342520" cy="34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0000" y="144360"/>
            <a:ext cx="11342520" cy="74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0000" y="1368000"/>
            <a:ext cx="553500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442200" y="1368000"/>
            <a:ext cx="5535000" cy="5064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30000" y="4012920"/>
            <a:ext cx="553500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0000" y="144360"/>
            <a:ext cx="11342520" cy="74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30000" y="1368000"/>
            <a:ext cx="5535000" cy="5064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442200" y="1368000"/>
            <a:ext cx="553500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42200" y="4012920"/>
            <a:ext cx="553500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30000" y="144360"/>
            <a:ext cx="11342520" cy="74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0000" y="1368000"/>
            <a:ext cx="553500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442200" y="1368000"/>
            <a:ext cx="553500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0000" y="4012920"/>
            <a:ext cx="11342520" cy="2415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30000" y="1368000"/>
            <a:ext cx="11342520" cy="5064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7f7f7f"/>
              </a:buClr>
              <a:buSzPct val="25000"/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微软雅黑"/>
              </a:rPr>
              <a:t>Click to edit the outline text format</a:t>
            </a: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  <a:p>
            <a:pPr lvl="1" marL="482760" indent="484200">
              <a:spcBef>
                <a:spcPts val="850"/>
              </a:spcBef>
              <a:buClr>
                <a:srgbClr val="7f7f7f"/>
              </a:buClr>
              <a:buSzPct val="25000"/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微软雅黑"/>
              </a:rPr>
              <a:t>Second Outline Level</a:t>
            </a: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  <a:p>
            <a:pPr lvl="2" marL="968400" indent="-1440">
              <a:spcBef>
                <a:spcPts val="850"/>
              </a:spcBef>
              <a:buClr>
                <a:srgbClr val="7f7f7f"/>
              </a:buClr>
              <a:buSzPct val="25000"/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微软雅黑"/>
              </a:rPr>
              <a:t>Third Outline Level</a:t>
            </a: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  <a:p>
            <a:pPr lvl="3" marL="1450800" indent="-483840">
              <a:spcBef>
                <a:spcPts val="850"/>
              </a:spcBef>
              <a:buClr>
                <a:srgbClr val="7f7f7f"/>
              </a:buClr>
              <a:buSzPct val="25000"/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微软雅黑"/>
              </a:rPr>
              <a:t>Fourth Outline Level</a:t>
            </a: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  <a:p>
            <a:pPr lvl="4" marL="1933560" indent="-966600">
              <a:spcBef>
                <a:spcPts val="850"/>
              </a:spcBef>
              <a:buClr>
                <a:srgbClr val="7f7f7f"/>
              </a:buClr>
              <a:buSzPct val="25000"/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微软雅黑"/>
              </a:rPr>
              <a:t>Fifth Outline Level</a:t>
            </a: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  <a:p>
            <a:pPr lvl="5" marL="1933560" indent="-96660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微软雅黑"/>
              </a:rPr>
              <a:t>Sixth Outline Level</a:t>
            </a: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  <a:p>
            <a:pPr lvl="6" marL="1933560" indent="-96660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微软雅黑"/>
              </a:rPr>
              <a:t>Seventh Outline Level</a:t>
            </a:r>
            <a:endParaRPr b="0" lang="en-US" sz="3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30000" y="144360"/>
            <a:ext cx="11342520" cy="74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直接连接符 2"/>
          <p:cNvSpPr/>
          <p:nvPr/>
        </p:nvSpPr>
        <p:spPr>
          <a:xfrm>
            <a:off x="0" y="3314880"/>
            <a:ext cx="434016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直接连接符 3"/>
          <p:cNvSpPr/>
          <p:nvPr/>
        </p:nvSpPr>
        <p:spPr>
          <a:xfrm>
            <a:off x="4340160" y="3314880"/>
            <a:ext cx="8261280" cy="0"/>
          </a:xfrm>
          <a:prstGeom prst="line">
            <a:avLst/>
          </a:prstGeom>
          <a:ln w="316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3" descr="C:\Users\USER\Desktop\home_hero.jpg"/>
          <p:cNvPicPr/>
          <p:nvPr/>
        </p:nvPicPr>
        <p:blipFill>
          <a:blip r:embed="rId1"/>
          <a:srcRect l="36115" t="0" r="0" b="0"/>
          <a:stretch/>
        </p:blipFill>
        <p:spPr>
          <a:xfrm>
            <a:off x="6669000" y="30240"/>
            <a:ext cx="5897520" cy="4174920"/>
          </a:xfrm>
          <a:prstGeom prst="rect">
            <a:avLst/>
          </a:prstGeom>
          <a:ln w="0">
            <a:noFill/>
          </a:ln>
        </p:spPr>
      </p:pic>
      <p:sp>
        <p:nvSpPr>
          <p:cNvPr id="41" name="矩形 8"/>
          <p:cNvSpPr/>
          <p:nvPr/>
        </p:nvSpPr>
        <p:spPr>
          <a:xfrm>
            <a:off x="2181600" y="314280"/>
            <a:ext cx="232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66960" indent="-96696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36c09"/>
                </a:solidFill>
                <a:latin typeface="华文楷体"/>
                <a:ea typeface="华文楷体"/>
              </a:rPr>
              <a:t>重塑供应链、共创新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供应宝"/>
          <p:cNvPicPr/>
          <p:nvPr/>
        </p:nvPicPr>
        <p:blipFill>
          <a:blip r:embed="rId2"/>
          <a:stretch/>
        </p:blipFill>
        <p:spPr>
          <a:xfrm>
            <a:off x="1908000" y="2743200"/>
            <a:ext cx="2521080" cy="1060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208080" y="1368360"/>
            <a:ext cx="3400200" cy="1225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4140360" y="1546200"/>
            <a:ext cx="269388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47800" y="4392360"/>
            <a:ext cx="9840960" cy="2136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微软雅黑"/>
              </a:rPr>
              <a:t>天虹商场供应链服务系统安装说明</a:t>
            </a:r>
            <a:endParaRPr b="0" lang="en-US" sz="40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"/>
          <p:cNvSpPr/>
          <p:nvPr/>
        </p:nvSpPr>
        <p:spPr>
          <a:xfrm>
            <a:off x="0" y="6985080"/>
            <a:ext cx="126014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5934240" y="6959520"/>
            <a:ext cx="157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Calibri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*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Calibri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USER\Desktop\吉信佳－logo－logo－红底.png"/>
          <p:cNvPicPr/>
          <p:nvPr/>
        </p:nvPicPr>
        <p:blipFill>
          <a:blip r:embed="rId2"/>
          <a:srcRect l="0" t="23981" r="0" b="31899"/>
          <a:stretch/>
        </p:blipFill>
        <p:spPr>
          <a:xfrm>
            <a:off x="139680" y="6993000"/>
            <a:ext cx="765360" cy="208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 rot="20499000">
            <a:off x="461880" y="2512800"/>
            <a:ext cx="312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36c09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직선 연결선 2"/>
          <p:cNvSpPr/>
          <p:nvPr/>
        </p:nvSpPr>
        <p:spPr>
          <a:xfrm flipV="1">
            <a:off x="23760" y="3099960"/>
            <a:ext cx="3348000" cy="1219320"/>
          </a:xfrm>
          <a:prstGeom prst="line">
            <a:avLst/>
          </a:prstGeom>
          <a:ln w="7632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546360" y="2576160"/>
            <a:ext cx="6112080" cy="1156680"/>
            <a:chOff x="3546360" y="2576160"/>
            <a:chExt cx="6112080" cy="1156680"/>
          </a:xfrm>
        </p:grpSpPr>
        <p:sp>
          <p:nvSpPr>
            <p:cNvPr id="52" name="모서리가 둥근 직사각형 4"/>
            <p:cNvSpPr/>
            <p:nvPr/>
          </p:nvSpPr>
          <p:spPr>
            <a:xfrm>
              <a:off x="4427640" y="2882880"/>
              <a:ext cx="5230800" cy="504720"/>
            </a:xfrm>
            <a:prstGeom prst="roundRect">
              <a:avLst>
                <a:gd name="adj" fmla="val 16667"/>
              </a:avLst>
            </a:pr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66960" indent="-96696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客户端下载与安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타원 5"/>
            <p:cNvSpPr/>
            <p:nvPr/>
          </p:nvSpPr>
          <p:spPr>
            <a:xfrm>
              <a:off x="4490640" y="2930040"/>
              <a:ext cx="432000" cy="43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66960" indent="-96696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6"/>
            <p:cNvSpPr/>
            <p:nvPr/>
          </p:nvSpPr>
          <p:spPr>
            <a:xfrm rot="20499000">
              <a:off x="3560400" y="2924280"/>
              <a:ext cx="22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66960" indent="-96696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36c09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直接连接符 8"/>
          <p:cNvSpPr/>
          <p:nvPr/>
        </p:nvSpPr>
        <p:spPr>
          <a:xfrm>
            <a:off x="4359240" y="1008000"/>
            <a:ext cx="7653240" cy="1800"/>
          </a:xfrm>
          <a:prstGeom prst="line">
            <a:avLst/>
          </a:prstGeom>
          <a:ln w="316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9"/>
          <p:cNvSpPr/>
          <p:nvPr/>
        </p:nvSpPr>
        <p:spPr>
          <a:xfrm>
            <a:off x="625320" y="1008000"/>
            <a:ext cx="3733920" cy="18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0"/>
          <p:cNvSpPr/>
          <p:nvPr/>
        </p:nvSpPr>
        <p:spPr>
          <a:xfrm>
            <a:off x="0" y="6985080"/>
            <a:ext cx="126014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1"/>
          <p:cNvSpPr/>
          <p:nvPr/>
        </p:nvSpPr>
        <p:spPr>
          <a:xfrm>
            <a:off x="5934240" y="6959520"/>
            <a:ext cx="157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Calibri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*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Calibri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USER\Desktop\吉信佳－logo－logo－红底.png"/>
          <p:cNvPicPr/>
          <p:nvPr/>
        </p:nvPicPr>
        <p:blipFill>
          <a:blip r:embed="rId1"/>
          <a:srcRect l="0" t="23981" r="0" b="31899"/>
          <a:stretch/>
        </p:blipFill>
        <p:spPr>
          <a:xfrm>
            <a:off x="139680" y="6993000"/>
            <a:ext cx="765360" cy="208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0000" y="144360"/>
            <a:ext cx="11342520" cy="74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微软雅黑"/>
              </a:rPr>
              <a:t>基础应用</a:t>
            </a:r>
            <a:r>
              <a:rPr b="0" lang="en-US" sz="3200" spc="-1" strike="noStrike">
                <a:solidFill>
                  <a:srgbClr val="7f7f7f"/>
                </a:solidFill>
                <a:latin typeface="微软雅黑"/>
              </a:rPr>
              <a:t>—</a:t>
            </a:r>
            <a:r>
              <a:rPr b="0" lang="zh-CN" sz="3200" spc="-1" strike="noStrike">
                <a:solidFill>
                  <a:srgbClr val="7f7f7f"/>
                </a:solidFill>
                <a:latin typeface="微软雅黑"/>
              </a:rPr>
              <a:t>安装</a:t>
            </a:r>
            <a:endParaRPr b="0" lang="en-US" sz="32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1260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"/>
          <p:cNvSpPr/>
          <p:nvPr/>
        </p:nvSpPr>
        <p:spPr>
          <a:xfrm>
            <a:off x="971640" y="1440000"/>
            <a:ext cx="9793080" cy="53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天虹商场主页：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www.rainbow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完成后，找到下载文件存放的路径，双击安装包                 进行安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备注：网页下载后一般会提示是否运行，直接点运行即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828720" y="2089080"/>
            <a:ext cx="3943440" cy="3562560"/>
          </a:xfrm>
          <a:prstGeom prst="rect">
            <a:avLst/>
          </a:prstGeom>
          <a:ln w="0">
            <a:noFill/>
          </a:ln>
        </p:spPr>
      </p:pic>
      <p:sp>
        <p:nvSpPr>
          <p:cNvPr id="64" name="右箭头 3"/>
          <p:cNvSpPr/>
          <p:nvPr/>
        </p:nvSpPr>
        <p:spPr>
          <a:xfrm>
            <a:off x="4772160" y="3529080"/>
            <a:ext cx="880920" cy="792000"/>
          </a:xfrm>
          <a:prstGeom prst="rightArrow">
            <a:avLst>
              <a:gd name="adj1" fmla="val 50000"/>
              <a:gd name="adj2" fmla="val 49959"/>
            </a:avLst>
          </a:prstGeom>
          <a:solidFill>
            <a:srgbClr val="f79646"/>
          </a:solidFill>
          <a:ln w="25560">
            <a:solidFill>
              <a:srgbClr val="b46d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66960" indent="-96696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6043680" y="2089080"/>
            <a:ext cx="4594320" cy="330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4"/>
          <a:stretch/>
        </p:blipFill>
        <p:spPr>
          <a:xfrm>
            <a:off x="6445080" y="5492880"/>
            <a:ext cx="86364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直接连接符 8"/>
          <p:cNvSpPr/>
          <p:nvPr/>
        </p:nvSpPr>
        <p:spPr>
          <a:xfrm>
            <a:off x="4359240" y="1008000"/>
            <a:ext cx="7653240" cy="1800"/>
          </a:xfrm>
          <a:prstGeom prst="line">
            <a:avLst/>
          </a:prstGeom>
          <a:ln w="316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9"/>
          <p:cNvSpPr/>
          <p:nvPr/>
        </p:nvSpPr>
        <p:spPr>
          <a:xfrm>
            <a:off x="625320" y="1008000"/>
            <a:ext cx="3733920" cy="18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0" y="6985080"/>
            <a:ext cx="126014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1"/>
          <p:cNvSpPr/>
          <p:nvPr/>
        </p:nvSpPr>
        <p:spPr>
          <a:xfrm>
            <a:off x="5934240" y="6959520"/>
            <a:ext cx="157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Calibri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*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Calibri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USER\Desktop\吉信佳－logo－logo－红底.png"/>
          <p:cNvPicPr/>
          <p:nvPr/>
        </p:nvPicPr>
        <p:blipFill>
          <a:blip r:embed="rId1"/>
          <a:srcRect l="0" t="23981" r="0" b="31899"/>
          <a:stretch/>
        </p:blipFill>
        <p:spPr>
          <a:xfrm>
            <a:off x="139680" y="6993000"/>
            <a:ext cx="765360" cy="208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0000" y="144360"/>
            <a:ext cx="11342520" cy="74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微软雅黑"/>
              </a:rPr>
              <a:t>基础应用</a:t>
            </a:r>
            <a:r>
              <a:rPr b="0" lang="en-US" sz="3200" spc="-1" strike="noStrike">
                <a:solidFill>
                  <a:srgbClr val="7f7f7f"/>
                </a:solidFill>
                <a:latin typeface="微软雅黑"/>
              </a:rPr>
              <a:t>—</a:t>
            </a:r>
            <a:r>
              <a:rPr b="0" lang="zh-CN" sz="3200" spc="-1" strike="noStrike">
                <a:solidFill>
                  <a:srgbClr val="7f7f7f"/>
                </a:solidFill>
                <a:latin typeface="微软雅黑"/>
              </a:rPr>
              <a:t>客户端登录</a:t>
            </a:r>
            <a:endParaRPr b="0" lang="en-US" sz="32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1260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828720" y="1344600"/>
            <a:ext cx="5400720" cy="48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在桌面上找到供应宝客户端图标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，双击打开程序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供应商首次登录时，请依次填入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1900" spc="-1" strike="noStrike">
                <a:solidFill>
                  <a:srgbClr val="0000ff"/>
                </a:solidFill>
                <a:latin typeface="Arial"/>
                <a:ea typeface="宋体"/>
              </a:rPr>
              <a:t>、供应商编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1900" spc="-1" strike="noStrike">
                <a:solidFill>
                  <a:srgbClr val="0000ff"/>
                </a:solidFill>
                <a:latin typeface="Arial"/>
                <a:ea typeface="宋体"/>
              </a:rPr>
              <a:t>、帐号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（管理员为供应商编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1900" spc="-1" strike="noStrike">
                <a:solidFill>
                  <a:srgbClr val="0000ff"/>
                </a:solidFill>
                <a:latin typeface="Arial"/>
                <a:ea typeface="宋体"/>
              </a:rPr>
              <a:t>、密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默认帐号密码规则：供应商编码后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位及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888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如供应商编码为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123456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，则密码为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456888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1900" spc="-1" strike="noStrike">
                <a:solidFill>
                  <a:srgbClr val="0000ff"/>
                </a:solidFill>
                <a:latin typeface="Arial"/>
                <a:ea typeface="宋体"/>
              </a:rPr>
              <a:t>、请确定本机可以访问</a:t>
            </a:r>
            <a:r>
              <a:rPr b="1" lang="zh-CN" sz="1900" spc="-1" strike="noStrike">
                <a:solidFill>
                  <a:srgbClr val="0000ff"/>
                </a:solidFill>
                <a:latin typeface="Arial"/>
                <a:ea typeface="宋体"/>
              </a:rPr>
              <a:t>IP</a:t>
            </a:r>
            <a:r>
              <a:rPr b="1" lang="zh-CN" sz="1900" spc="-1" strike="noStrike">
                <a:solidFill>
                  <a:srgbClr val="0000ff"/>
                </a:solidFill>
                <a:latin typeface="Arial"/>
                <a:ea typeface="宋体"/>
              </a:rPr>
              <a:t>地址：</a:t>
            </a:r>
            <a:r>
              <a:rPr b="0" lang="zh-CN" sz="1900" spc="-1" strike="noStrike">
                <a:solidFill>
                  <a:srgbClr val="ff0000"/>
                </a:solidFill>
                <a:latin typeface="Arial"/>
                <a:ea typeface="宋体"/>
              </a:rPr>
              <a:t>61.144.241.87</a:t>
            </a:r>
            <a:br>
              <a:rPr sz="1900"/>
            </a:br>
            <a:r>
              <a:rPr b="1" lang="zh-CN" sz="1900" spc="-1" strike="noStrike">
                <a:solidFill>
                  <a:srgbClr val="0000ff"/>
                </a:solidFill>
                <a:latin typeface="Arial"/>
                <a:ea typeface="宋体"/>
              </a:rPr>
              <a:t>5</a:t>
            </a:r>
            <a:r>
              <a:rPr b="1" lang="zh-CN" sz="1900" spc="-1" strike="noStrike">
                <a:solidFill>
                  <a:srgbClr val="0000ff"/>
                </a:solidFill>
                <a:latin typeface="Arial"/>
                <a:ea typeface="宋体"/>
              </a:rPr>
              <a:t>、请确定本机可以访问端口</a:t>
            </a:r>
            <a:r>
              <a:rPr b="0" lang="zh-CN" sz="19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r>
              <a:rPr b="0" lang="zh-CN" sz="1900" spc="-1" strike="noStrike">
                <a:solidFill>
                  <a:srgbClr val="ff0000"/>
                </a:solidFill>
                <a:latin typeface="Arial"/>
                <a:ea typeface="宋体"/>
              </a:rPr>
              <a:t>96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因密码规则较为简单，请初次登录后及时修改密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6515280" y="385920"/>
            <a:ext cx="5572080" cy="6500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tooth\Desktop\top-logo_cr.jpg"/>
          <p:cNvPicPr/>
          <p:nvPr/>
        </p:nvPicPr>
        <p:blipFill>
          <a:blip r:embed="rId3"/>
          <a:stretch/>
        </p:blipFill>
        <p:spPr>
          <a:xfrm>
            <a:off x="4443480" y="1243080"/>
            <a:ext cx="6681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直接连接符 8"/>
          <p:cNvSpPr/>
          <p:nvPr/>
        </p:nvSpPr>
        <p:spPr>
          <a:xfrm>
            <a:off x="4359240" y="1008000"/>
            <a:ext cx="7653240" cy="1800"/>
          </a:xfrm>
          <a:prstGeom prst="line">
            <a:avLst/>
          </a:prstGeom>
          <a:ln w="316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9"/>
          <p:cNvSpPr/>
          <p:nvPr/>
        </p:nvSpPr>
        <p:spPr>
          <a:xfrm>
            <a:off x="625320" y="1008000"/>
            <a:ext cx="3733920" cy="18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0"/>
          <p:cNvSpPr/>
          <p:nvPr/>
        </p:nvSpPr>
        <p:spPr>
          <a:xfrm>
            <a:off x="0" y="6985080"/>
            <a:ext cx="126014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1"/>
          <p:cNvSpPr/>
          <p:nvPr/>
        </p:nvSpPr>
        <p:spPr>
          <a:xfrm>
            <a:off x="5934240" y="6959520"/>
            <a:ext cx="157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Calibri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*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Calibri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USER\Desktop\吉信佳－logo－logo－红底.png"/>
          <p:cNvPicPr/>
          <p:nvPr/>
        </p:nvPicPr>
        <p:blipFill>
          <a:blip r:embed="rId1"/>
          <a:srcRect l="0" t="23981" r="0" b="31899"/>
          <a:stretch/>
        </p:blipFill>
        <p:spPr>
          <a:xfrm>
            <a:off x="139680" y="6993000"/>
            <a:ext cx="765360" cy="208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0000" y="144360"/>
            <a:ext cx="11342520" cy="74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微软雅黑"/>
              </a:rPr>
              <a:t>基础应用</a:t>
            </a:r>
            <a:r>
              <a:rPr b="0" lang="en-US" sz="3200" spc="-1" strike="noStrike">
                <a:solidFill>
                  <a:srgbClr val="7f7f7f"/>
                </a:solidFill>
                <a:latin typeface="微软雅黑"/>
              </a:rPr>
              <a:t>—</a:t>
            </a:r>
            <a:r>
              <a:rPr b="0" lang="zh-CN" sz="3200" spc="-1" strike="noStrike">
                <a:solidFill>
                  <a:srgbClr val="7f7f7f"/>
                </a:solidFill>
                <a:latin typeface="微软雅黑"/>
              </a:rPr>
              <a:t>修改用户密码</a:t>
            </a:r>
            <a:endParaRPr b="0" lang="en-US" sz="32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1260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828720" y="1344600"/>
            <a:ext cx="66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改自己的密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员</a:t>
            </a:r>
            <a:r>
              <a:rPr b="1" lang="zh-CN" sz="12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（使用供应商编码登录的用户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改其他用户密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892160" y="1935000"/>
            <a:ext cx="2248200" cy="179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6372360" y="1378080"/>
            <a:ext cx="3798720" cy="268740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4635360" y="2657520"/>
            <a:ext cx="809640" cy="352440"/>
            <a:chOff x="4635360" y="2657520"/>
            <a:chExt cx="809640" cy="352440"/>
          </a:xfrm>
        </p:grpSpPr>
        <p:sp>
          <p:nvSpPr>
            <p:cNvPr id="88" name="燕尾形 8"/>
            <p:cNvSpPr/>
            <p:nvPr/>
          </p:nvSpPr>
          <p:spPr>
            <a:xfrm>
              <a:off x="4635360" y="2657520"/>
              <a:ext cx="238320" cy="35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66960" indent="-96696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燕尾形 10"/>
            <p:cNvSpPr/>
            <p:nvPr/>
          </p:nvSpPr>
          <p:spPr>
            <a:xfrm>
              <a:off x="4912200" y="2657520"/>
              <a:ext cx="238320" cy="35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66960" indent="-96696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燕尾形 11"/>
            <p:cNvSpPr/>
            <p:nvPr/>
          </p:nvSpPr>
          <p:spPr>
            <a:xfrm>
              <a:off x="5206680" y="2657880"/>
              <a:ext cx="238320" cy="35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66960" indent="-96696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4" descr=""/>
          <p:cNvPicPr/>
          <p:nvPr/>
        </p:nvPicPr>
        <p:blipFill>
          <a:blip r:embed="rId4"/>
          <a:stretch/>
        </p:blipFill>
        <p:spPr>
          <a:xfrm>
            <a:off x="838080" y="4608360"/>
            <a:ext cx="6172200" cy="2276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5"/>
          <a:stretch/>
        </p:blipFill>
        <p:spPr>
          <a:xfrm>
            <a:off x="9180360" y="4502160"/>
            <a:ext cx="2799000" cy="238284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7669080" y="5570640"/>
            <a:ext cx="808200" cy="352440"/>
            <a:chOff x="7669080" y="5570640"/>
            <a:chExt cx="808200" cy="352440"/>
          </a:xfrm>
        </p:grpSpPr>
        <p:sp>
          <p:nvSpPr>
            <p:cNvPr id="94" name="燕尾形 15"/>
            <p:cNvSpPr/>
            <p:nvPr/>
          </p:nvSpPr>
          <p:spPr>
            <a:xfrm>
              <a:off x="7669080" y="5570640"/>
              <a:ext cx="237960" cy="3520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66960" indent="-96696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燕尾形 16"/>
            <p:cNvSpPr/>
            <p:nvPr/>
          </p:nvSpPr>
          <p:spPr>
            <a:xfrm>
              <a:off x="7945560" y="5570640"/>
              <a:ext cx="237960" cy="3520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66960" indent="-96696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燕尾形 17"/>
            <p:cNvSpPr/>
            <p:nvPr/>
          </p:nvSpPr>
          <p:spPr>
            <a:xfrm>
              <a:off x="8239320" y="5571000"/>
              <a:ext cx="237960" cy="3520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66960" indent="-96696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文本占位符 2" descr=""/>
          <p:cNvPicPr/>
          <p:nvPr/>
        </p:nvPicPr>
        <p:blipFill>
          <a:blip r:embed="rId1"/>
          <a:stretch/>
        </p:blipFill>
        <p:spPr>
          <a:xfrm>
            <a:off x="888840" y="1368360"/>
            <a:ext cx="10823760" cy="5064120"/>
          </a:xfrm>
          <a:prstGeom prst="rect">
            <a:avLst/>
          </a:prstGeom>
          <a:ln w="0">
            <a:noFill/>
          </a:ln>
        </p:spPr>
      </p:pic>
      <p:sp>
        <p:nvSpPr>
          <p:cNvPr id="98" name="直接连接符 9"/>
          <p:cNvSpPr/>
          <p:nvPr/>
        </p:nvSpPr>
        <p:spPr>
          <a:xfrm>
            <a:off x="625320" y="1008000"/>
            <a:ext cx="3733920" cy="18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标题 13"/>
          <p:cNvSpPr/>
          <p:nvPr/>
        </p:nvSpPr>
        <p:spPr>
          <a:xfrm>
            <a:off x="480960" y="158760"/>
            <a:ext cx="113428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础应用</a:t>
            </a:r>
            <a:r>
              <a:rPr b="0" lang="en-US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</a:t>
            </a:r>
            <a:r>
              <a:rPr b="0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登陆后查询页面（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请注意最新公告中的操作指引</a:t>
            </a:r>
            <a:r>
              <a:rPr b="0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8"/>
          <p:cNvSpPr/>
          <p:nvPr/>
        </p:nvSpPr>
        <p:spPr>
          <a:xfrm>
            <a:off x="4359240" y="1008000"/>
            <a:ext cx="7653240" cy="1800"/>
          </a:xfrm>
          <a:prstGeom prst="line">
            <a:avLst/>
          </a:prstGeom>
          <a:ln w="316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直接连接符 2"/>
          <p:cNvSpPr/>
          <p:nvPr/>
        </p:nvSpPr>
        <p:spPr>
          <a:xfrm>
            <a:off x="0" y="3314880"/>
            <a:ext cx="434016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3"/>
          <p:cNvSpPr/>
          <p:nvPr/>
        </p:nvSpPr>
        <p:spPr>
          <a:xfrm>
            <a:off x="4340160" y="3314880"/>
            <a:ext cx="8261280" cy="0"/>
          </a:xfrm>
          <a:prstGeom prst="line">
            <a:avLst/>
          </a:prstGeom>
          <a:ln w="316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99880" y="2158920"/>
            <a:ext cx="1212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6c09"/>
                </a:solidFill>
                <a:latin typeface="微软雅黑"/>
                <a:ea typeface="微软雅黑"/>
              </a:rPr>
              <a:t>   </a:t>
            </a:r>
            <a:r>
              <a:rPr b="1" lang="zh-CN" sz="4400" spc="-1" strike="noStrike">
                <a:solidFill>
                  <a:srgbClr val="e36c09"/>
                </a:solidFill>
                <a:latin typeface="微软雅黑"/>
                <a:ea typeface="微软雅黑"/>
              </a:rPr>
              <a:t>如有疑问请拨打吉信佳客服热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8305920" y="4915080"/>
            <a:ext cx="3530520" cy="1072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452520" y="3543480"/>
            <a:ext cx="915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500720" y="4824360"/>
            <a:ext cx="34002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00:40:00Z</dcterms:created>
  <dc:creator>Windows 用户</dc:creator>
  <dc:description/>
  <dc:language>en-US</dc:language>
  <cp:lastModifiedBy>李东阳</cp:lastModifiedBy>
  <dcterms:modified xsi:type="dcterms:W3CDTF">2015-11-04T08:01:42Z</dcterms:modified>
  <cp:revision>1272</cp:revision>
  <dc:subject/>
  <dc:title>软件开发汇报  December 9, 20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