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4.xml.rels" ContentType="application/vnd.openxmlformats-package.relationships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4BF8-B9C2-4124-8DF7-CCCB23C4B73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5F24-6D7D-4349-B109-AECE8DEC3A0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D8D1-D65E-4E04-BFBF-8EE344F6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7639-A67A-4E3F-A409-7392C616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562F-BCC7-4932-917A-34398C30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BF1C-61D4-4078-B047-AECEA6818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19BF-1C8D-44CE-AC41-098877CA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AA8B-FA73-4B00-87A9-1BF7DD52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7B07-107F-42BB-B40D-9D88FED2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B885-A249-4CEF-9145-BA26EFAF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9B9C-0EC4-4433-8BE6-5798D1D0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E0A6-841F-4BF1-937F-0501EEDB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926C-BD6F-41D6-AC7B-CCEB8DFE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8F54-C0A4-4DC2-BF21-6520D894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9DEA-0062-4D96-B105-BCF3A86AB0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arbrake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152920" y="1219320"/>
            <a:ext cx="685800" cy="4038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烛之武退秦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劝退秦军"/>
          <p:cNvPicPr/>
          <p:nvPr/>
        </p:nvPicPr>
        <p:blipFill>
          <a:blip r:embed="rId2"/>
          <a:stretch/>
        </p:blipFill>
        <p:spPr>
          <a:xfrm>
            <a:off x="228600" y="762120"/>
            <a:ext cx="784872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00400" y="990720"/>
            <a:ext cx="5040360" cy="224676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644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晋侯、秦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围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无礼于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贰于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也。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军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（于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函陵，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军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（于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汜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2360" y="4573440"/>
            <a:ext cx="5489640" cy="4777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晋文公、秦穆公联合围攻郑国，因为郑国曾对晋文公无礼，并且在与晋国结盟的情况下又与楚国结盟。晋军驻扎在函陵，秦军驻扎在汜南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572000" y="533160"/>
            <a:ext cx="585720" cy="5857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67360" y="112680"/>
            <a:ext cx="382572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晋侯、秦伯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晋文公、秦穆公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。</a:t>
            </a:r>
            <a:r>
              <a:rPr b="1" lang="zh-CN" sz="2400" spc="-1" strike="noStrike">
                <a:solidFill>
                  <a:srgbClr val="9900cc"/>
                </a:solidFill>
                <a:latin typeface="Arial"/>
                <a:ea typeface="黑体"/>
              </a:rPr>
              <a:t>五级爵位制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1280" y="1449360"/>
            <a:ext cx="1800360" cy="138168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于：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无礼于晋：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于晋无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006640" y="1989000"/>
            <a:ext cx="2790720" cy="270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1752120" y="990360"/>
            <a:ext cx="1800360" cy="765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2360" y="458640"/>
            <a:ext cx="188928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以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因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362320" y="2590920"/>
            <a:ext cx="1304640" cy="900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280" y="3429000"/>
            <a:ext cx="463536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贰于楚：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依附于晋的同时又依附于楚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贰，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黑体"/>
              </a:rPr>
              <a:t>从属二主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数→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2666880"/>
            <a:ext cx="1602000" cy="9590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58080" y="3448080"/>
            <a:ext cx="188892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军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驻扎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名词→动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3124080"/>
            <a:ext cx="2257560" cy="432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75280" y="4573440"/>
            <a:ext cx="2962440" cy="8614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介绍背景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晋秦围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介绍起因，开篇为下文的情节发展埋下伏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春秋五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8229600" cy="5333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09480" y="3733920"/>
            <a:ext cx="1738440" cy="2971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6019920" y="3962520"/>
            <a:ext cx="1850760" cy="2895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4343400" y="457200"/>
            <a:ext cx="1720800" cy="2690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6858000" y="609480"/>
            <a:ext cx="1712880" cy="3138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2819520" y="4191120"/>
            <a:ext cx="13158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77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770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5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7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77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770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8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77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5" dur="770" fill="hold"/>
                                        <p:tgtEl>
                                          <p:spTgt spid="1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7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9" dur="77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8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0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77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770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9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1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烛之武为什么要退秦师？（用原文回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晋侯、秦伯围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晋侯、秦伯为什么要围攻郑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其无礼于晋且贰于楚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郑国和秦国没有直接的联系，为什么也要围攻郑国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利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秦晋是怎么围攻郑国的？（用原文回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晋军函陵，秦军氾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76280" y="773280"/>
            <a:ext cx="8253360" cy="5314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195640" y="60451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黑体"/>
              </a:rPr>
              <a:t>春秋时期形势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64000" y="2205000"/>
            <a:ext cx="792000" cy="7192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56000" y="2637000"/>
            <a:ext cx="792000" cy="7189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95640" y="4437000"/>
            <a:ext cx="792360" cy="7192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72360" y="1844640"/>
            <a:ext cx="792000" cy="7192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64000" y="2924280"/>
            <a:ext cx="792360" cy="71892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92720" y="3338640"/>
            <a:ext cx="431640" cy="433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公元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3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，重耳过郑，郑文公不加礼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详细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公元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3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，晋楚城濮之战，郑国背晋助楚。楚败，又与晋媾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详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14240" y="533520"/>
            <a:ext cx="3809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Arial"/>
                <a:ea typeface="楷体_GB2312"/>
              </a:rPr>
              <a:t>晋文公流亡各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28240" y="13712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春秋时代，晋国统治集团内部发生斗争，公子重耳被迫流亡，历经卫国、齐国、曹国、宋国、郑国、楚国、秦国等诸侯国。重耳在各国遭遇不尽相同。齐国是以厚礼相待，而在经过郑国时，郑国大夫叔瞻劝郑君说如果不能厚待重耳，就要把他杀了。重耳到了楚国，受到优厚的招待，并许诺楚王，有朝一日两国交战先退避九十里。后来秦穆公出于政治投机，派人把重耳请到秦国，并把女儿嫁给重耳，秦晋结下姻亲关系，这就是历史上的秦晋之好。今天两家要联姻，还说欲结秦晋，当由此而出。再后来，秦穆公派兵把重耳护送回国当了国君，就是晋文公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380880"/>
            <a:ext cx="1143000" cy="78552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四字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各国境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过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228600"/>
            <a:ext cx="8686800" cy="2025720"/>
          </a:xfrm>
          <a:prstGeom prst="rect">
            <a:avLst/>
          </a:prstGeom>
          <a:solidFill>
            <a:srgbClr val="ccffff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重耳过郑（公元前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637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年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这一年，晋公子重耳在齐国居五年后，离开齐国。路过郑国。郑国大夫叔瞻劝郑文公要以礼待重耳，郑文公却以“诸侯亡公子过此者众，安可尽礼！”为由，不听叔瞻劝告，对重耳不礼。这就是课文中“以其无礼于晋”一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结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304920"/>
            <a:ext cx="8458200" cy="1922760"/>
          </a:xfrm>
          <a:prstGeom prst="rect">
            <a:avLst/>
          </a:prstGeom>
          <a:solidFill>
            <a:srgbClr val="bbe0e3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郑楚结盟（公元前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632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仿宋"/>
              </a:rPr>
              <a:t>    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仿宋"/>
              </a:rPr>
              <a:t>四月，晋楚争霸中原，战于城濮，楚军大败。晋文公尊周攘夷，成为春秋霸主之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仿宋"/>
              </a:rPr>
              <a:t>    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仿宋"/>
              </a:rPr>
              <a:t>当时，郑国处四战之地，无险可据，又自无礼于重耳之后，故背晋助楚，因此，郑文公曾到出国怂恿楚成王出兵作战。楚败，郑文公内心恐惧，又派大夫子人九到晋国请罪求和。五月，晋侯、郑伯盟于衡雍（今河南原阳西）。晋文公受周天子册命与四方诸侯盟于践土（在衡雍之西），晋文公为盟主，郑参与践土之盟，但晋、郑间的隔阂并未消除。郑既怂恿楚国出兵攻晋，又盟于晋，这就是文中所言“且贰于楚也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仿宋"/>
              </a:rPr>
              <a:t>    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仿宋"/>
              </a:rPr>
              <a:t>《烛之武退秦师》这个故事发生在公元前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仿宋"/>
              </a:rPr>
              <a:t>630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仿宋"/>
              </a:rPr>
              <a:t>年。与城濮之战只相隔两年。因此秦、晋围郑实属城濮之战的余波。</a:t>
            </a:r>
            <a:r>
              <a:rPr b="1" lang="zh-CN" sz="24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6880" y="685800"/>
            <a:ext cx="3276720" cy="596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秦晋围郑示意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3" descr="秦晋围郑示意图.png"/>
          <p:cNvPicPr/>
          <p:nvPr/>
        </p:nvPicPr>
        <p:blipFill>
          <a:blip r:embed="rId2"/>
          <a:stretch/>
        </p:blipFill>
        <p:spPr>
          <a:xfrm>
            <a:off x="685800" y="1371600"/>
            <a:ext cx="7731000" cy="481968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6" descr="秦晋围郑示意图 1.png"/>
          <p:cNvPicPr/>
          <p:nvPr/>
        </p:nvPicPr>
        <p:blipFill>
          <a:blip r:embed="rId3"/>
          <a:stretch/>
        </p:blipFill>
        <p:spPr>
          <a:xfrm>
            <a:off x="2971800" y="3733920"/>
            <a:ext cx="3333600" cy="190476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7" descr="秦晋围郑示意图 2.png"/>
          <p:cNvPicPr/>
          <p:nvPr/>
        </p:nvPicPr>
        <p:blipFill>
          <a:blip r:embed="rId4"/>
          <a:stretch/>
        </p:blipFill>
        <p:spPr>
          <a:xfrm>
            <a:off x="5181480" y="3657600"/>
            <a:ext cx="16527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3520" y="3048120"/>
            <a:ext cx="3714480" cy="2997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715000" y="1600200"/>
            <a:ext cx="3178080" cy="4572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80880" y="151920"/>
            <a:ext cx="5029200" cy="2971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言之辩，重于九鼎之宝；三寸之舌，强于百万之师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——刘勰《文心雕龙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5867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试背诵第一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案讲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8080" y="457200"/>
            <a:ext cx="914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小结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152920" y="1219320"/>
            <a:ext cx="685800" cy="4038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烛之武退秦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劝退秦军"/>
          <p:cNvPicPr/>
          <p:nvPr/>
        </p:nvPicPr>
        <p:blipFill>
          <a:blip r:embed="rId2"/>
          <a:stretch/>
        </p:blipFill>
        <p:spPr>
          <a:xfrm>
            <a:off x="228600" y="914400"/>
            <a:ext cx="784872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367000" y="1792440"/>
            <a:ext cx="5040360" cy="10688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644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佚之狐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言于郑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曰：“国危矣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若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烛之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见秦君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必退。”公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2720" y="4667400"/>
            <a:ext cx="8207280" cy="4777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佚之狐对郑伯说：“郑国处于危险之中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如果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能派烛之武去见秦伯，一定能说服他们撤军。”郑伯同意了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360" y="196920"/>
            <a:ext cx="436392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烛之武、佚之狐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“之”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为介于姓、名之间的语气助词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烛之武、佚之狐，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都是郑国大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2862360" y="1314000"/>
            <a:ext cx="630000" cy="584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3085920" y="1314360"/>
            <a:ext cx="2430360" cy="1214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050920" y="3114720"/>
            <a:ext cx="1260720" cy="809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57360" y="3878280"/>
            <a:ext cx="188892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师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军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27720" y="3294000"/>
            <a:ext cx="584280" cy="449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16640" y="3808440"/>
            <a:ext cx="252108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之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代词，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751280" y="998280"/>
            <a:ext cx="1395360" cy="1439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58080" y="549360"/>
            <a:ext cx="278892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若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假如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使：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6280" y="1719360"/>
            <a:ext cx="1800360" cy="88596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言于郑伯</a:t>
            </a: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=</a:t>
            </a: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于郑伯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050920" y="2124000"/>
            <a:ext cx="2476800" cy="44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097000" y="1224000"/>
            <a:ext cx="5942160" cy="15562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644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曰：“臣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壮也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不如人；今老矣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无能为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已。”公曰：“吾不能早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用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今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是寡人之过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郑亡，子亦有不利焉！”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之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2000" y="4915080"/>
            <a:ext cx="6165720" cy="116316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烛之武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推辞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说：“我年轻时，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尚且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不如别人；现在老了，做不成什么了。”郑文公说：“我早先没有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重用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您，现在危急之中求您，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这是我的过错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。然而郑国灭亡了，对您也不利啊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!”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烛之武就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黑体"/>
              </a:rPr>
              <a:t>答应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了。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600" spc="-1" strike="noStrike">
                <a:solidFill>
                  <a:srgbClr val="000099"/>
                </a:solidFill>
                <a:latin typeface="Times New Roman"/>
                <a:ea typeface="黑体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416736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之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助词，主谓之间，取消句子的独立性，不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3672000" y="954000"/>
            <a:ext cx="1079280" cy="495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5832360" y="1042920"/>
            <a:ext cx="46080" cy="9460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02000" y="0"/>
            <a:ext cx="3241800" cy="82548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无能为也已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不能干什么了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为：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做（什么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已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，同“矣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1601280" y="2529000"/>
            <a:ext cx="584280" cy="495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0360" y="1673280"/>
            <a:ext cx="191628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子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古代对男子的尊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1467000" y="2394000"/>
            <a:ext cx="3914640" cy="179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467000" y="3114720"/>
            <a:ext cx="1619280" cy="1035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5920" y="3983040"/>
            <a:ext cx="450036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是寡人之过也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是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，代词，这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过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，过错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也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，判断句的标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37360" y="3203640"/>
            <a:ext cx="1260360" cy="5857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58080" y="3878280"/>
            <a:ext cx="191592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然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然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00" y="998640"/>
            <a:ext cx="1619280" cy="4899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辞：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推辞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1827000" y="1223640"/>
            <a:ext cx="944280" cy="314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01000" y="533520"/>
            <a:ext cx="946080" cy="93888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Arial"/>
              </a:rPr>
              <a:t>尚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732720" y="998640"/>
            <a:ext cx="1260360" cy="4507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217000" y="2033640"/>
            <a:ext cx="720720" cy="109224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而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82000" y="2619360"/>
            <a:ext cx="94608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292720" y="3699000"/>
            <a:ext cx="135000" cy="674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51280" y="4379760"/>
            <a:ext cx="2611440" cy="489960"/>
          </a:xfrm>
          <a:prstGeom prst="rect">
            <a:avLst/>
          </a:pr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（烛之武）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许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642000" y="5003640"/>
            <a:ext cx="2340000" cy="4230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写烛之武临危受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言为心声，语见其人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——探究烛之武其言其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konzi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562720" y="1600200"/>
            <a:ext cx="2577960" cy="44323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990720" y="1981080"/>
            <a:ext cx="3587760" cy="39625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东周列国志》中关于烛之武的句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须眉尽白，伛偻其身，蹒跚其步”，以致到了朝堂之上，“左右莫不含笑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明）冯梦龙《东周列国志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图片4"/>
          <p:cNvPicPr/>
          <p:nvPr/>
        </p:nvPicPr>
        <p:blipFill>
          <a:blip r:embed="rId2"/>
          <a:stretch/>
        </p:blipFill>
        <p:spPr>
          <a:xfrm>
            <a:off x="998640" y="838080"/>
            <a:ext cx="7459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图片5"/>
          <p:cNvPicPr/>
          <p:nvPr/>
        </p:nvPicPr>
        <p:blipFill>
          <a:blip r:embed="rId2"/>
          <a:stretch/>
        </p:blipFill>
        <p:spPr>
          <a:xfrm>
            <a:off x="1143000" y="838080"/>
            <a:ext cx="731520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图片6"/>
          <p:cNvPicPr/>
          <p:nvPr/>
        </p:nvPicPr>
        <p:blipFill>
          <a:blip r:embed="rId2"/>
          <a:stretch/>
        </p:blipFill>
        <p:spPr>
          <a:xfrm>
            <a:off x="1219320" y="838080"/>
            <a:ext cx="754380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深入分析对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郑国的君臣是一心抗敌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烛之推辞，大有学问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郑伯也很机警，向烛老夫子赔罪，更以强烈的国家意识感化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烛之武面对郑伯的诚意，深明大义，承担了赴秦说秦师的重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367000" y="1089000"/>
            <a:ext cx="5040360" cy="15562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644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而出。见秦伯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：“秦、晋围郑，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知其亡矣。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郑而有益于君，敢以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（之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执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2720" y="4667400"/>
            <a:ext cx="8207280" cy="4777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当晚，烛之武用绳子从城上吊下去，见到了秦伯，烛之武说：“秦、晋两国围攻郑国，郑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已经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知道要灭亡了。如果灭掉郑国对您有什么好处，那就冒昧地拿（亡郑这件事）烦劳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311640" y="773280"/>
            <a:ext cx="1439640" cy="4060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876920" y="380880"/>
            <a:ext cx="2473200" cy="6861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夜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名词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作状语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在夜里；当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1280" y="1898640"/>
            <a:ext cx="180036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亡：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使…灭亡。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使动用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871640" y="2303640"/>
            <a:ext cx="2835360" cy="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2185920" y="593640"/>
            <a:ext cx="1936800" cy="7207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380880"/>
            <a:ext cx="188928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缒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用绳子拴着从城墙上往下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292360" y="2933640"/>
            <a:ext cx="1214280" cy="4510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92360" y="3338640"/>
            <a:ext cx="4275000" cy="5205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执事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：执行事务的人，对对方的敬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76640" y="189000"/>
            <a:ext cx="2385720" cy="4899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（烛之武）</a:t>
            </a:r>
            <a:r>
              <a:rPr b="1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727360" y="728640"/>
            <a:ext cx="404640" cy="9460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858080" y="1314360"/>
            <a:ext cx="990720" cy="109224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既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已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777000" y="1854000"/>
            <a:ext cx="900000" cy="457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4"/>
          <p:cNvSpPr/>
          <p:nvPr/>
        </p:nvSpPr>
        <p:spPr>
          <a:xfrm>
            <a:off x="1962360" y="1295280"/>
            <a:ext cx="1034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2" action="ppaction://hlinksldjump"/>
              </a:rPr>
              <a:t>导入新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1371600" y="3124080"/>
            <a:ext cx="2519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3" action="ppaction://hlinksldjump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左传》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2049120" y="243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解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2041560" y="38098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时代背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9"/>
          <p:cNvSpPr/>
          <p:nvPr/>
        </p:nvSpPr>
        <p:spPr>
          <a:xfrm>
            <a:off x="4495680" y="1219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cc00"/>
                </a:solidFill>
                <a:uFillTx/>
                <a:latin typeface="Arial"/>
                <a:ea typeface="黑体"/>
              </a:rPr>
              <a:t>疏通文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0"/>
          <p:cNvSpPr/>
          <p:nvPr/>
        </p:nvSpPr>
        <p:spPr>
          <a:xfrm>
            <a:off x="4419720" y="16765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cc00"/>
                </a:solidFill>
                <a:uFillTx/>
                <a:latin typeface="Arial"/>
              </a:rPr>
              <a:t>整体把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1"/>
          <p:cNvSpPr/>
          <p:nvPr/>
        </p:nvSpPr>
        <p:spPr>
          <a:xfrm>
            <a:off x="5086800" y="3733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333399"/>
                </a:solidFill>
                <a:uFillTx/>
                <a:latin typeface="Arial"/>
              </a:rPr>
              <a:t>问题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2"/>
          <p:cNvSpPr/>
          <p:nvPr/>
        </p:nvSpPr>
        <p:spPr>
          <a:xfrm>
            <a:off x="4795920" y="4495680"/>
            <a:ext cx="19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99"/>
                </a:solidFill>
                <a:uFillTx/>
                <a:latin typeface="Arial"/>
                <a:ea typeface="黑体"/>
              </a:rPr>
              <a:t>写作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4"/>
          <p:cNvSpPr/>
          <p:nvPr/>
        </p:nvSpPr>
        <p:spPr>
          <a:xfrm>
            <a:off x="4114800" y="2438280"/>
            <a:ext cx="28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cc00"/>
                </a:solidFill>
                <a:uFillTx/>
                <a:latin typeface="Arial"/>
                <a:ea typeface="黑体"/>
              </a:rPr>
              <a:t>古汉语常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8"/>
          <p:cNvSpPr/>
          <p:nvPr/>
        </p:nvSpPr>
        <p:spPr>
          <a:xfrm>
            <a:off x="2038680" y="4495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词语解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9"/>
          <p:cNvSpPr/>
          <p:nvPr/>
        </p:nvSpPr>
        <p:spPr>
          <a:xfrm>
            <a:off x="3786120" y="5335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1523880" y="1752480"/>
            <a:ext cx="19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9999"/>
                </a:solidFill>
                <a:uFillTx/>
                <a:latin typeface="Arial"/>
              </a:rPr>
              <a:t>字词注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5"/>
          <p:cNvSpPr/>
          <p:nvPr/>
        </p:nvSpPr>
        <p:spPr>
          <a:xfrm>
            <a:off x="4267080" y="31240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3399"/>
                </a:solidFill>
                <a:uFillTx/>
                <a:latin typeface="Arial"/>
              </a:rPr>
              <a:t>人物形象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219480" y="684360"/>
            <a:ext cx="5718240" cy="15562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4644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国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以鄙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君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难也；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焉用亡郑以陪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？邻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君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也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舍郑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以为东道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行李之往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共其乏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君亦无所害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6280" y="4557600"/>
            <a:ext cx="8775720" cy="11358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越过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晋国把远方的郑国作为秦国的东部边境，您知道是很难的，（您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怎么要用灭掉郑国来给邻国（晋国）增加土地呢？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邻邦的国力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雄厚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了，您的国力也就相对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削弱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了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假如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放弃灭郑的打算，而让郑国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作为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您秦国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东方道路上的主人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，秦国的使者往来，郑国可以随时供给他们所缺乏的东西，对您秦国来说，也没有什么害处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2000" y="414360"/>
            <a:ext cx="270036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以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相当于“而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2950920" y="593280"/>
            <a:ext cx="1935000" cy="314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5337000" y="549360"/>
            <a:ext cx="135000" cy="3585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67000" y="98280"/>
            <a:ext cx="587700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鄙：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把…当作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边邑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）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名词的意动用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3085920" y="1267920"/>
            <a:ext cx="990360" cy="1810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2000" y="957240"/>
            <a:ext cx="2881080" cy="82548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焉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哪里，怎么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以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相当于“而”，连词，表目的，“来”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陪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增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77000" y="2124000"/>
            <a:ext cx="223920" cy="1349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51640" y="3384720"/>
            <a:ext cx="3357360" cy="82548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以（之）为；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东道主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东方道路上的主人。现泛指主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3041640" y="2438280"/>
            <a:ext cx="1486080" cy="495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1280" y="2664000"/>
            <a:ext cx="297036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行李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出使的人，使者。现指外出的人携带的随身物品。之：主谓之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932000" y="2573280"/>
            <a:ext cx="2025720" cy="900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67000" y="3338640"/>
            <a:ext cx="2205000" cy="82548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共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：同“供”。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乏困：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缺少的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东西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。</a:t>
            </a:r>
            <a:r>
              <a:rPr b="1" lang="zh-CN" sz="2000" spc="-1" strike="noStrike">
                <a:solidFill>
                  <a:srgbClr val="ff3300"/>
                </a:solidFill>
                <a:latin typeface="黑体"/>
                <a:ea typeface="黑体"/>
              </a:rPr>
              <a:t>形→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76280" y="0"/>
            <a:ext cx="187164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越：跨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2322360" y="279360"/>
            <a:ext cx="1663920" cy="674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294040" y="673200"/>
            <a:ext cx="637920" cy="70380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其：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件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497720" y="998640"/>
            <a:ext cx="811080" cy="44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24920" y="3968640"/>
            <a:ext cx="973080" cy="4899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厚：增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506360" y="2708280"/>
            <a:ext cx="973080" cy="4899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</a:rPr>
              <a:t>薄：削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2816280" y="2168640"/>
            <a:ext cx="674640" cy="18907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92720" y="1989000"/>
            <a:ext cx="1844640" cy="944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167360" y="1449360"/>
            <a:ext cx="4410000" cy="10688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且君尝为晋君赐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君焦、瑕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朝济而夕设版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君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所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2720" y="4238640"/>
            <a:ext cx="8207280" cy="5875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况且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，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曾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对晋惠公有恩惠，他也曾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答应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把焦、瑕两城割让给您，然而，他早上渡河归晋，晚上就筑城拒秦，这是您知道的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5920" y="1584360"/>
            <a:ext cx="3105000" cy="82548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朝济而夕设版焉：济，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渡河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。设版，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指筑墙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。版，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筑土墙用的夹板</a:t>
            </a:r>
            <a:r>
              <a:rPr b="1" lang="zh-CN" sz="2400" spc="-1" strike="noStrike">
                <a:solidFill>
                  <a:srgbClr val="cc3399"/>
                </a:solidFill>
                <a:latin typeface="黑体"/>
                <a:ea typeface="黑体"/>
              </a:rPr>
              <a:t>（借代）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3580920" y="2394000"/>
            <a:ext cx="1081080" cy="225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3671640" y="998640"/>
            <a:ext cx="944280" cy="404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2360" y="189000"/>
            <a:ext cx="8891640" cy="5205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君尝为晋君赐矣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：曾经给予晋君恩惠（指秦穆公曾派兵护送晋君回国）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尝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，曾经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，给予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赐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，恩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292720" y="2798640"/>
            <a:ext cx="853920" cy="5860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122720" y="3384720"/>
            <a:ext cx="4680000" cy="5205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之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：主谓之间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也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，表判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50920" y="819000"/>
            <a:ext cx="4635360" cy="15562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夫晋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何厌之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？既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东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郑，又欲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肆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其西封，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秦，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取？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阙秦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利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君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4213080"/>
            <a:ext cx="8207280" cy="14094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晋国有什么满足的呢？现在它已经在东边让郑国成为晋国的边界，又想扩张西部的疆界，如果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侵损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秦国，晋国将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哪里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得到他们所企求的土地呢？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使秦国受损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让晋国受益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，您还是好好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量掂量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吧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!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381640" y="1042920"/>
            <a:ext cx="450720" cy="460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2000" y="773280"/>
            <a:ext cx="3132000" cy="9471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既东封郑：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已经在东边让郑国成为晋国的边界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东：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向东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封：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疆界，使……成为疆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06280" y="3024360"/>
            <a:ext cx="1800360" cy="5205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肆：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延伸，扩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871280" y="1808280"/>
            <a:ext cx="1530360" cy="1260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2185560" y="593280"/>
            <a:ext cx="1171800" cy="405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142920"/>
            <a:ext cx="9144000" cy="5205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何厌之有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：有何厌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“之”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，宾语前置的标志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“厌”，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满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86280" y="2708280"/>
            <a:ext cx="0" cy="360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411280" y="3068640"/>
            <a:ext cx="3421080" cy="5205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唯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：句首语气词，表示希望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图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：考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728640"/>
            <a:ext cx="1241280" cy="12819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阙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黑体"/>
              </a:rPr>
              <a:t>侵损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黑体"/>
              </a:rPr>
              <a:t>削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971280" y="1854000"/>
            <a:ext cx="809640" cy="314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2124000"/>
            <a:ext cx="1241280" cy="4899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焉：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黑体"/>
              </a:rPr>
              <a:t>从哪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1150920" y="2124000"/>
            <a:ext cx="2116080" cy="496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237360" y="3249720"/>
            <a:ext cx="1584360" cy="55080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黑体"/>
              </a:rPr>
              <a:t>以：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  <a:ea typeface="黑体"/>
              </a:rPr>
              <a:t>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601640" y="2573280"/>
            <a:ext cx="4591080" cy="8557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0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97000" y="1154160"/>
            <a:ext cx="5624280" cy="5814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秦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与郑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使杞子、逢孙、杨孙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之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还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1280" y="4103640"/>
            <a:ext cx="4905360" cy="5324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秦伯高兴了，就与郑国签订了盟约。并派杞子、逢孙、杨孙帮郑国守卫，就率军回国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672000" y="502920"/>
            <a:ext cx="720720" cy="8110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662360" y="208080"/>
            <a:ext cx="2024280" cy="58140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盟：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结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06280" y="3024360"/>
            <a:ext cx="2295720" cy="58140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戍：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守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557000" y="2124000"/>
            <a:ext cx="1035000" cy="900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1197000" y="819000"/>
            <a:ext cx="179280" cy="4939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2360" y="189000"/>
            <a:ext cx="3554640" cy="58140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说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：通“悦”，高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850920" y="2033640"/>
            <a:ext cx="90360" cy="8557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62360" y="3024360"/>
            <a:ext cx="2114280" cy="58140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乃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：于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921280" y="4329000"/>
            <a:ext cx="2970360" cy="58140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烛之武说退秦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赏析其高妙的劝说艺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690560" y="684360"/>
            <a:ext cx="5761080" cy="15562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子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请击之。公曰：“不可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微夫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之力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此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人之力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而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之，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；失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，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；以乱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整，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吾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还也。”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去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4807080"/>
            <a:ext cx="9144000" cy="8614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子犯请求晋侯下令攻击秦军。晋侯说：“不行。假如没有那人的支持，我就不会有今天。依靠了别人的力量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却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又去损害他，这是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仁义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；失掉自己的同盟国，这是不明智的；以混乱代替联合一致，这是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勇武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。我们还是回去吧。”这样晋军也撤离了郑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1645920" y="1538280"/>
            <a:ext cx="2700360" cy="225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62360" y="73080"/>
            <a:ext cx="423072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微：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假如没有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夫人：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那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550280" y="1089000"/>
            <a:ext cx="159372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因：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依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877000" y="1358640"/>
            <a:ext cx="1665360" cy="90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1106640" y="503280"/>
            <a:ext cx="1304640" cy="4968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1280" y="73080"/>
            <a:ext cx="441036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子犯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狐偃的字。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之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指秦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1241280" y="1224000"/>
            <a:ext cx="1216080" cy="719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1280" y="863640"/>
            <a:ext cx="144000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敝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损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285560" y="2124000"/>
            <a:ext cx="4816440" cy="360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2259000"/>
            <a:ext cx="1440000" cy="82548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与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结交，亲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1467000" y="2619360"/>
            <a:ext cx="674640" cy="5842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3429000"/>
            <a:ext cx="175572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知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：同“智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3492000" y="2573280"/>
            <a:ext cx="2970360" cy="8557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32000" y="3448080"/>
            <a:ext cx="364500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其：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表商量语气，还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672000" y="2933640"/>
            <a:ext cx="2609640" cy="7207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148440" y="3429000"/>
            <a:ext cx="184464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去：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离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81640" y="2664000"/>
            <a:ext cx="990720" cy="141264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542360" y="2529000"/>
            <a:ext cx="1439640" cy="45972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易：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1494000"/>
            <a:ext cx="1646280" cy="4899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及：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黑体"/>
              </a:rPr>
              <a:t>达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346640" y="2754360"/>
            <a:ext cx="2862360" cy="4899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其：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黑体"/>
              </a:rPr>
              <a:t>代词，自己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246640" y="2035080"/>
            <a:ext cx="674640" cy="6732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0" y="4103640"/>
            <a:ext cx="4410000" cy="4899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武：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黑体"/>
              </a:rPr>
              <a:t>战时应遵守的道义准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71640" y="4103640"/>
            <a:ext cx="2484360" cy="489960"/>
          </a:xfrm>
          <a:prstGeom prst="rect">
            <a:avLst/>
          </a:pr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黑体"/>
              </a:rPr>
              <a:t>之：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黑体"/>
              </a:rPr>
              <a:t>代郑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2410920" y="3114720"/>
            <a:ext cx="1395720" cy="10350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322360" y="549360"/>
            <a:ext cx="2835360" cy="85392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897360" y="2529000"/>
            <a:ext cx="3735360" cy="225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0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0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3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5"/>
          <p:cNvSpPr/>
          <p:nvPr/>
        </p:nvSpPr>
        <p:spPr>
          <a:xfrm>
            <a:off x="307080" y="1984320"/>
            <a:ext cx="576360" cy="28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烛之武退秦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1218960" y="837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秦晋围郑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（起因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1139400" y="2361240"/>
            <a:ext cx="85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烛之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说服秦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（经过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8"/>
          <p:cNvSpPr/>
          <p:nvPr/>
        </p:nvSpPr>
        <p:spPr>
          <a:xfrm>
            <a:off x="1142640" y="50281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秦晋退师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（结果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3348720" y="837360"/>
            <a:ext cx="219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理由（无理于晋；贰于楚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0"/>
          <p:cNvSpPr/>
          <p:nvPr/>
        </p:nvSpPr>
        <p:spPr>
          <a:xfrm>
            <a:off x="1981080" y="213480"/>
            <a:ext cx="5029200" cy="550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《烛之武退秦师》结构图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1"/>
          <p:cNvSpPr/>
          <p:nvPr/>
        </p:nvSpPr>
        <p:spPr>
          <a:xfrm>
            <a:off x="2546640" y="144684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灭郑无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于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（争取结盟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2"/>
          <p:cNvSpPr/>
          <p:nvPr/>
        </p:nvSpPr>
        <p:spPr>
          <a:xfrm>
            <a:off x="2666520" y="31993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晋有野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（离间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3"/>
          <p:cNvSpPr/>
          <p:nvPr/>
        </p:nvSpPr>
        <p:spPr>
          <a:xfrm>
            <a:off x="4472640" y="1370520"/>
            <a:ext cx="168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越国以鄙远——困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4"/>
          <p:cNvSpPr/>
          <p:nvPr/>
        </p:nvSpPr>
        <p:spPr>
          <a:xfrm>
            <a:off x="4472640" y="1751760"/>
            <a:ext cx="168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亡郑以陪邻——失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5"/>
          <p:cNvSpPr/>
          <p:nvPr/>
        </p:nvSpPr>
        <p:spPr>
          <a:xfrm>
            <a:off x="4393800" y="2208960"/>
            <a:ext cx="199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建议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舍郑以为东道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6"/>
          <p:cNvSpPr/>
          <p:nvPr/>
        </p:nvSpPr>
        <p:spPr>
          <a:xfrm>
            <a:off x="7143120" y="198036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行李之往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7"/>
          <p:cNvSpPr/>
          <p:nvPr/>
        </p:nvSpPr>
        <p:spPr>
          <a:xfrm>
            <a:off x="7086240" y="236124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共其乏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8"/>
          <p:cNvSpPr/>
          <p:nvPr/>
        </p:nvSpPr>
        <p:spPr>
          <a:xfrm>
            <a:off x="8460000" y="1618200"/>
            <a:ext cx="515520" cy="16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于秦有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9"/>
          <p:cNvSpPr/>
          <p:nvPr/>
        </p:nvSpPr>
        <p:spPr>
          <a:xfrm>
            <a:off x="5726520" y="2818440"/>
            <a:ext cx="30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许君焦、瑕，朝济而夕设版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0"/>
          <p:cNvSpPr/>
          <p:nvPr/>
        </p:nvSpPr>
        <p:spPr>
          <a:xfrm>
            <a:off x="4114440" y="373284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何厌之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1"/>
          <p:cNvSpPr/>
          <p:nvPr/>
        </p:nvSpPr>
        <p:spPr>
          <a:xfrm>
            <a:off x="5882760" y="3199320"/>
            <a:ext cx="20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既东封郑，又欲肆其西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2"/>
          <p:cNvSpPr/>
          <p:nvPr/>
        </p:nvSpPr>
        <p:spPr>
          <a:xfrm>
            <a:off x="5769360" y="3885120"/>
            <a:ext cx="168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若不阙秦，将焉取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3"/>
          <p:cNvSpPr/>
          <p:nvPr/>
        </p:nvSpPr>
        <p:spPr>
          <a:xfrm>
            <a:off x="8292600" y="3429000"/>
            <a:ext cx="8506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不可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4444560" y="4647240"/>
            <a:ext cx="2013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秦伯说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郑人盟。使杞子、逢孙、杨孙戌之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乃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5"/>
          <p:cNvSpPr/>
          <p:nvPr/>
        </p:nvSpPr>
        <p:spPr>
          <a:xfrm>
            <a:off x="2682720" y="5028120"/>
            <a:ext cx="135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子犯请击之…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7"/>
          <p:cNvSpPr/>
          <p:nvPr/>
        </p:nvSpPr>
        <p:spPr>
          <a:xfrm>
            <a:off x="2682720" y="5715000"/>
            <a:ext cx="135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晋文公——不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8"/>
          <p:cNvSpPr/>
          <p:nvPr/>
        </p:nvSpPr>
        <p:spPr>
          <a:xfrm>
            <a:off x="5043240" y="5410080"/>
            <a:ext cx="2024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因人之力而敝之——不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失其所与——不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以乱易整——不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9"/>
          <p:cNvSpPr/>
          <p:nvPr/>
        </p:nvSpPr>
        <p:spPr>
          <a:xfrm>
            <a:off x="7848360" y="571500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吾其还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36"/>
          <p:cNvSpPr/>
          <p:nvPr/>
        </p:nvSpPr>
        <p:spPr>
          <a:xfrm>
            <a:off x="762120" y="1143000"/>
            <a:ext cx="228600" cy="4343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37"/>
          <p:cNvSpPr/>
          <p:nvPr/>
        </p:nvSpPr>
        <p:spPr>
          <a:xfrm>
            <a:off x="2209680" y="1676520"/>
            <a:ext cx="304920" cy="2361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39"/>
          <p:cNvSpPr/>
          <p:nvPr/>
        </p:nvSpPr>
        <p:spPr>
          <a:xfrm>
            <a:off x="2133720" y="472428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40"/>
          <p:cNvSpPr/>
          <p:nvPr/>
        </p:nvSpPr>
        <p:spPr>
          <a:xfrm>
            <a:off x="3809880" y="144792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41"/>
          <p:cNvSpPr/>
          <p:nvPr/>
        </p:nvSpPr>
        <p:spPr>
          <a:xfrm>
            <a:off x="6705720" y="205740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2"/>
          <p:cNvSpPr/>
          <p:nvPr/>
        </p:nvSpPr>
        <p:spPr>
          <a:xfrm>
            <a:off x="8381880" y="1981080"/>
            <a:ext cx="76320" cy="76212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43"/>
          <p:cNvSpPr/>
          <p:nvPr/>
        </p:nvSpPr>
        <p:spPr>
          <a:xfrm>
            <a:off x="3733920" y="29718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44"/>
          <p:cNvSpPr/>
          <p:nvPr/>
        </p:nvSpPr>
        <p:spPr>
          <a:xfrm>
            <a:off x="5105520" y="3352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45"/>
          <p:cNvSpPr/>
          <p:nvPr/>
        </p:nvSpPr>
        <p:spPr>
          <a:xfrm>
            <a:off x="4343400" y="548640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46"/>
          <p:cNvSpPr/>
          <p:nvPr/>
        </p:nvSpPr>
        <p:spPr>
          <a:xfrm>
            <a:off x="8381880" y="3276720"/>
            <a:ext cx="152640" cy="1218960"/>
          </a:xfrm>
          <a:custGeom>
            <a:avLst/>
            <a:gdLst>
              <a:gd name="textAreaLeft" fmla="*/ 0 w 152640"/>
              <a:gd name="textAreaRight" fmla="*/ 55080 w 15264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47"/>
          <p:cNvSpPr/>
          <p:nvPr/>
        </p:nvSpPr>
        <p:spPr>
          <a:xfrm>
            <a:off x="7543800" y="54864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0" dur="8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1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4" dur="8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5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8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8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9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8" dur="8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9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8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6" dur="8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7" dur="8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8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8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8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7" dur="8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8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8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152920" y="1219320"/>
            <a:ext cx="685800" cy="4038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烛之武退秦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劝退秦军"/>
          <p:cNvPicPr/>
          <p:nvPr/>
        </p:nvPicPr>
        <p:blipFill>
          <a:blip r:embed="rId2"/>
          <a:stretch/>
        </p:blipFill>
        <p:spPr>
          <a:xfrm>
            <a:off x="228600" y="914400"/>
            <a:ext cx="784872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523880" y="1447920"/>
            <a:ext cx="5639040" cy="144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“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佚之狐言于……师必退。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象刻画烛之武的形象，未见其人，先闻其名（声）（即“才”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此也可窥见佚之狐知人善任的一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可窥见郑伯善纳谏的一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7600" y="1676520"/>
            <a:ext cx="729000" cy="4038480"/>
          </a:xfrm>
          <a:prstGeom prst="rect">
            <a:avLst/>
          </a:prstGeom>
          <a:noFill/>
          <a:ln w="381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烛 之 武 隆 重 出 场 一 波 三 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43000" y="1447920"/>
            <a:ext cx="304920" cy="4267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23880" y="3048120"/>
            <a:ext cx="563904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辞曰：“臣之壮……也已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一步刻画烛之武的形象，是一位满腹才华，却未能被重用的大臣，人物形象更鲜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3880" y="4114800"/>
            <a:ext cx="6172200" cy="16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曰：“……”许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郑伯首先自责，体现了明君风范，然后以国家利益、形势与个人利益的透彻分析感动了烛之武，可谓善于做思想工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烛之武最终应允，决定以国家利益为重，只身去见秦伯，体现了他深明大义的一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070080" y="533520"/>
            <a:ext cx="115596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临危受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20920" y="533520"/>
            <a:ext cx="110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34120" y="685800"/>
            <a:ext cx="335268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试分析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佚之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烛之武、郑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三个人物形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0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0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0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1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1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61760" y="1143000"/>
            <a:ext cx="335268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主要人物介绍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51920" y="2057040"/>
            <a:ext cx="86108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烛之武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中心人物。虽然“臣之壮也，犹不如人”满腹的委屈和牢骚，但在国难当头，深明大义，以捍卫国家主权的使命感只身赴敌营，以机智善辩的外交才能消除了郑国的危机。不卑不亢，委婉曲折，步步深入，说服了秦伯，具有较强的感染力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矩形 3"/>
          <p:cNvSpPr/>
          <p:nvPr/>
        </p:nvSpPr>
        <p:spPr>
          <a:xfrm>
            <a:off x="380880" y="990720"/>
            <a:ext cx="845820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黑体"/>
              </a:rPr>
              <a:t>佚之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慧眼识英雄的伯乐。“若使烛之武见秦军，师必退”，说明佚之狐对烛之武的外交才能有足够的了解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对郑、秦、晋三国的形势有充分的洞察力和预见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  <a:ea typeface="黑体"/>
              </a:rPr>
              <a:t>郑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勇于自责者。当郑国所处危险境地，需烛之武退秦师时，烛之武却流露出“今老矣，无能为也已”的满腹委屈与牢骚。面对此，郑伯先是“是寡人之过也”以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自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从谏如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情真意切，并欲扬先抑，设想假如郑国灭亡的话，对烛之武也无好处，这种透彻的分析，诚意的表白，终于感动了烛之武，使之临危受命，义无反顾赴敌营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800600" y="5867280"/>
            <a:ext cx="2286000" cy="368280"/>
          </a:xfrm>
          <a:prstGeom prst="rect">
            <a:avLst/>
          </a:prstGeom>
          <a:solidFill>
            <a:srgbClr val="ff99cc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动之以情，晓之以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7" dur="indefinite" restart="never" nodeType="tmRoot">
          <p:childTnLst>
            <p:seq>
              <p:cTn id="1628" dur="indefinite" nodeType="mainSeq">
                <p:childTnLst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5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6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7" dur="8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68360" y="2189160"/>
            <a:ext cx="4319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能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 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2997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    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乏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56000" y="299736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秦伯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郑人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56000" y="1336680"/>
            <a:ext cx="47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何厌之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56000" y="386064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微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之力不及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08000" y="22050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w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Arial"/>
              </a:rPr>
              <a:t>é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76720" y="1413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f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Arial"/>
              </a:rPr>
              <a:t>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16000" y="2997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g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Arial"/>
              </a:rPr>
              <a:t>ō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299736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yu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Arial"/>
              </a:rPr>
              <a:t>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35640" y="393372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f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Arial"/>
              </a:rPr>
              <a:t>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50920" y="134136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f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Arial"/>
              </a:rPr>
              <a:t>á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47322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zhu</a:t>
            </a:r>
            <a:r>
              <a:rPr b="0" lang="zh-CN" sz="3200" spc="-1" strike="noStrike">
                <a:solidFill>
                  <a:srgbClr val="6600cc"/>
                </a:solidFill>
                <a:latin typeface="Arial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0920" y="38671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qu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Arial"/>
              </a:rPr>
              <a:t>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6280" y="135900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秦军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(  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2360" y="38782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不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(  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4797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夜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(   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40360" y="1557360"/>
            <a:ext cx="144360" cy="142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220500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失其所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7280" y="5589720"/>
            <a:ext cx="6364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子、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）孙戍之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451640" y="22050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zh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Arial"/>
              </a:rPr>
              <a:t>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1557360"/>
            <a:ext cx="144360" cy="142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2422440"/>
            <a:ext cx="144360" cy="142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40360" y="2421000"/>
            <a:ext cx="144360" cy="142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3213000"/>
            <a:ext cx="144360" cy="142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4076640"/>
            <a:ext cx="144360" cy="142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4149720"/>
            <a:ext cx="144360" cy="142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3213000"/>
            <a:ext cx="144360" cy="142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014800"/>
            <a:ext cx="144360" cy="142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1280" y="5905440"/>
            <a:ext cx="144360" cy="142920"/>
          </a:xfrm>
          <a:prstGeom prst="ellipse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8360" y="561348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q</a:t>
            </a:r>
            <a:r>
              <a:rPr b="1" lang="zh-CN" sz="3200" spc="-1" strike="noStrike">
                <a:solidFill>
                  <a:srgbClr val="6600cc"/>
                </a:solidFill>
                <a:latin typeface="宋体"/>
                <a:ea typeface="Arial"/>
              </a:rPr>
              <a:t>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70360" y="561348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Arial"/>
              </a:rPr>
              <a:t>á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9280" y="1916280"/>
            <a:ext cx="73080" cy="712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3280" y="1773360"/>
            <a:ext cx="73080" cy="712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19280" y="4437000"/>
            <a:ext cx="73080" cy="716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21280" y="4437000"/>
            <a:ext cx="73080" cy="716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47640" y="2709720"/>
            <a:ext cx="73080" cy="716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06920" y="3500280"/>
            <a:ext cx="73080" cy="716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04000" y="2708280"/>
            <a:ext cx="73080" cy="712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5300640"/>
            <a:ext cx="73080" cy="716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94000" y="6121440"/>
            <a:ext cx="73080" cy="712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76200" y="6121440"/>
            <a:ext cx="73080" cy="7128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4200" y="3500280"/>
            <a:ext cx="72720" cy="71640"/>
          </a:xfrm>
          <a:prstGeom prst="ellipse">
            <a:avLst/>
          </a:prstGeom>
          <a:solidFill>
            <a:srgbClr val="990099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92360" y="233280"/>
            <a:ext cx="6029280" cy="916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cc00"/>
                </a:solidFill>
                <a:latin typeface="Times New Roman"/>
                <a:ea typeface="隶书"/>
              </a:rPr>
              <a:t>字词注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Arial"/>
              </a:rPr>
              <a:t>智退秦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烛之武善于利用秦晋矛盾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打动了秦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使秦退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他是如何做到这一点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请将课文第三自然段分层，讨论分析烛之武是如何分析利弊，步步深入的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0" y="83808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夜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，缒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而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出，见秦伯曰：“秦、晋围郑，郑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既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知亡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若亡郑而有益于君，敢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以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烦执事。越国以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鄙远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，君知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难也。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焉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用亡郑以陪邻？邻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之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厚，君之薄也。若舍郑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东道主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行李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之往来，共其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乏困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，君亦无所害。且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尝为晋君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赐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矣，许君焦、瑕，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朝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济而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夕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设版焉，君之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知也。夫晋，何厌之有？既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东封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郑，又欲肆其西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不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阙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秦，将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焉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取之？阙秦以利晋，唯君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图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之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5219280" y="1413000"/>
            <a:ext cx="304920" cy="914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6877080" y="2421000"/>
            <a:ext cx="380880" cy="99036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308720" y="2997360"/>
            <a:ext cx="76320" cy="1522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7667280" y="3284640"/>
            <a:ext cx="304920" cy="9144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899640" y="5013360"/>
            <a:ext cx="381240" cy="7621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947920" y="5583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语速承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rot="16200000">
            <a:off x="2589840" y="81360"/>
            <a:ext cx="1441440" cy="2519640"/>
          </a:xfrm>
          <a:prstGeom prst="wedgeEllipseCallout">
            <a:avLst>
              <a:gd name="adj1" fmla="val -35907"/>
              <a:gd name="adj2" fmla="val 7917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28080" y="836640"/>
            <a:ext cx="120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欲扬先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退为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16200000">
            <a:off x="5396760" y="1524600"/>
            <a:ext cx="1303200" cy="1943280"/>
          </a:xfrm>
          <a:prstGeom prst="wedgeEllipseCallout">
            <a:avLst>
              <a:gd name="adj1" fmla="val -23328"/>
              <a:gd name="adj2" fmla="val 5285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阐明利害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摇秦君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1511000">
            <a:off x="5373360" y="3133440"/>
            <a:ext cx="1684440" cy="1278000"/>
          </a:xfrm>
          <a:prstGeom prst="wedgeEllipseCallout">
            <a:avLst>
              <a:gd name="adj1" fmla="val -81527"/>
              <a:gd name="adj2" fmla="val 1870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754240" y="3336840"/>
            <a:ext cx="107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替秦着想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利相诱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2673800">
            <a:off x="-360" y="3573000"/>
            <a:ext cx="1824120" cy="1293840"/>
          </a:xfrm>
          <a:prstGeom prst="wedgeEllipseCallout">
            <a:avLst>
              <a:gd name="adj1" fmla="val -40416"/>
              <a:gd name="adj2" fmla="val -743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5160" y="3840120"/>
            <a:ext cx="107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引史为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挑拨秦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219640" y="5300640"/>
            <a:ext cx="2160720" cy="115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推测未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劝秦谨慎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8" dur="indefinite" restart="never" nodeType="tmRoot">
          <p:childTnLst>
            <p:seq>
              <p:cTn id="1649" dur="indefinite" nodeType="mainSeq">
                <p:childTnLst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719080" y="52578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五步，推测未来，劝秦谨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414520" y="106668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烛之武说秦伯运用了高超的攻心术 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517920" y="2286000"/>
            <a:ext cx="37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坦言知亡，避其锐气：郑既知亡矣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579480" y="327672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亡郑只对晋有利：邻之厚，君之薄也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451240" y="4267080"/>
            <a:ext cx="53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舍郑会对秦有益：君亦无所害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46720" y="5257800"/>
            <a:ext cx="30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唯君图之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194440" y="4724280"/>
            <a:ext cx="29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君之所知也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98400" y="1828800"/>
            <a:ext cx="46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步，欲扬先抑，以退为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719080" y="28195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步，阐明利害，动摇秦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98400" y="3733920"/>
            <a:ext cx="46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步，替秦着想，以利相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98400" y="4724280"/>
            <a:ext cx="47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步，引史为例，挑拨秦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4" dur="indefinite" restart="never" nodeType="tmRoot">
          <p:childTnLst>
            <p:seq>
              <p:cTn id="1735" dur="indefinite" nodeType="mainSeq">
                <p:childTnLst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迫晋撤兵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晋文公毕竟是一代霸主啊，面对秦国的倒戈，他隐忍不发，采用了撤军的措施，他为什么不继续攻打郑国或追击秦军责问他们的背盟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你是晋文公，你会怎样办？学生讨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0" y="380952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大兵压境，小国告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郑文公诚心悔前过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烛之武大义赴敌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勇士闯虎穴，巧言退秦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秦穆公度势盟郑，晋文侯审时班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0" y="2743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秦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围郑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临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受命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退秦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迫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撤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380880" y="1828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围郑     受命     退秦     撤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6"/>
          <p:cNvSpPr/>
          <p:nvPr/>
        </p:nvSpPr>
        <p:spPr>
          <a:xfrm>
            <a:off x="6019920" y="1981080"/>
            <a:ext cx="533160" cy="381240"/>
          </a:xfrm>
          <a:prstGeom prst="rightArrow">
            <a:avLst>
              <a:gd name="adj1" fmla="val 50000"/>
              <a:gd name="adj2" fmla="val 34962"/>
            </a:avLst>
          </a:prstGeom>
          <a:solidFill>
            <a:srgbClr val="ff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7"/>
          <p:cNvSpPr/>
          <p:nvPr/>
        </p:nvSpPr>
        <p:spPr>
          <a:xfrm>
            <a:off x="2362320" y="1981080"/>
            <a:ext cx="533160" cy="381240"/>
          </a:xfrm>
          <a:prstGeom prst="rightArrow">
            <a:avLst>
              <a:gd name="adj1" fmla="val 50000"/>
              <a:gd name="adj2" fmla="val 34962"/>
            </a:avLst>
          </a:prstGeom>
          <a:solidFill>
            <a:srgbClr val="ff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8"/>
          <p:cNvSpPr/>
          <p:nvPr/>
        </p:nvSpPr>
        <p:spPr>
          <a:xfrm>
            <a:off x="4191120" y="1981080"/>
            <a:ext cx="533160" cy="381240"/>
          </a:xfrm>
          <a:prstGeom prst="rightArrow">
            <a:avLst>
              <a:gd name="adj1" fmla="val 50000"/>
              <a:gd name="adj2" fmla="val 34962"/>
            </a:avLst>
          </a:prstGeom>
          <a:solidFill>
            <a:srgbClr val="ff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9"/>
          <p:cNvSpPr/>
          <p:nvPr/>
        </p:nvSpPr>
        <p:spPr>
          <a:xfrm>
            <a:off x="1905120" y="2895480"/>
            <a:ext cx="533160" cy="381240"/>
          </a:xfrm>
          <a:prstGeom prst="rightArrow">
            <a:avLst>
              <a:gd name="adj1" fmla="val 50000"/>
              <a:gd name="adj2" fmla="val 34962"/>
            </a:avLst>
          </a:prstGeom>
          <a:solidFill>
            <a:srgbClr val="ff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0"/>
          <p:cNvSpPr/>
          <p:nvPr/>
        </p:nvSpPr>
        <p:spPr>
          <a:xfrm>
            <a:off x="4343400" y="2895480"/>
            <a:ext cx="533520" cy="381240"/>
          </a:xfrm>
          <a:prstGeom prst="rightArrow">
            <a:avLst>
              <a:gd name="adj1" fmla="val 50000"/>
              <a:gd name="adj2" fmla="val 34986"/>
            </a:avLst>
          </a:prstGeom>
          <a:solidFill>
            <a:srgbClr val="ff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1"/>
          <p:cNvSpPr/>
          <p:nvPr/>
        </p:nvSpPr>
        <p:spPr>
          <a:xfrm>
            <a:off x="6629400" y="2895480"/>
            <a:ext cx="533520" cy="381240"/>
          </a:xfrm>
          <a:prstGeom prst="rightArrow">
            <a:avLst>
              <a:gd name="adj1" fmla="val 50000"/>
              <a:gd name="adj2" fmla="val 34986"/>
            </a:avLst>
          </a:prstGeom>
          <a:solidFill>
            <a:srgbClr val="ff00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09880" y="685800"/>
            <a:ext cx="17528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3" dur="indefinite" restart="never" nodeType="tmRoot">
          <p:childTnLst>
            <p:seq>
              <p:cTn id="1774" dur="indefinite" nodeType="mainSeq">
                <p:childTnLst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3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6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9" dur="5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2" dur="5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2286000" cy="609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写作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0" y="990360"/>
            <a:ext cx="8610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详略得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篇课文主要表现烛之武怎样说退秦师的，所以对“退秦师”的前因后果只作简略交代，其它枝节更是只字未提。从而做到繁而不杂，层次井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伏笔与照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篇文章虽短，但在叙述故事时，却能够处处注意伏笔与照应。例如，在交代秦、晋围郑的原因时，说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其无礼于晋，且贰于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说明没有太多的矛盾冲突。这就为下文烛之武说退秦军埋下了伏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3" dur="indefinite" restart="never" nodeType="tmRoot">
          <p:childTnLst>
            <p:seq>
              <p:cTn id="1824" dur="indefinite" nodeType="mainSeq">
                <p:childTnLst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2" dur="5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矩形 3"/>
          <p:cNvSpPr/>
          <p:nvPr/>
        </p:nvSpPr>
        <p:spPr>
          <a:xfrm>
            <a:off x="609480" y="990720"/>
            <a:ext cx="800100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波澜起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篇课文波澜起伏，生动活泼。从大军压境到最后的平息，课文都是有张有弛，曲折有致，增强了文章的艺术感染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9" dur="indefinite" restart="never" nodeType="tmRoot">
          <p:childTnLst>
            <p:seq>
              <p:cTn id="1850" dur="indefinite" nodeType="mainSeq">
                <p:childTnLst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Line 2"/>
          <p:cNvSpPr/>
          <p:nvPr/>
        </p:nvSpPr>
        <p:spPr>
          <a:xfrm flipV="1">
            <a:off x="533520" y="457200"/>
            <a:ext cx="0" cy="60199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"/>
          <p:cNvSpPr/>
          <p:nvPr/>
        </p:nvSpPr>
        <p:spPr>
          <a:xfrm>
            <a:off x="304920" y="6400800"/>
            <a:ext cx="8381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0" y="609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6248520" y="6338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情节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09480" y="1447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郑危（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大军压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1066680" y="5867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佚之狐举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8"/>
          <p:cNvSpPr/>
          <p:nvPr/>
        </p:nvSpPr>
        <p:spPr>
          <a:xfrm>
            <a:off x="990720" y="1905120"/>
            <a:ext cx="533160" cy="38098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1600200" y="5334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郑伯从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0"/>
          <p:cNvSpPr/>
          <p:nvPr/>
        </p:nvSpPr>
        <p:spPr>
          <a:xfrm flipV="1">
            <a:off x="1981080" y="5714640"/>
            <a:ext cx="304920" cy="228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2362320" y="4572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烛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"/>
          <p:cNvSpPr/>
          <p:nvPr/>
        </p:nvSpPr>
        <p:spPr>
          <a:xfrm flipV="1">
            <a:off x="2286000" y="5105520"/>
            <a:ext cx="228600" cy="30456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3048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郑伯自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4"/>
          <p:cNvSpPr/>
          <p:nvPr/>
        </p:nvSpPr>
        <p:spPr>
          <a:xfrm>
            <a:off x="3048120" y="5029200"/>
            <a:ext cx="457200" cy="4572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3429000" y="4419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夜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6"/>
          <p:cNvSpPr/>
          <p:nvPr/>
        </p:nvSpPr>
        <p:spPr>
          <a:xfrm flipV="1">
            <a:off x="3657600" y="4876560"/>
            <a:ext cx="304920" cy="6858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3505320" y="3886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说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8"/>
          <p:cNvSpPr/>
          <p:nvPr/>
        </p:nvSpPr>
        <p:spPr>
          <a:xfrm flipV="1">
            <a:off x="3809880" y="4266720"/>
            <a:ext cx="76320" cy="22860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3581280" y="3276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郑知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20"/>
          <p:cNvSpPr/>
          <p:nvPr/>
        </p:nvSpPr>
        <p:spPr>
          <a:xfrm flipV="1">
            <a:off x="3886200" y="3657240"/>
            <a:ext cx="152280" cy="30492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3657600" y="2666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飞地难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2"/>
          <p:cNvSpPr/>
          <p:nvPr/>
        </p:nvSpPr>
        <p:spPr>
          <a:xfrm flipV="1">
            <a:off x="4114800" y="3123720"/>
            <a:ext cx="2286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3"/>
          <p:cNvSpPr/>
          <p:nvPr/>
        </p:nvSpPr>
        <p:spPr>
          <a:xfrm>
            <a:off x="3962520" y="2057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亡郑陪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4"/>
          <p:cNvSpPr/>
          <p:nvPr/>
        </p:nvSpPr>
        <p:spPr>
          <a:xfrm flipV="1">
            <a:off x="4343400" y="251424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4191120" y="14479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舍郑有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26"/>
          <p:cNvSpPr/>
          <p:nvPr/>
        </p:nvSpPr>
        <p:spPr>
          <a:xfrm flipV="1">
            <a:off x="4648320" y="1904760"/>
            <a:ext cx="1522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7"/>
          <p:cNvSpPr/>
          <p:nvPr/>
        </p:nvSpPr>
        <p:spPr>
          <a:xfrm>
            <a:off x="4648320" y="914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过河拆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28"/>
          <p:cNvSpPr/>
          <p:nvPr/>
        </p:nvSpPr>
        <p:spPr>
          <a:xfrm flipV="1">
            <a:off x="4876920" y="1294920"/>
            <a:ext cx="1522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9"/>
          <p:cNvSpPr/>
          <p:nvPr/>
        </p:nvSpPr>
        <p:spPr>
          <a:xfrm>
            <a:off x="5257800" y="304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晋国扩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0"/>
          <p:cNvSpPr/>
          <p:nvPr/>
        </p:nvSpPr>
        <p:spPr>
          <a:xfrm flipV="1">
            <a:off x="5562720" y="685800"/>
            <a:ext cx="2286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1"/>
          <p:cNvSpPr/>
          <p:nvPr/>
        </p:nvSpPr>
        <p:spPr>
          <a:xfrm>
            <a:off x="632448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秦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32"/>
          <p:cNvSpPr/>
          <p:nvPr/>
        </p:nvSpPr>
        <p:spPr>
          <a:xfrm>
            <a:off x="6400800" y="762120"/>
            <a:ext cx="304920" cy="167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3"/>
          <p:cNvSpPr/>
          <p:nvPr/>
        </p:nvSpPr>
        <p:spPr>
          <a:xfrm>
            <a:off x="6957360" y="609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晋攻（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子犯建议攻秦兵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34"/>
          <p:cNvSpPr/>
          <p:nvPr/>
        </p:nvSpPr>
        <p:spPr>
          <a:xfrm flipV="1">
            <a:off x="6858000" y="1143000"/>
            <a:ext cx="60948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5"/>
          <p:cNvSpPr/>
          <p:nvPr/>
        </p:nvSpPr>
        <p:spPr>
          <a:xfrm>
            <a:off x="7086600" y="3962520"/>
            <a:ext cx="1600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晋退（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晋公晓之以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6"/>
          <p:cNvSpPr/>
          <p:nvPr/>
        </p:nvSpPr>
        <p:spPr>
          <a:xfrm>
            <a:off x="7696080" y="1143000"/>
            <a:ext cx="609840" cy="2514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3" dur="indefinite" restart="never" nodeType="tmRoot">
          <p:childTnLst>
            <p:seq>
              <p:cTn id="1864" dur="indefinite" nodeType="mainSeq">
                <p:childTnLst>
                  <p:par>
                    <p:cTn id="1865" nodeType="clickEffect" fill="hold">
                      <p:stCondLst>
                        <p:cond delay="indefinite"/>
                      </p:stCondLst>
                      <p:childTnLst>
                        <p:par>
                          <p:cTn id="1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nodeType="clickEffect" fill="hold">
                      <p:stCondLst>
                        <p:cond delay="indefinite"/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nodeType="clickEffect" fill="hold">
                      <p:stCondLst>
                        <p:cond delay="indefinite"/>
                      </p:stCondLst>
                      <p:childTnLst>
                        <p:par>
                          <p:cTn id="1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nodeType="clickEffect" fill="hold">
                      <p:stCondLst>
                        <p:cond delay="indefinite"/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nodeType="clickEffect" fill="hold">
                      <p:stCondLst>
                        <p:cond delay="indefinite"/>
                      </p:stCondLst>
                      <p:childTnLst>
                        <p:par>
                          <p:cTn id="1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nodeType="clickEffect" fill="hold">
                      <p:stCondLst>
                        <p:cond delay="indefinite"/>
                      </p:stCondLst>
                      <p:childTnLst>
                        <p:par>
                          <p:cTn id="1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nodeType="clickEffect" fill="hold">
                      <p:stCondLst>
                        <p:cond delay="indefinite"/>
                      </p:stCondLst>
                      <p:childTnLst>
                        <p:par>
                          <p:cTn id="1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9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nodeType="clickEffect" fill="hold">
                      <p:stCondLst>
                        <p:cond delay="indefinite"/>
                      </p:stCondLst>
                      <p:childTnLst>
                        <p:par>
                          <p:cTn id="1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nodeType="clickEffect" fill="hold">
                      <p:stCondLst>
                        <p:cond delay="indefinite"/>
                      </p:stCondLst>
                      <p:childTnLst>
                        <p:par>
                          <p:cTn id="1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nodeType="clickEffect" fill="hold">
                      <p:stCondLst>
                        <p:cond delay="indefinite"/>
                      </p:stCondLst>
                      <p:childTnLst>
                        <p:par>
                          <p:cTn id="1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nodeType="clickEffect" fill="hold">
                      <p:stCondLst>
                        <p:cond delay="indefinite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nodeType="clickEffect" fill="hold">
                      <p:stCondLst>
                        <p:cond delay="indefinite"/>
                      </p:stCondLst>
                      <p:childTnLst>
                        <p:par>
                          <p:cTn id="1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nodeType="clickEffect" fill="hold">
                      <p:stCondLst>
                        <p:cond delay="indefinite"/>
                      </p:stCondLst>
                      <p:childTnLst>
                        <p:par>
                          <p:cTn id="1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nodeType="clickEffect" fill="hold">
                      <p:stCondLst>
                        <p:cond delay="indefinite"/>
                      </p:stCondLst>
                      <p:childTnLst>
                        <p:par>
                          <p:cTn id="1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nodeType="clickEffect" fill="hold">
                      <p:stCondLst>
                        <p:cond delay="indefinite"/>
                      </p:stCondLst>
                      <p:childTnLst>
                        <p:par>
                          <p:cTn id="1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nodeType="clickEffect" fill="hold">
                      <p:stCondLst>
                        <p:cond delay="indefinite"/>
                      </p:stCondLst>
                      <p:childTnLst>
                        <p:par>
                          <p:cTn id="1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nodeType="clickEffect" fill="hold">
                      <p:stCondLst>
                        <p:cond delay="indefinite"/>
                      </p:stCondLst>
                      <p:childTnLst>
                        <p:par>
                          <p:cTn id="1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nodeType="clickEffect" fill="hold">
                      <p:stCondLst>
                        <p:cond delay="indefinite"/>
                      </p:stCondLst>
                      <p:childTnLst>
                        <p:par>
                          <p:cTn id="1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nodeType="clickEffect" fill="hold">
                      <p:stCondLst>
                        <p:cond delay="indefinite"/>
                      </p:stCondLst>
                      <p:childTnLst>
                        <p:par>
                          <p:cTn id="1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nodeType="clickEffect" fill="hold">
                      <p:stCondLst>
                        <p:cond delay="indefinite"/>
                      </p:stCondLst>
                      <p:childTnLst>
                        <p:par>
                          <p:cTn id="1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nodeType="clickEffect" fill="hold">
                      <p:stCondLst>
                        <p:cond delay="indefinite"/>
                      </p:stCondLst>
                      <p:childTnLst>
                        <p:par>
                          <p:cTn id="1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nodeType="clickEffect" fill="hold">
                      <p:stCondLst>
                        <p:cond delay="indefinite"/>
                      </p:stCondLst>
                      <p:childTnLst>
                        <p:par>
                          <p:cTn id="1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nodeType="clickEffect" fill="hold">
                      <p:stCondLst>
                        <p:cond delay="indefinite"/>
                      </p:stCondLst>
                      <p:childTnLst>
                        <p:par>
                          <p:cTn id="1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nodeType="clickEffect" fill="hold">
                      <p:stCondLst>
                        <p:cond delay="indefinite"/>
                      </p:stCondLst>
                      <p:childTnLst>
                        <p:par>
                          <p:cTn id="1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nodeType="clickEffect" fill="hold">
                      <p:stCondLst>
                        <p:cond delay="indefinite"/>
                      </p:stCondLst>
                      <p:childTnLst>
                        <p:par>
                          <p:cTn id="1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nodeType="clickEffect" fill="hold">
                      <p:stCondLst>
                        <p:cond delay="indefinite"/>
                      </p:stCondLst>
                      <p:childTnLst>
                        <p:par>
                          <p:cTn id="1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nodeType="clickEffect" fill="hold">
                      <p:stCondLst>
                        <p:cond delay="indefinite"/>
                      </p:stCondLst>
                      <p:childTnLst>
                        <p:par>
                          <p:cTn id="1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nodeType="clickEffect" fill="hold">
                      <p:stCondLst>
                        <p:cond delay="indefinite"/>
                      </p:stCondLst>
                      <p:childTnLst>
                        <p:par>
                          <p:cTn id="2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nodeType="clickEffect" fill="hold">
                      <p:stCondLst>
                        <p:cond delay="indefinite"/>
                      </p:stCondLst>
                      <p:childTnLst>
                        <p:par>
                          <p:cTn id="2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nodeType="clickEffect" fill="hold">
                      <p:stCondLst>
                        <p:cond delay="indefinite"/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nodeType="clickEffect" fill="hold">
                      <p:stCondLst>
                        <p:cond delay="indefinite"/>
                      </p:stCondLst>
                      <p:childTnLst>
                        <p:par>
                          <p:cTn id="2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nodeType="clickEffect" fill="hold">
                      <p:stCondLst>
                        <p:cond delay="indefinite"/>
                      </p:stCondLst>
                      <p:childTnLst>
                        <p:par>
                          <p:cTn id="2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nodeType="clickEffect" fill="hold">
                      <p:stCondLst>
                        <p:cond delay="indefinite"/>
                      </p:stCondLst>
                      <p:childTnLst>
                        <p:par>
                          <p:cTn id="2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nodeType="clickEffect" fill="hold">
                      <p:stCondLst>
                        <p:cond delay="indefinite"/>
                      </p:stCondLst>
                      <p:childTnLst>
                        <p:par>
                          <p:cTn id="2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nodeType="clickEffect" fill="hold">
                      <p:stCondLst>
                        <p:cond delay="indefinite"/>
                      </p:stCondLst>
                      <p:childTnLst>
                        <p:par>
                          <p:cTn id="2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"/>
          <p:cNvGrpSpPr/>
          <p:nvPr/>
        </p:nvGrpSpPr>
        <p:grpSpPr>
          <a:xfrm>
            <a:off x="990720" y="843120"/>
            <a:ext cx="7086240" cy="5175720"/>
            <a:chOff x="990720" y="843120"/>
            <a:chExt cx="7086240" cy="5175720"/>
          </a:xfrm>
        </p:grpSpPr>
        <p:cxnSp>
          <p:nvCxnSpPr>
            <p:cNvPr id="450" name="_s50180"/>
            <p:cNvCxnSpPr>
              <a:stCxn id="451" idx="0"/>
              <a:endCxn id="452" idx="2"/>
            </p:cNvCxnSpPr>
            <p:nvPr/>
          </p:nvCxnSpPr>
          <p:spPr>
            <a:xfrm flipV="1" rot="16200000">
              <a:off x="6998040" y="4122720"/>
              <a:ext cx="647640" cy="556560"/>
            </a:xfrm>
            <a:prstGeom prst="bentConnector3">
              <a:avLst>
                <a:gd name="adj1" fmla="val 18798"/>
              </a:avLst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453" name="_s50181"/>
            <p:cNvCxnSpPr>
              <a:stCxn id="454" idx="0"/>
              <a:endCxn id="452" idx="2"/>
            </p:cNvCxnSpPr>
            <p:nvPr/>
          </p:nvCxnSpPr>
          <p:spPr>
            <a:xfrm flipH="1" flipV="1" rot="5400000">
              <a:off x="6441480" y="4123080"/>
              <a:ext cx="647640" cy="556560"/>
            </a:xfrm>
            <a:prstGeom prst="bentConnector3">
              <a:avLst>
                <a:gd name="adj1" fmla="val 18798"/>
              </a:avLst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455" name="_s50182"/>
            <p:cNvCxnSpPr>
              <a:stCxn id="452" idx="0"/>
              <a:endCxn id="456" idx="2"/>
            </p:cNvCxnSpPr>
            <p:nvPr/>
          </p:nvCxnSpPr>
          <p:spPr>
            <a:xfrm flipV="1" rot="16200000">
              <a:off x="5325480" y="1065600"/>
              <a:ext cx="647640" cy="2788920"/>
            </a:xfrm>
            <a:prstGeom prst="bentConnector3">
              <a:avLst>
                <a:gd name="adj1" fmla="val 18798"/>
              </a:avLst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457" name="_s50183"/>
            <p:cNvCxnSpPr>
              <a:stCxn id="458" idx="0"/>
              <a:endCxn id="459" idx="2"/>
            </p:cNvCxnSpPr>
            <p:nvPr/>
          </p:nvCxnSpPr>
          <p:spPr>
            <a:xfrm flipV="1" rot="16200000">
              <a:off x="4210560" y="3565080"/>
              <a:ext cx="647640" cy="1672200"/>
            </a:xfrm>
            <a:prstGeom prst="bentConnector3">
              <a:avLst>
                <a:gd name="adj1" fmla="val 18798"/>
              </a:avLst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460" name="_s50184"/>
            <p:cNvCxnSpPr>
              <a:stCxn id="461" idx="0"/>
              <a:endCxn id="459" idx="2"/>
            </p:cNvCxnSpPr>
            <p:nvPr/>
          </p:nvCxnSpPr>
          <p:spPr>
            <a:xfrm flipV="1" rot="16200000">
              <a:off x="3653640" y="4122000"/>
              <a:ext cx="647640" cy="558360"/>
            </a:xfrm>
            <a:prstGeom prst="bentConnector3">
              <a:avLst>
                <a:gd name="adj1" fmla="val 18798"/>
              </a:avLst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462" name="_s50185"/>
            <p:cNvCxnSpPr>
              <a:stCxn id="463" idx="0"/>
              <a:endCxn id="459" idx="2"/>
            </p:cNvCxnSpPr>
            <p:nvPr/>
          </p:nvCxnSpPr>
          <p:spPr>
            <a:xfrm flipH="1" flipV="1" rot="5400000">
              <a:off x="3096360" y="4123080"/>
              <a:ext cx="647640" cy="556560"/>
            </a:xfrm>
            <a:prstGeom prst="bentConnector3">
              <a:avLst>
                <a:gd name="adj1" fmla="val 18798"/>
              </a:avLst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464" name="_s50186"/>
            <p:cNvCxnSpPr>
              <a:stCxn id="465" idx="0"/>
              <a:endCxn id="459" idx="2"/>
            </p:cNvCxnSpPr>
            <p:nvPr/>
          </p:nvCxnSpPr>
          <p:spPr>
            <a:xfrm flipH="1" flipV="1" rot="5400000">
              <a:off x="2539800" y="3565440"/>
              <a:ext cx="647640" cy="1671480"/>
            </a:xfrm>
            <a:prstGeom prst="bentConnector3">
              <a:avLst>
                <a:gd name="adj1" fmla="val 18798"/>
              </a:avLst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466" name="_s50187"/>
            <p:cNvCxnSpPr>
              <a:stCxn id="459" idx="0"/>
              <a:endCxn id="456" idx="2"/>
            </p:cNvCxnSpPr>
            <p:nvPr/>
          </p:nvCxnSpPr>
          <p:spPr>
            <a:xfrm flipH="1" flipV="1" rot="5400000">
              <a:off x="3652920" y="2181960"/>
              <a:ext cx="647640" cy="556560"/>
            </a:xfrm>
            <a:prstGeom prst="bentConnector3">
              <a:avLst>
                <a:gd name="adj1" fmla="val 18798"/>
              </a:avLst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467" name="_s50188"/>
            <p:cNvCxnSpPr>
              <a:stCxn id="468" idx="0"/>
              <a:endCxn id="456" idx="2"/>
            </p:cNvCxnSpPr>
            <p:nvPr/>
          </p:nvCxnSpPr>
          <p:spPr>
            <a:xfrm flipH="1" flipV="1" rot="5400000">
              <a:off x="3095640" y="1623960"/>
              <a:ext cx="647640" cy="1672200"/>
            </a:xfrm>
            <a:prstGeom prst="bentConnector3">
              <a:avLst>
                <a:gd name="adj1" fmla="val 18798"/>
              </a:avLst>
            </a:prstGeom>
            <a:ln w="28440">
              <a:solidFill>
                <a:srgbClr val="993300"/>
              </a:solidFill>
              <a:miter/>
            </a:ln>
          </p:spPr>
        </p:cxnSp>
        <p:cxnSp>
          <p:nvCxnSpPr>
            <p:cNvPr id="469" name="_s50189"/>
            <p:cNvCxnSpPr>
              <a:stCxn id="470" idx="0"/>
              <a:endCxn id="456" idx="2"/>
            </p:cNvCxnSpPr>
            <p:nvPr/>
          </p:nvCxnSpPr>
          <p:spPr>
            <a:xfrm flipH="1" flipV="1" rot="5400000">
              <a:off x="2538000" y="1066320"/>
              <a:ext cx="647640" cy="2787480"/>
            </a:xfrm>
            <a:prstGeom prst="bentConnector3">
              <a:avLst>
                <a:gd name="adj1" fmla="val 18798"/>
              </a:avLst>
            </a:prstGeom>
            <a:ln w="28440">
              <a:solidFill>
                <a:srgbClr val="993300"/>
              </a:solidFill>
              <a:miter/>
            </a:ln>
          </p:spPr>
        </p:cxnSp>
        <p:sp>
          <p:nvSpPr>
            <p:cNvPr id="456" name="_s50190"/>
            <p:cNvSpPr/>
            <p:nvPr/>
          </p:nvSpPr>
          <p:spPr>
            <a:xfrm>
              <a:off x="3777480" y="843120"/>
              <a:ext cx="955800" cy="1293840"/>
            </a:xfrm>
            <a:custGeom>
              <a:avLst/>
              <a:gdLst>
                <a:gd name="textAreaLeft" fmla="*/ 46440 w 955800"/>
                <a:gd name="textAreaRight" fmla="*/ 909360 w 955800"/>
                <a:gd name="textAreaTop" fmla="*/ 46440 h 1293840"/>
                <a:gd name="textAreaBottom" fmla="*/ 1247400 h 1293840"/>
              </a:gdLst>
              <a:ahLst/>
              <a:rect l="textAreaLeft" t="textAreaTop" r="textAreaRight" b="textAreaBottom"/>
              <a:pathLst>
                <a:path w="21600" h="29236">
                  <a:moveTo>
                    <a:pt x="3600" y="0"/>
                  </a:moveTo>
                  <a:arcTo wR="3600" hR="3600" stAng="16200000" swAng="-5400000"/>
                  <a:lnTo>
                    <a:pt x="0" y="25636"/>
                  </a:lnTo>
                  <a:arcTo wR="3600" hR="3600" stAng="10800000" swAng="-5400000"/>
                  <a:lnTo>
                    <a:pt x="18000" y="292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6600"/>
                  </a:solidFill>
                  <a:latin typeface="楷体_GB2312"/>
                  <a:ea typeface="楷体_GB2312"/>
                </a:rPr>
                <a:t>基  础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6600"/>
                  </a:solidFill>
                  <a:latin typeface="楷体_GB2312"/>
                  <a:ea typeface="楷体_GB2312"/>
                </a:rPr>
                <a:t>知  识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6600"/>
                  </a:solidFill>
                  <a:latin typeface="楷体_GB2312"/>
                  <a:ea typeface="楷体_GB2312"/>
                </a:rPr>
                <a:t>小  结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_s50191"/>
            <p:cNvSpPr/>
            <p:nvPr/>
          </p:nvSpPr>
          <p:spPr>
            <a:xfrm>
              <a:off x="990720" y="2783880"/>
              <a:ext cx="955800" cy="1293840"/>
            </a:xfrm>
            <a:custGeom>
              <a:avLst/>
              <a:gdLst>
                <a:gd name="textAreaLeft" fmla="*/ 46440 w 955800"/>
                <a:gd name="textAreaRight" fmla="*/ 909360 w 955800"/>
                <a:gd name="textAreaTop" fmla="*/ 46440 h 1293840"/>
                <a:gd name="textAreaBottom" fmla="*/ 1247400 h 1293840"/>
              </a:gdLst>
              <a:ahLst/>
              <a:rect l="textAreaLeft" t="textAreaTop" r="textAreaRight" b="textAreaBottom"/>
              <a:pathLst>
                <a:path w="21600" h="29236">
                  <a:moveTo>
                    <a:pt x="3600" y="0"/>
                  </a:moveTo>
                  <a:arcTo wR="3600" hR="3600" stAng="16200000" swAng="-5400000"/>
                  <a:lnTo>
                    <a:pt x="0" y="25636"/>
                  </a:lnTo>
                  <a:arcTo wR="3600" hR="3600" stAng="10800000" swAng="-5400000"/>
                  <a:lnTo>
                    <a:pt x="18000" y="292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6600"/>
                  </a:solidFill>
                  <a:latin typeface="楷体_GB2312"/>
                  <a:ea typeface="楷体_GB2312"/>
                </a:rPr>
                <a:t>通假字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_s50192"/>
            <p:cNvSpPr/>
            <p:nvPr/>
          </p:nvSpPr>
          <p:spPr>
            <a:xfrm>
              <a:off x="2106000" y="2783880"/>
              <a:ext cx="955800" cy="1293840"/>
            </a:xfrm>
            <a:custGeom>
              <a:avLst/>
              <a:gdLst>
                <a:gd name="textAreaLeft" fmla="*/ 46440 w 955800"/>
                <a:gd name="textAreaRight" fmla="*/ 909360 w 955800"/>
                <a:gd name="textAreaTop" fmla="*/ 46440 h 1293840"/>
                <a:gd name="textAreaBottom" fmla="*/ 1247400 h 1293840"/>
              </a:gdLst>
              <a:ahLst/>
              <a:rect l="textAreaLeft" t="textAreaTop" r="textAreaRight" b="textAreaBottom"/>
              <a:pathLst>
                <a:path w="21600" h="29236">
                  <a:moveTo>
                    <a:pt x="3600" y="0"/>
                  </a:moveTo>
                  <a:arcTo wR="3600" hR="3600" stAng="16200000" swAng="-5400000"/>
                  <a:lnTo>
                    <a:pt x="0" y="25636"/>
                  </a:lnTo>
                  <a:arcTo wR="3600" hR="3600" stAng="10800000" swAng="-5400000"/>
                  <a:lnTo>
                    <a:pt x="18000" y="292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6600"/>
                  </a:solidFill>
                  <a:latin typeface="楷体_GB2312"/>
                  <a:ea typeface="楷体_GB2312"/>
                </a:rPr>
                <a:t>古今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6600"/>
                  </a:solidFill>
                  <a:latin typeface="楷体_GB2312"/>
                  <a:ea typeface="楷体_GB2312"/>
                </a:rPr>
                <a:t>异义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_s50193"/>
            <p:cNvSpPr/>
            <p:nvPr/>
          </p:nvSpPr>
          <p:spPr>
            <a:xfrm>
              <a:off x="3221280" y="2783880"/>
              <a:ext cx="955800" cy="1293840"/>
            </a:xfrm>
            <a:custGeom>
              <a:avLst/>
              <a:gdLst>
                <a:gd name="textAreaLeft" fmla="*/ 46440 w 955800"/>
                <a:gd name="textAreaRight" fmla="*/ 909360 w 955800"/>
                <a:gd name="textAreaTop" fmla="*/ 46440 h 1293840"/>
                <a:gd name="textAreaBottom" fmla="*/ 1247400 h 1293840"/>
              </a:gdLst>
              <a:ahLst/>
              <a:rect l="textAreaLeft" t="textAreaTop" r="textAreaRight" b="textAreaBottom"/>
              <a:pathLst>
                <a:path w="21600" h="29236">
                  <a:moveTo>
                    <a:pt x="3600" y="0"/>
                  </a:moveTo>
                  <a:arcTo wR="3600" hR="3600" stAng="16200000" swAng="-5400000"/>
                  <a:lnTo>
                    <a:pt x="0" y="25636"/>
                  </a:lnTo>
                  <a:arcTo wR="3600" hR="3600" stAng="10800000" swAng="-5400000"/>
                  <a:lnTo>
                    <a:pt x="18000" y="292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6600"/>
                  </a:solidFill>
                  <a:latin typeface="楷体_GB2312"/>
                  <a:ea typeface="楷体_GB2312"/>
                </a:rPr>
                <a:t>词类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6600"/>
                  </a:solidFill>
                  <a:latin typeface="楷体_GB2312"/>
                  <a:ea typeface="楷体_GB2312"/>
                </a:rPr>
                <a:t>活用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_s50194"/>
            <p:cNvSpPr/>
            <p:nvPr/>
          </p:nvSpPr>
          <p:spPr>
            <a:xfrm>
              <a:off x="1550160" y="4725000"/>
              <a:ext cx="954720" cy="1293840"/>
            </a:xfrm>
            <a:custGeom>
              <a:avLst/>
              <a:gdLst>
                <a:gd name="textAreaLeft" fmla="*/ 46440 w 954720"/>
                <a:gd name="textAreaRight" fmla="*/ 908280 w 954720"/>
                <a:gd name="textAreaTop" fmla="*/ 46440 h 1293840"/>
                <a:gd name="textAreaBottom" fmla="*/ 1247400 h 1293840"/>
              </a:gdLst>
              <a:ahLst/>
              <a:rect l="textAreaLeft" t="textAreaTop" r="textAreaRight" b="textAreaBottom"/>
              <a:pathLst>
                <a:path w="21600" h="29270">
                  <a:moveTo>
                    <a:pt x="3600" y="0"/>
                  </a:moveTo>
                  <a:arcTo wR="3600" hR="3600" stAng="16200000" swAng="-5400000"/>
                  <a:lnTo>
                    <a:pt x="0" y="25670"/>
                  </a:lnTo>
                  <a:arcTo wR="3600" hR="3600" stAng="10800000" swAng="-5400000"/>
                  <a:lnTo>
                    <a:pt x="18000" y="292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6600"/>
                  </a:solidFill>
                  <a:latin typeface="楷体_GB2312"/>
                  <a:ea typeface="楷体_GB2312"/>
                </a:rPr>
                <a:t>名词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6600"/>
                  </a:solidFill>
                  <a:latin typeface="楷体_GB2312"/>
                  <a:ea typeface="楷体_GB2312"/>
                </a:rPr>
                <a:t>活用为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6600"/>
                  </a:solidFill>
                  <a:latin typeface="楷体_GB2312"/>
                  <a:ea typeface="楷体_GB2312"/>
                </a:rPr>
                <a:t>动词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_s50195"/>
            <p:cNvSpPr/>
            <p:nvPr/>
          </p:nvSpPr>
          <p:spPr>
            <a:xfrm>
              <a:off x="2664720" y="4725000"/>
              <a:ext cx="954720" cy="1293840"/>
            </a:xfrm>
            <a:custGeom>
              <a:avLst/>
              <a:gdLst>
                <a:gd name="textAreaLeft" fmla="*/ 46440 w 954720"/>
                <a:gd name="textAreaRight" fmla="*/ 908280 w 954720"/>
                <a:gd name="textAreaTop" fmla="*/ 46440 h 1293840"/>
                <a:gd name="textAreaBottom" fmla="*/ 1247400 h 1293840"/>
              </a:gdLst>
              <a:ahLst/>
              <a:rect l="textAreaLeft" t="textAreaTop" r="textAreaRight" b="textAreaBottom"/>
              <a:pathLst>
                <a:path w="21600" h="29270">
                  <a:moveTo>
                    <a:pt x="3600" y="0"/>
                  </a:moveTo>
                  <a:arcTo wR="3600" hR="3600" stAng="16200000" swAng="-5400000"/>
                  <a:lnTo>
                    <a:pt x="0" y="25670"/>
                  </a:lnTo>
                  <a:arcTo wR="3600" hR="3600" stAng="10800000" swAng="-5400000"/>
                  <a:lnTo>
                    <a:pt x="18000" y="292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6600"/>
                  </a:solidFill>
                  <a:latin typeface="楷体_GB2312"/>
                  <a:ea typeface="楷体_GB2312"/>
                </a:rPr>
                <a:t>名词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6600"/>
                  </a:solidFill>
                  <a:latin typeface="楷体_GB2312"/>
                  <a:ea typeface="楷体_GB2312"/>
                </a:rPr>
                <a:t>作状语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_s50196"/>
            <p:cNvSpPr/>
            <p:nvPr/>
          </p:nvSpPr>
          <p:spPr>
            <a:xfrm>
              <a:off x="3778920" y="4725000"/>
              <a:ext cx="954360" cy="1293840"/>
            </a:xfrm>
            <a:custGeom>
              <a:avLst/>
              <a:gdLst>
                <a:gd name="textAreaLeft" fmla="*/ 46440 w 954360"/>
                <a:gd name="textAreaRight" fmla="*/ 907920 w 954360"/>
                <a:gd name="textAreaTop" fmla="*/ 46440 h 1293840"/>
                <a:gd name="textAreaBottom" fmla="*/ 1247400 h 1293840"/>
              </a:gdLst>
              <a:ahLst/>
              <a:rect l="textAreaLeft" t="textAreaTop" r="textAreaRight" b="textAreaBottom"/>
              <a:pathLst>
                <a:path w="21600" h="29281">
                  <a:moveTo>
                    <a:pt x="3600" y="0"/>
                  </a:moveTo>
                  <a:arcTo wR="3600" hR="3600" stAng="16200000" swAng="-5400000"/>
                  <a:lnTo>
                    <a:pt x="0" y="25681"/>
                  </a:lnTo>
                  <a:arcTo wR="3600" hR="3600" stAng="10800000" swAng="-5400000"/>
                  <a:lnTo>
                    <a:pt x="18000" y="292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6600"/>
                  </a:solidFill>
                  <a:latin typeface="楷体_GB2312"/>
                  <a:ea typeface="楷体_GB2312"/>
                </a:rPr>
                <a:t>动词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6600"/>
                  </a:solidFill>
                  <a:latin typeface="楷体_GB2312"/>
                  <a:ea typeface="楷体_GB2312"/>
                </a:rPr>
                <a:t>活用为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6600"/>
                  </a:solidFill>
                  <a:latin typeface="楷体_GB2312"/>
                  <a:ea typeface="楷体_GB2312"/>
                </a:rPr>
                <a:t>名词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_s50197"/>
            <p:cNvSpPr/>
            <p:nvPr/>
          </p:nvSpPr>
          <p:spPr>
            <a:xfrm>
              <a:off x="4893120" y="4725000"/>
              <a:ext cx="955800" cy="1293840"/>
            </a:xfrm>
            <a:custGeom>
              <a:avLst/>
              <a:gdLst>
                <a:gd name="textAreaLeft" fmla="*/ 46440 w 955800"/>
                <a:gd name="textAreaRight" fmla="*/ 909360 w 955800"/>
                <a:gd name="textAreaTop" fmla="*/ 46440 h 1293840"/>
                <a:gd name="textAreaBottom" fmla="*/ 1247400 h 1293840"/>
              </a:gdLst>
              <a:ahLst/>
              <a:rect l="textAreaLeft" t="textAreaTop" r="textAreaRight" b="textAreaBottom"/>
              <a:pathLst>
                <a:path w="21600" h="29236">
                  <a:moveTo>
                    <a:pt x="3600" y="0"/>
                  </a:moveTo>
                  <a:arcTo wR="3600" hR="3600" stAng="16200000" swAng="-5400000"/>
                  <a:lnTo>
                    <a:pt x="0" y="25636"/>
                  </a:lnTo>
                  <a:arcTo wR="3600" hR="3600" stAng="10800000" swAng="-5400000"/>
                  <a:lnTo>
                    <a:pt x="18000" y="2923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6600"/>
                  </a:solidFill>
                  <a:latin typeface="楷体_GB2312"/>
                  <a:ea typeface="楷体_GB2312"/>
                </a:rPr>
                <a:t>形容词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6600"/>
                  </a:solidFill>
                  <a:latin typeface="楷体_GB2312"/>
                  <a:ea typeface="楷体_GB2312"/>
                </a:rPr>
                <a:t>活用为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6600"/>
                  </a:solidFill>
                  <a:latin typeface="楷体_GB2312"/>
                  <a:ea typeface="楷体_GB2312"/>
                </a:rPr>
                <a:t>名词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50198"/>
            <p:cNvSpPr/>
            <p:nvPr/>
          </p:nvSpPr>
          <p:spPr>
            <a:xfrm>
              <a:off x="6566040" y="2783880"/>
              <a:ext cx="954360" cy="1293840"/>
            </a:xfrm>
            <a:custGeom>
              <a:avLst/>
              <a:gdLst>
                <a:gd name="textAreaLeft" fmla="*/ 46440 w 954360"/>
                <a:gd name="textAreaRight" fmla="*/ 907920 w 954360"/>
                <a:gd name="textAreaTop" fmla="*/ 46440 h 1293840"/>
                <a:gd name="textAreaBottom" fmla="*/ 1247400 h 1293840"/>
              </a:gdLst>
              <a:ahLst/>
              <a:rect l="textAreaLeft" t="textAreaTop" r="textAreaRight" b="textAreaBottom"/>
              <a:pathLst>
                <a:path w="21600" h="29281">
                  <a:moveTo>
                    <a:pt x="3600" y="0"/>
                  </a:moveTo>
                  <a:arcTo wR="3600" hR="3600" stAng="16200000" swAng="-5400000"/>
                  <a:lnTo>
                    <a:pt x="0" y="25681"/>
                  </a:lnTo>
                  <a:arcTo wR="3600" hR="3600" stAng="10800000" swAng="-5400000"/>
                  <a:lnTo>
                    <a:pt x="18000" y="292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6600"/>
                  </a:solidFill>
                  <a:latin typeface="楷体_GB2312"/>
                  <a:ea typeface="楷体_GB2312"/>
                </a:rPr>
                <a:t>句 型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_s50199"/>
            <p:cNvSpPr/>
            <p:nvPr/>
          </p:nvSpPr>
          <p:spPr>
            <a:xfrm>
              <a:off x="6008400" y="4725000"/>
              <a:ext cx="954720" cy="1293840"/>
            </a:xfrm>
            <a:custGeom>
              <a:avLst/>
              <a:gdLst>
                <a:gd name="textAreaLeft" fmla="*/ 46440 w 954720"/>
                <a:gd name="textAreaRight" fmla="*/ 908280 w 954720"/>
                <a:gd name="textAreaTop" fmla="*/ 46440 h 1293840"/>
                <a:gd name="textAreaBottom" fmla="*/ 1247400 h 1293840"/>
              </a:gdLst>
              <a:ahLst/>
              <a:rect l="textAreaLeft" t="textAreaTop" r="textAreaRight" b="textAreaBottom"/>
              <a:pathLst>
                <a:path w="21600" h="29270">
                  <a:moveTo>
                    <a:pt x="3600" y="0"/>
                  </a:moveTo>
                  <a:arcTo wR="3600" hR="3600" stAng="16200000" swAng="-5400000"/>
                  <a:lnTo>
                    <a:pt x="0" y="25670"/>
                  </a:lnTo>
                  <a:arcTo wR="3600" hR="3600" stAng="10800000" swAng="-5400000"/>
                  <a:lnTo>
                    <a:pt x="18000" y="292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6600"/>
                  </a:solidFill>
                  <a:latin typeface="楷体_GB2312"/>
                  <a:ea typeface="楷体_GB2312"/>
                </a:rPr>
                <a:t>省略句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50200"/>
            <p:cNvSpPr/>
            <p:nvPr/>
          </p:nvSpPr>
          <p:spPr>
            <a:xfrm>
              <a:off x="7122600" y="4725000"/>
              <a:ext cx="954360" cy="1293840"/>
            </a:xfrm>
            <a:custGeom>
              <a:avLst/>
              <a:gdLst>
                <a:gd name="textAreaLeft" fmla="*/ 46440 w 954360"/>
                <a:gd name="textAreaRight" fmla="*/ 907920 w 954360"/>
                <a:gd name="textAreaTop" fmla="*/ 46440 h 1293840"/>
                <a:gd name="textAreaBottom" fmla="*/ 1247400 h 1293840"/>
              </a:gdLst>
              <a:ahLst/>
              <a:rect l="textAreaLeft" t="textAreaTop" r="textAreaRight" b="textAreaBottom"/>
              <a:pathLst>
                <a:path w="21600" h="29281">
                  <a:moveTo>
                    <a:pt x="3600" y="0"/>
                  </a:moveTo>
                  <a:arcTo wR="3600" hR="3600" stAng="16200000" swAng="-5400000"/>
                  <a:lnTo>
                    <a:pt x="0" y="25681"/>
                  </a:lnTo>
                  <a:arcTo wR="3600" hR="3600" stAng="10800000" swAng="-5400000"/>
                  <a:lnTo>
                    <a:pt x="18000" y="292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6600"/>
                  </a:solidFill>
                  <a:latin typeface="楷体_GB2312"/>
                  <a:ea typeface="楷体_GB2312"/>
                </a:rPr>
                <a:t>倒装句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0" dur="indefinite" restart="never" nodeType="tmRoot">
          <p:childTnLst>
            <p:seq>
              <p:cTn id="2041" dur="indefinite" nodeType="mainSeq">
                <p:childTnLst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46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Arial"/>
              </a:rPr>
              <a:t>通假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今老矣，无能为也已（已，通 “矣”，了。）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行李之往来，共其乏困（共，通 “供”， 供给、供应。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gōn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夫晋，何厌之有（厌，通 “餍”，满足。）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秦伯说，与郑人盟（说，通“悦”，高兴。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u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）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失其所与，不知（知，通 “智”，明智，聪明。读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zh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解题：题目是文章的眼睛，它告诉我们哪些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一人与万人，力量悬殊，充满悬念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“退”如加修饰语，肯定是智退，而非力搏也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核心人物是烛之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《孙子兵法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谋攻》说：“上兵伐谋，其次伐交，其次伐兵，其下攻城。”即是说，用兵之道，最高明者乃以谋略取胜；其次以外交取胜；以兵戎相见，攻城拔池，乃为最下之策。不用通过战争的手段，就使别的国家放下武器，停止战争，这是战争的最高境界。而外交谋略的正确运用则是达到这一境界的重要方面。这使得本文成为《左传》中的名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            </a:t>
            </a:r>
            <a:r>
              <a:rPr b="0" lang="zh-CN" sz="4400" spc="-1" strike="noStrike">
                <a:solidFill>
                  <a:srgbClr val="ff9900"/>
                </a:solidFill>
                <a:latin typeface="Arial"/>
              </a:rPr>
              <a:t>烛之武退秦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304920" y="1143000"/>
            <a:ext cx="8534160" cy="5277960"/>
          </a:xfrm>
          <a:prstGeom prst="rect">
            <a:avLst/>
          </a:prstGeom>
          <a:solidFill>
            <a:srgbClr val="cc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000000"/>
                </a:solidFill>
                <a:latin typeface="Arial"/>
              </a:rPr>
              <a:t>古今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533520"/>
            <a:ext cx="32767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古今异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" name=""/>
          <p:cNvGraphicFramePr/>
          <p:nvPr/>
        </p:nvGraphicFramePr>
        <p:xfrm>
          <a:off x="380880" y="1219320"/>
          <a:ext cx="8382240" cy="5325840"/>
        </p:xfrm>
        <a:graphic>
          <a:graphicData uri="http://schemas.openxmlformats.org/drawingml/2006/table">
            <a:tbl>
              <a:tblPr/>
              <a:tblGrid>
                <a:gridCol w="1293840"/>
                <a:gridCol w="2262240"/>
                <a:gridCol w="1725480"/>
                <a:gridCol w="3100680"/>
              </a:tblGrid>
              <a:tr h="676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ff"/>
                          </a:solidFill>
                          <a:latin typeface="Arial"/>
                          <a:ea typeface="华文细黑"/>
                        </a:rPr>
                        <a:t>例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ff"/>
                          </a:solidFill>
                          <a:latin typeface="Arial"/>
                          <a:ea typeface="华文细黑"/>
                        </a:rPr>
                        <a:t>古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3333ff"/>
                          </a:solidFill>
                          <a:latin typeface="Arial"/>
                          <a:ea typeface="华文细黑"/>
                        </a:rPr>
                        <a:t>今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执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若有益于君，敢以烦执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敬称、委婉称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掌管某项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(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事情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)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工作的人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东道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若舍郑以为东道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去往东方道路上的主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引申泛指宴客的主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行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行李之往来，共其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乏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行理，外交使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出门所带的包裹、箱子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亦去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离开；距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离开所在的地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047" dur="indefinite" restart="never" nodeType="tmRoot">
          <p:childTnLst>
            <p:seq>
              <p:cTn id="2048" dur="indefinite" nodeType="mainSeq">
                <p:childTnLst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4" fill="hold">
                      <p:stCondLst>
                        <p:cond delay="indefinite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8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28600" y="533520"/>
            <a:ext cx="8534520" cy="6050520"/>
          </a:xfrm>
          <a:prstGeom prst="rect">
            <a:avLst/>
          </a:prstGeom>
          <a:solidFill>
            <a:srgbClr val="ccffff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000000"/>
                </a:solidFill>
                <a:latin typeface="Arial"/>
              </a:rPr>
              <a:t>活用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8600" y="0"/>
            <a:ext cx="1650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词类活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380880" y="609480"/>
          <a:ext cx="8305920" cy="5943600"/>
        </p:xfrm>
        <a:graphic>
          <a:graphicData uri="http://schemas.openxmlformats.org/drawingml/2006/table">
            <a:tbl>
              <a:tblPr/>
              <a:tblGrid>
                <a:gridCol w="638280"/>
                <a:gridCol w="1757520"/>
                <a:gridCol w="1118880"/>
                <a:gridCol w="1595520"/>
                <a:gridCol w="3195720"/>
              </a:tblGrid>
              <a:tr h="584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华文细黑"/>
                        </a:rPr>
                        <a:t>例      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华文细黑"/>
                        </a:rPr>
                        <a:t>用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华文细黑"/>
                        </a:rPr>
                        <a:t>释   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华文细黑"/>
                        </a:rPr>
                        <a:t>译         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晋军函陵，秦军汜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作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驻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晋军驻扎在函陵，秦军驻扎在汜南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既东封郑，又欲肆其西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作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向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它已经向东，把郑国当作疆界，又想扩张西部的疆界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华文细黑"/>
                        </a:rPr>
                        <a:t>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华文细黑"/>
                        </a:rPr>
                        <a:t>名作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华文细黑"/>
                        </a:rPr>
                        <a:t>把…当作疆界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越国以鄙远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作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把…当作边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越过晋国把远方的郑国作为边境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形作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郑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6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若不阙秦，将焉取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使动用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使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…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如果不侵损秦国，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晋国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)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从哪里取得他所企求的土地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肆其西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形作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扩张，延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扩张西部的疆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若亡郑而有益于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使动用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使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…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 灭亡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如果使郑国灭亡而对你有好处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烛之武退秦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使动用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使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…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撤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烛之武使秦国的军队撤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582480"/>
            <a:ext cx="9144000" cy="6050520"/>
          </a:xfrm>
          <a:prstGeom prst="rect">
            <a:avLst/>
          </a:prstGeom>
          <a:solidFill>
            <a:srgbClr val="ccffff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" spc="-1" strike="noStrike">
                <a:solidFill>
                  <a:srgbClr val="000000"/>
                </a:solidFill>
                <a:latin typeface="Arial"/>
              </a:rPr>
              <a:t>句式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52280" y="0"/>
            <a:ext cx="1447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特殊句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228600" y="914400"/>
          <a:ext cx="8686800" cy="5719680"/>
        </p:xfrm>
        <a:graphic>
          <a:graphicData uri="http://schemas.openxmlformats.org/drawingml/2006/table">
            <a:tbl>
              <a:tblPr/>
              <a:tblGrid>
                <a:gridCol w="2438280"/>
                <a:gridCol w="1219320"/>
                <a:gridCol w="2438280"/>
                <a:gridCol w="2590920"/>
              </a:tblGrid>
              <a:tr h="455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华文细黑"/>
                        </a:rPr>
                        <a:t>例      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华文细黑"/>
                        </a:rPr>
                        <a:t>句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华文细黑"/>
                        </a:rPr>
                        <a:t>正常语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ff"/>
                          </a:solidFill>
                          <a:latin typeface="Arial"/>
                          <a:ea typeface="华文细黑"/>
                        </a:rPr>
                        <a:t>译         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晋军函陵，秦军汜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省略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晋军</a:t>
                      </a: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于</a:t>
                      </a: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)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函陵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秦军</a:t>
                      </a: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华文细黑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华文细黑"/>
                        </a:rPr>
                        <a:t>于</a:t>
                      </a: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华文细黑"/>
                        </a:rPr>
                        <a:t>)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汜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晋驻扎</a:t>
                      </a: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华文细黑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华文细黑"/>
                        </a:rPr>
                        <a:t>在</a:t>
                      </a: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华文细黑"/>
                        </a:rPr>
                        <a:t>)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函陵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秦驻扎</a:t>
                      </a: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华文细黑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华文细黑"/>
                        </a:rPr>
                        <a:t>在</a:t>
                      </a: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华文细黑"/>
                        </a:rPr>
                        <a:t>)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汜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敢以烦执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省略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敢以</a:t>
                      </a: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华文细黑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华文细黑"/>
                        </a:rPr>
                        <a:t>之</a:t>
                      </a: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华文细黑"/>
                        </a:rPr>
                        <a:t>)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烦执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那就将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这事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麻烦你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以其无礼</a:t>
                      </a: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华文细黑"/>
                        </a:rPr>
                        <a:t>于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状语后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以其</a:t>
                      </a: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华文细黑"/>
                        </a:rPr>
                        <a:t>于晋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无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因为郑国曾对晋文公无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且贰</a:t>
                      </a: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华文细黑"/>
                        </a:rPr>
                        <a:t>于楚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状语后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且</a:t>
                      </a: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华文细黑"/>
                        </a:rPr>
                        <a:t>于楚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贰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并且在与晋结盟时又与楚结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佚之狐言</a:t>
                      </a: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华文细黑"/>
                        </a:rPr>
                        <a:t>于郑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状语后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佚之狐</a:t>
                      </a: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华文细黑"/>
                        </a:rPr>
                        <a:t>于郑伯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佚之狐对郑伯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若亡郑而有益</a:t>
                      </a: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华文细黑"/>
                        </a:rPr>
                        <a:t>于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状语后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若亡郑而</a:t>
                      </a: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华文细黑"/>
                        </a:rPr>
                        <a:t>于君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有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如果灭掉郑对你有好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华文细黑"/>
                        </a:rPr>
                        <a:t>何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厌</a:t>
                      </a: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Arial"/>
                          <a:ea typeface="华文细黑"/>
                        </a:rPr>
                        <a:t>之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有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宾语前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有何厌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之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)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怎么有满足的时候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焉用亡郑以陪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固定句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焉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为什么要… …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何必要… …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夫晋，何厌之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固定句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夫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华文细黑"/>
                        </a:rPr>
                        <a:t>何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怎么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1143000" y="3276720"/>
            <a:ext cx="556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再见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449360" y="121932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800000"/>
                </a:solidFill>
                <a:latin typeface="Arial"/>
                <a:ea typeface="楷体_GB2312"/>
              </a:rPr>
              <a:t>谢谢欣赏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97000" y="2336760"/>
            <a:ext cx="8551800" cy="2792520"/>
          </a:xfrm>
          <a:prstGeom prst="rect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《左传</a:t>
            </a:r>
            <a:r>
              <a:rPr b="1" lang="en-US" sz="3000" spc="-1" strike="noStrike">
                <a:solidFill>
                  <a:srgbClr val="0000cc"/>
                </a:solidFill>
                <a:latin typeface="黑体"/>
                <a:ea typeface="黑体"/>
              </a:rPr>
              <a:t>①</a:t>
            </a:r>
            <a:r>
              <a:rPr b="1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我国第一部</a:t>
            </a: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详细完整的</a:t>
            </a:r>
            <a:r>
              <a:rPr b="1" lang="zh-CN" sz="4200" spc="-1" strike="noStrike">
                <a:solidFill>
                  <a:srgbClr val="ff0000"/>
                </a:solidFill>
                <a:latin typeface="黑体"/>
                <a:ea typeface="黑体"/>
              </a:rPr>
              <a:t>编年体</a:t>
            </a:r>
            <a:r>
              <a:rPr b="1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历史著作</a:t>
            </a: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，相传是鲁国的史官</a:t>
            </a:r>
            <a:r>
              <a:rPr b="1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左丘明</a:t>
            </a: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所著。因为</a:t>
            </a:r>
            <a:r>
              <a:rPr b="1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《左传》</a:t>
            </a: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《公羊传》《谷梁传》</a:t>
            </a: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都是为解说</a:t>
            </a:r>
            <a:r>
              <a:rPr b="1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《春秋》</a:t>
            </a: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而作，所以它们又被称作</a:t>
            </a:r>
            <a:r>
              <a:rPr b="1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“春秋三</a:t>
            </a:r>
            <a:r>
              <a:rPr b="1" lang="zh-CN" sz="3800" spc="-1" strike="noStrike">
                <a:solidFill>
                  <a:srgbClr val="0000ff"/>
                </a:solidFill>
                <a:latin typeface="黑体"/>
                <a:ea typeface="黑体"/>
              </a:rPr>
              <a:t>传</a:t>
            </a:r>
            <a:r>
              <a:rPr b="1" lang="zh-CN" sz="38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，《左传》又名《春秋左氏传》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传－－注释或解释经书的文字。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22360" y="142920"/>
            <a:ext cx="6616800" cy="1008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隶书"/>
              </a:rPr>
              <a:t>《左传》简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5920" y="773280"/>
            <a:ext cx="8497800" cy="703440"/>
          </a:xfrm>
          <a:prstGeom prst="rect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ff"/>
                </a:solidFill>
                <a:latin typeface="Arial"/>
                <a:ea typeface="楷体_GB2312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按年月日顺序编写的史书体裁。如《春秋》、《左传》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资治通鉴》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7360" y="3068640"/>
            <a:ext cx="8550360" cy="703440"/>
          </a:xfrm>
          <a:prstGeom prst="rect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ff"/>
                </a:solidFill>
                <a:latin typeface="Arial"/>
                <a:ea typeface="楷体_GB2312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分不同的国家编写的史书体裁。如《国语》、《战国策》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" y="4778280"/>
            <a:ext cx="8559720" cy="703440"/>
          </a:xfrm>
          <a:prstGeom prst="rect">
            <a:avLst/>
          </a:prstGeom>
          <a:noFill/>
          <a:ln w="1908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ff"/>
                </a:solidFill>
                <a:latin typeface="Arial"/>
                <a:ea typeface="楷体_GB2312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以人物传记为中心的史书体裁。如《史记》、《三国志》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69228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编年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1640" y="302436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国别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1640" y="477828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纪传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左传》主要艺术成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2820960"/>
            <a:ext cx="274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长于叙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尤其出色的是描写战争；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善于写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工于记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KK00441209a"/>
          <p:cNvPicPr/>
          <p:nvPr/>
        </p:nvPicPr>
        <p:blipFill>
          <a:blip r:embed="rId2"/>
          <a:stretch/>
        </p:blipFill>
        <p:spPr>
          <a:xfrm>
            <a:off x="380880" y="1523880"/>
            <a:ext cx="49053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97000" y="1628640"/>
            <a:ext cx="8610480" cy="93168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《左传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也是一部富有文学价值的历史散文著作。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《左传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善于描写战争和记述外交辞令，记事条理清楚，详略得当；写人简洁生动，人物形象栩栩如生，是历代散文的典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457200"/>
            <a:ext cx="6391440" cy="91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隶书"/>
              </a:rPr>
              <a:t>《左传》文学地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2"/>
          </p:cNvPr>
          <p:cNvSpPr/>
          <p:nvPr/>
        </p:nvSpPr>
        <p:spPr>
          <a:xfrm>
            <a:off x="8534520" y="6095880"/>
            <a:ext cx="228600" cy="5335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533520"/>
              <a:gd name="textAreaBottom" fmla="*/ 518760 h 533520"/>
            </a:gdLst>
            <a:ahLst/>
            <a:rect l="textAreaLeft" t="textAreaTop" r="textAreaRight" b="textAreaBottom"/>
            <a:pathLst>
              <a:path w="21600" h="50366">
                <a:moveTo>
                  <a:pt x="0" y="0"/>
                </a:moveTo>
                <a:lnTo>
                  <a:pt x="21600" y="0"/>
                </a:lnTo>
                <a:lnTo>
                  <a:pt x="21600" y="50366"/>
                </a:lnTo>
                <a:lnTo>
                  <a:pt x="0" y="50366"/>
                </a:lnTo>
                <a:close/>
              </a:path>
              <a:path fill="lightenLess" w="21600" h="503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0366">
                <a:moveTo>
                  <a:pt x="21600" y="0"/>
                </a:moveTo>
                <a:lnTo>
                  <a:pt x="21600" y="50366"/>
                </a:lnTo>
                <a:lnTo>
                  <a:pt x="20200" y="48966"/>
                </a:lnTo>
                <a:lnTo>
                  <a:pt x="20200" y="1400"/>
                </a:lnTo>
                <a:close/>
              </a:path>
              <a:path fill="darkenLess" w="21600" h="50366">
                <a:moveTo>
                  <a:pt x="21600" y="50366"/>
                </a:moveTo>
                <a:lnTo>
                  <a:pt x="0" y="50366"/>
                </a:lnTo>
                <a:lnTo>
                  <a:pt x="1400" y="48966"/>
                </a:lnTo>
                <a:lnTo>
                  <a:pt x="20200" y="48966"/>
                </a:lnTo>
                <a:close/>
              </a:path>
              <a:path fill="lighten" w="21600" h="50366">
                <a:moveTo>
                  <a:pt x="0" y="50366"/>
                </a:moveTo>
                <a:lnTo>
                  <a:pt x="0" y="0"/>
                </a:lnTo>
                <a:lnTo>
                  <a:pt x="1400" y="1400"/>
                </a:lnTo>
                <a:lnTo>
                  <a:pt x="1400" y="48966"/>
                </a:lnTo>
                <a:close/>
              </a:path>
              <a:path fill="darken" w="21600" h="50366">
                <a:moveTo>
                  <a:pt x="3794" y="21684"/>
                </a:moveTo>
                <a:lnTo>
                  <a:pt x="4707" y="21684"/>
                </a:lnTo>
                <a:lnTo>
                  <a:pt x="5090" y="22050"/>
                </a:lnTo>
                <a:lnTo>
                  <a:pt x="14299" y="22050"/>
                </a:lnTo>
                <a:lnTo>
                  <a:pt x="14856" y="22607"/>
                </a:lnTo>
                <a:lnTo>
                  <a:pt x="14856" y="23155"/>
                </a:lnTo>
                <a:lnTo>
                  <a:pt x="16701" y="23155"/>
                </a:lnTo>
                <a:lnTo>
                  <a:pt x="17067" y="22607"/>
                </a:lnTo>
                <a:lnTo>
                  <a:pt x="17806" y="22607"/>
                </a:lnTo>
                <a:lnTo>
                  <a:pt x="17806" y="27759"/>
                </a:lnTo>
                <a:lnTo>
                  <a:pt x="17067" y="27759"/>
                </a:lnTo>
                <a:lnTo>
                  <a:pt x="16701" y="27211"/>
                </a:lnTo>
                <a:lnTo>
                  <a:pt x="14856" y="27211"/>
                </a:lnTo>
                <a:lnTo>
                  <a:pt x="14856" y="28490"/>
                </a:lnTo>
                <a:lnTo>
                  <a:pt x="5273" y="28490"/>
                </a:lnTo>
                <a:lnTo>
                  <a:pt x="5273" y="24260"/>
                </a:lnTo>
                <a:lnTo>
                  <a:pt x="5090" y="24260"/>
                </a:lnTo>
                <a:lnTo>
                  <a:pt x="4707" y="24626"/>
                </a:lnTo>
                <a:lnTo>
                  <a:pt x="3794" y="246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雨林木风</cp:lastModifiedBy>
  <dcterms:modified xsi:type="dcterms:W3CDTF">2013-10-08T23:59:12Z</dcterms:modified>
  <cp:revision>20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