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7577-815C-41C8-996A-AE00D7E7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78CB-81B6-499E-B904-D316788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BAD-8B60-487B-888E-DF06DCF6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2D8A-4705-4BBB-8C0C-D673CF7A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F772-FDE4-4BEF-B879-B32D9ED5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EE15-3377-4478-9E2A-1AAA37A3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3448-8051-467F-9068-45629FA9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9293-968B-4CF3-B8F0-B79E21D0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139D-3B7E-4B97-B095-C7337660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3E83-8C61-498D-9E99-C3B11F60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2EFE-D9FA-4759-82D0-AAB6E05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163A-26DB-4A8A-895D-2D3627CD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0C1-E0BB-4106-AA2B-ADB22F4A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94FB-BE8C-4362-8A0A-C45F0E2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7CA2-06B6-42B8-B472-F412DD7C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8D120-CA92-453A-A62E-2961D3D6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8A46-9F62-41C8-B4E7-1EDCC595E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E1F3B-710F-497F-8BBF-F3C7D8D5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55F86-A8D9-48AE-8165-B0564537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3FCC-93CF-40F0-87E3-BBFD5724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2E0A0-347A-4282-A902-29C77B11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CA602-22D2-4872-A22F-235831DC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575-CD8A-4E76-9889-4DF68695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BC6CC-03E9-4D17-B08A-754C09D5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62FB-0599-41EB-B0EA-1F27CC92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BE765-C3B8-40E5-A1E0-D06E6E4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EE73-F756-4E20-B1C8-56A193E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42B4F-E843-49C2-AA3E-56930F0F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D52C2-F7FE-4C13-AE22-530350FA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7361D-954C-4ACD-BE6F-E8FADECB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8E1D-B7FF-4042-82FB-F862C519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B562-4FB8-4FBA-84D4-ED63458A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074-FFAC-478A-A909-738AA1AE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F58-AAD6-480C-B436-5224837A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76A-7854-4E23-8A37-2530E20A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DE7-6136-4AB0-90B1-D7BA444B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17D1-C2B8-4887-8398-B8DAFFB67A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B3F0-D178-4B3D-BD0B-17B498495C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A5ED-73F3-4A7F-A222-D1C32CD0C9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13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120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69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渐变式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5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添加下划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54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无动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向内溶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忽明忽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50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8" dur="indefinite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突出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8" dur="indefinite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10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10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随机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6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擦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10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上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10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下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110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压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100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10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典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10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5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7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7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升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100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97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97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5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逆序显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10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10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回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5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5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59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展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95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4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10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温和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缩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67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67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67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大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200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767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2" dur="767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4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6" dur="767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弹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20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5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字幕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1500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5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38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9" dur="2000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640" dur="2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椭圆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239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799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799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浮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10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799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799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10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2398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5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97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中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0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15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709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10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97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9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出现并变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" dur="1" nodeType="clickEffect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玩具风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71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7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5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标题弧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200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0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飞旋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10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dur="5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2000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dur="50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58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放大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44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5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86" dur="500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8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50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dur="50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fill="hold">
                      <p:stCondLst>
                        <p:cond delay="0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华丽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线形退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5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50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dur="5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所有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细微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依次渐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2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2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1T04:26:34Z</dcterms:created>
  <dc:creator/>
  <dc:description/>
  <dc:language>en-US</dc:language>
  <cp:lastModifiedBy>i-hongys</cp:lastModifiedBy>
  <dcterms:modified xsi:type="dcterms:W3CDTF">2000-12-21T04:26:5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2052</vt:r8>
  </property>
  <property fmtid="{D5CDD505-2E9C-101B-9397-08002B2CF9AE}" pid="3" name="Version">
    <vt:r8>4</vt:r8>
  </property>
</Properties>
</file>