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8.gif" ContentType="image/gif"/>
  <Override PartName="/ppt/media/image23.wmf" ContentType="image/x-wmf"/>
  <Override PartName="/ppt/media/image27.gif" ContentType="image/gif"/>
  <Override PartName="/ppt/media/image22.wmf" ContentType="image/x-wmf"/>
  <Override PartName="/ppt/media/image21.wmf" ContentType="image/x-wmf"/>
  <Override PartName="/ppt/media/image25.gif" ContentType="image/gif"/>
  <Override PartName="/ppt/media/image19.wmf" ContentType="image/x-wmf"/>
  <Override PartName="/ppt/media/image20.wmf" ContentType="image/x-wmf"/>
  <Override PartName="/ppt/media/image18.wmf" ContentType="image/x-wmf"/>
  <Override PartName="/ppt/media/image16.gif" ContentType="image/gif"/>
  <Override PartName="/ppt/media/image12.wmf" ContentType="image/x-wmf"/>
  <Override PartName="/ppt/media/image49.wmf" ContentType="image/x-wmf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jpeg" ContentType="image/jpeg"/>
  <Override PartName="/ppt/media/image44.png" ContentType="image/png"/>
  <Override PartName="/ppt/media/image29.jpeg" ContentType="image/jpeg"/>
  <Override PartName="/ppt/media/image52.jpeg" ContentType="image/jpeg"/>
  <Override PartName="/ppt/media/image11.gif" ContentType="image/gif"/>
  <Override PartName="/ppt/media/image14.png" ContentType="image/png"/>
  <Override PartName="/ppt/media/image30.gif" ContentType="image/gif"/>
  <Override PartName="/ppt/media/image8.png" ContentType="image/png"/>
  <Override PartName="/ppt/media/image34.gif" ContentType="image/gif"/>
  <Override PartName="/ppt/media/image38.jpeg" ContentType="image/jpeg"/>
  <Override PartName="/ppt/media/image17.wmf" ContentType="image/x-wmf"/>
  <Override PartName="/ppt/media/image41.png" ContentType="image/png"/>
  <Override PartName="/ppt/media/image46.gif" ContentType="image/gif"/>
  <Override PartName="/ppt/media/image9.png" ContentType="image/png"/>
  <Override PartName="/ppt/media/image39.png" ContentType="image/png"/>
  <Override PartName="/ppt/media/image42.png" ContentType="image/png"/>
  <Override PartName="/ppt/media/image45.jpeg" ContentType="image/jpeg"/>
  <Override PartName="/ppt/media/image40.png" ContentType="image/png"/>
  <Override PartName="/ppt/media/image48.png" ContentType="image/png"/>
  <Override PartName="/ppt/media/image51.wmf" ContentType="image/x-wmf"/>
  <Override PartName="/ppt/media/image53.gif" ContentType="image/gif"/>
  <Override PartName="/ppt/media/image4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36.png" ContentType="image/png"/>
  <Override PartName="/ppt/media/image50.wmf" ContentType="image/x-wmf"/>
  <Override PartName="/ppt/media/image47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3F24-0BEC-4C01-80F2-4357DC22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DB1D-08D9-4402-BB0F-C25BC7BD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FD17-321E-4489-A8C2-ABAF8B896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49BC-EDD4-4CCA-B306-B3E7D4D7E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4EE9-1215-4136-9C26-BC6D7A13F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F871-F6CD-4BBF-808B-961AF09B9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60F5-13E5-40F2-83A8-C59C0AF3D1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AA53-F556-465B-BF78-032D1F6E5A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BDE5-CCF9-47D8-B577-08FB2012E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DF42-802C-460C-894B-2BD99DB85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26C2-0827-47A3-9F0B-17912615C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BDD0-2606-4C59-AD13-BA5076CA9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7095-2FE2-44AD-BBA3-7309422D3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4CB8-1C33-4875-BD2A-D0F0245B0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8318-B2E5-44D1-A568-65D0C8854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恒谦教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5C33-E480-473B-B4B2-4453DCC9B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dArt 2" descr=""/>
          <p:cNvPicPr/>
          <p:nvPr/>
        </p:nvPicPr>
        <p:blipFill>
          <a:blip r:embed="rId1"/>
          <a:stretch/>
        </p:blipFill>
        <p:spPr>
          <a:xfrm>
            <a:off x="1663560" y="1895400"/>
            <a:ext cx="53276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B5D9-13C3-4F6F-ADBB-5BAAEDCCB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43000" y="4572000"/>
            <a:ext cx="69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圆心角的度数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=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百分比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× 36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50920" y="333360"/>
            <a:ext cx="70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6836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知道，扇形图通过扇形的大小来反映各个部分占总体的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百分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492200" y="29707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讨论：如何根据百分比或圆心角画出相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的扇形图？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9DFD-40F9-43A3-85A4-C4FEE6CA2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"/>
          <p:cNvSpPr/>
          <p:nvPr/>
        </p:nvSpPr>
        <p:spPr>
          <a:xfrm>
            <a:off x="4859280" y="260280"/>
            <a:ext cx="4032360" cy="2203560"/>
          </a:xfrm>
          <a:prstGeom prst="cloudCallout">
            <a:avLst>
              <a:gd name="adj1" fmla="val -42597"/>
              <a:gd name="adj2" fmla="val 78171"/>
            </a:avLst>
          </a:prstGeom>
          <a:solidFill>
            <a:srgbClr val="ccffcc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364000" y="54936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华文新魏"/>
              </a:rPr>
              <a:t>你能说出条形图和扇形图的相同点和不同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321300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相同点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92360" y="3284640"/>
            <a:ext cx="68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a0a0e"/>
                </a:solidFill>
                <a:latin typeface="Times New Roman"/>
                <a:ea typeface="楷体_GB2312"/>
              </a:rPr>
              <a:t>都能了解喜欢哪种节目的人数最多和最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0" y="4581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不同点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619280" y="45813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形图能得出具体喜欢每种节目的人数，扇形图能得出各种人数的百分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5D3B-B878-4CD5-A305-7E44F3DC9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0" y="1052640"/>
            <a:ext cx="91440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经调查，某班同学上学所用的交通工具中，自行车占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公交车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其他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请画出扇形描述以上统计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若这个班共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，那么坐公交车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有多少人？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我班同学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，步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学部分在扇形中的圆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角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度，那么步行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4643280" y="1628640"/>
          <a:ext cx="4778640" cy="41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628640"/>
                    <a:ext cx="477864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AutoShape 4"/>
          <p:cNvSpPr/>
          <p:nvPr/>
        </p:nvSpPr>
        <p:spPr>
          <a:xfrm>
            <a:off x="0" y="0"/>
            <a:ext cx="3168720" cy="836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课堂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406760" y="1904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62728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0×30%=1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03640" y="602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0×72/360=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F50-6D98-4BC5-BBD6-E9100792F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"/>
          <p:cNvGrpSpPr/>
          <p:nvPr/>
        </p:nvGrpSpPr>
        <p:grpSpPr>
          <a:xfrm>
            <a:off x="250920" y="2565360"/>
            <a:ext cx="8642160" cy="1758960"/>
            <a:chOff x="250920" y="2565360"/>
            <a:chExt cx="8642160" cy="1758960"/>
          </a:xfrm>
        </p:grpSpPr>
        <p:sp>
          <p:nvSpPr>
            <p:cNvPr id="155" name="Text Box 3"/>
            <p:cNvSpPr/>
            <p:nvPr/>
          </p:nvSpPr>
          <p:spPr>
            <a:xfrm>
              <a:off x="8175600" y="3411360"/>
              <a:ext cx="711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"/>
            <p:cNvSpPr/>
            <p:nvPr/>
          </p:nvSpPr>
          <p:spPr>
            <a:xfrm>
              <a:off x="7280280" y="3411360"/>
              <a:ext cx="895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"/>
            <p:cNvSpPr/>
            <p:nvPr/>
          </p:nvSpPr>
          <p:spPr>
            <a:xfrm>
              <a:off x="6810480" y="3411360"/>
              <a:ext cx="649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"/>
            <p:cNvSpPr/>
            <p:nvPr/>
          </p:nvSpPr>
          <p:spPr>
            <a:xfrm>
              <a:off x="6408720" y="341136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5602320" y="3411360"/>
              <a:ext cx="90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4998960" y="3411360"/>
              <a:ext cx="798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4462560" y="3411360"/>
              <a:ext cx="78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3925800" y="3411360"/>
              <a:ext cx="760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3255840" y="3500280"/>
              <a:ext cx="1073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2"/>
            <p:cNvSpPr/>
            <p:nvPr/>
          </p:nvSpPr>
          <p:spPr>
            <a:xfrm>
              <a:off x="2784600" y="3411360"/>
              <a:ext cx="63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230560" y="3411360"/>
              <a:ext cx="55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1598760" y="3411360"/>
              <a:ext cx="63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5"/>
            <p:cNvSpPr/>
            <p:nvPr/>
          </p:nvSpPr>
          <p:spPr>
            <a:xfrm>
              <a:off x="324000" y="3411360"/>
              <a:ext cx="127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平均气温（℃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8175600" y="2579760"/>
              <a:ext cx="7113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十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7459560" y="2579760"/>
              <a:ext cx="7160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十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8"/>
            <p:cNvSpPr/>
            <p:nvPr/>
          </p:nvSpPr>
          <p:spPr>
            <a:xfrm>
              <a:off x="6985080" y="2579760"/>
              <a:ext cx="4744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510240" y="2579760"/>
              <a:ext cx="4748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0"/>
            <p:cNvSpPr/>
            <p:nvPr/>
          </p:nvSpPr>
          <p:spPr>
            <a:xfrm>
              <a:off x="5797440" y="2579760"/>
              <a:ext cx="712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5243400" y="2579760"/>
              <a:ext cx="5540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686480" y="2579760"/>
              <a:ext cx="55692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132440" y="2579760"/>
              <a:ext cx="5540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五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4"/>
            <p:cNvSpPr/>
            <p:nvPr/>
          </p:nvSpPr>
          <p:spPr>
            <a:xfrm>
              <a:off x="3421080" y="2579760"/>
              <a:ext cx="7113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5"/>
            <p:cNvSpPr/>
            <p:nvPr/>
          </p:nvSpPr>
          <p:spPr>
            <a:xfrm>
              <a:off x="2784600" y="2579760"/>
              <a:ext cx="6364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6"/>
            <p:cNvSpPr/>
            <p:nvPr/>
          </p:nvSpPr>
          <p:spPr>
            <a:xfrm>
              <a:off x="2230560" y="2579760"/>
              <a:ext cx="5540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7"/>
            <p:cNvSpPr/>
            <p:nvPr/>
          </p:nvSpPr>
          <p:spPr>
            <a:xfrm>
              <a:off x="1598760" y="2579760"/>
              <a:ext cx="631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8"/>
            <p:cNvSpPr/>
            <p:nvPr/>
          </p:nvSpPr>
          <p:spPr>
            <a:xfrm>
              <a:off x="250920" y="2579760"/>
              <a:ext cx="13478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月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>
              <a:off x="250920" y="2579760"/>
              <a:ext cx="8636040" cy="324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250920" y="3411360"/>
              <a:ext cx="8636040" cy="32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>
              <a:off x="250920" y="4235400"/>
              <a:ext cx="8636040" cy="324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>
              <a:off x="250920" y="2579760"/>
              <a:ext cx="3240" cy="165564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1598760" y="2579760"/>
              <a:ext cx="288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>
              <a:off x="2230560" y="2579760"/>
              <a:ext cx="468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>
              <a:off x="2784600" y="2579760"/>
              <a:ext cx="468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3421080" y="2579760"/>
              <a:ext cx="32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>
              <a:off x="4127400" y="2565360"/>
              <a:ext cx="180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>
              <a:off x="4664160" y="2565360"/>
              <a:ext cx="468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>
              <a:off x="5243400" y="2579760"/>
              <a:ext cx="50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5797440" y="2579760"/>
              <a:ext cx="50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>
              <a:off x="6510240" y="2579760"/>
              <a:ext cx="32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>
              <a:off x="6985080" y="2579760"/>
              <a:ext cx="32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3"/>
            <p:cNvSpPr/>
            <p:nvPr/>
          </p:nvSpPr>
          <p:spPr>
            <a:xfrm>
              <a:off x="7459560" y="2579760"/>
              <a:ext cx="50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4"/>
            <p:cNvSpPr/>
            <p:nvPr/>
          </p:nvSpPr>
          <p:spPr>
            <a:xfrm>
              <a:off x="8175600" y="2579760"/>
              <a:ext cx="32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5"/>
            <p:cNvSpPr/>
            <p:nvPr/>
          </p:nvSpPr>
          <p:spPr>
            <a:xfrm>
              <a:off x="8889840" y="2565360"/>
              <a:ext cx="3240" cy="165564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46"/>
          <p:cNvSpPr/>
          <p:nvPr/>
        </p:nvSpPr>
        <p:spPr>
          <a:xfrm>
            <a:off x="533520" y="122076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每月的月平均气温如下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7"/>
          <p:cNvSpPr/>
          <p:nvPr/>
        </p:nvSpPr>
        <p:spPr>
          <a:xfrm>
            <a:off x="230040" y="608040"/>
            <a:ext cx="7606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4155-B729-411A-8435-E42F8FCAB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"/>
          <p:cNvSpPr/>
          <p:nvPr/>
        </p:nvSpPr>
        <p:spPr>
          <a:xfrm>
            <a:off x="1905120" y="5532480"/>
            <a:ext cx="5640120" cy="46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 flipV="1">
            <a:off x="1905120" y="960480"/>
            <a:ext cx="2880" cy="4572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135160" y="5688000"/>
            <a:ext cx="5560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608040" indent="-608040">
              <a:lnSpc>
                <a:spcPct val="86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一    二    三    四     五     六    七     八    九    十     十    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6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月    月    月    月     月     月    月     月    月    月     一    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6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月    月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"/>
          <p:cNvGrpSpPr/>
          <p:nvPr/>
        </p:nvGrpSpPr>
        <p:grpSpPr>
          <a:xfrm>
            <a:off x="1905120" y="1522440"/>
            <a:ext cx="4876200" cy="4028760"/>
            <a:chOff x="1905120" y="1522440"/>
            <a:chExt cx="4876200" cy="4028760"/>
          </a:xfrm>
        </p:grpSpPr>
        <p:sp>
          <p:nvSpPr>
            <p:cNvPr id="205" name="Text Box 6"/>
            <p:cNvSpPr/>
            <p:nvPr/>
          </p:nvSpPr>
          <p:spPr>
            <a:xfrm>
              <a:off x="6402600" y="4965840"/>
              <a:ext cx="3740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6025320" y="4965840"/>
              <a:ext cx="37692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5650920" y="4965840"/>
              <a:ext cx="3740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5278320" y="4965840"/>
              <a:ext cx="3722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4900680" y="4965840"/>
              <a:ext cx="3772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1"/>
            <p:cNvSpPr/>
            <p:nvPr/>
          </p:nvSpPr>
          <p:spPr>
            <a:xfrm>
              <a:off x="4526280" y="4965840"/>
              <a:ext cx="3740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4152240" y="4965840"/>
              <a:ext cx="3736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3777840" y="4965840"/>
              <a:ext cx="3740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3403440" y="4965840"/>
              <a:ext cx="3740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3048120" y="4965840"/>
              <a:ext cx="3549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2655000" y="4965840"/>
              <a:ext cx="3927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2277360" y="4965840"/>
              <a:ext cx="3772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05120" y="4965840"/>
              <a:ext cx="3722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6402600" y="4386960"/>
              <a:ext cx="374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0"/>
            <p:cNvSpPr/>
            <p:nvPr/>
          </p:nvSpPr>
          <p:spPr>
            <a:xfrm>
              <a:off x="6025320" y="4386960"/>
              <a:ext cx="37692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5650920" y="4386960"/>
              <a:ext cx="374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5278320" y="4386960"/>
              <a:ext cx="3722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3"/>
            <p:cNvSpPr/>
            <p:nvPr/>
          </p:nvSpPr>
          <p:spPr>
            <a:xfrm>
              <a:off x="4900680" y="4386960"/>
              <a:ext cx="3772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4526280" y="4386960"/>
              <a:ext cx="374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4152240" y="4386960"/>
              <a:ext cx="373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3777840" y="4386960"/>
              <a:ext cx="374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7"/>
            <p:cNvSpPr/>
            <p:nvPr/>
          </p:nvSpPr>
          <p:spPr>
            <a:xfrm>
              <a:off x="3403440" y="4386960"/>
              <a:ext cx="374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3048120" y="4386960"/>
              <a:ext cx="354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9"/>
            <p:cNvSpPr/>
            <p:nvPr/>
          </p:nvSpPr>
          <p:spPr>
            <a:xfrm>
              <a:off x="2655000" y="4386960"/>
              <a:ext cx="3927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2277360" y="4386960"/>
              <a:ext cx="3772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1"/>
            <p:cNvSpPr/>
            <p:nvPr/>
          </p:nvSpPr>
          <p:spPr>
            <a:xfrm>
              <a:off x="1905120" y="4386960"/>
              <a:ext cx="3722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2"/>
            <p:cNvSpPr/>
            <p:nvPr/>
          </p:nvSpPr>
          <p:spPr>
            <a:xfrm>
              <a:off x="6402600" y="3807360"/>
              <a:ext cx="374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3"/>
            <p:cNvSpPr/>
            <p:nvPr/>
          </p:nvSpPr>
          <p:spPr>
            <a:xfrm>
              <a:off x="6025320" y="3807360"/>
              <a:ext cx="376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5650920" y="3807360"/>
              <a:ext cx="374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5278320" y="3807360"/>
              <a:ext cx="372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6"/>
            <p:cNvSpPr/>
            <p:nvPr/>
          </p:nvSpPr>
          <p:spPr>
            <a:xfrm>
              <a:off x="4900680" y="3807360"/>
              <a:ext cx="377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4526280" y="3807360"/>
              <a:ext cx="374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4152240" y="3807360"/>
              <a:ext cx="373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9"/>
            <p:cNvSpPr/>
            <p:nvPr/>
          </p:nvSpPr>
          <p:spPr>
            <a:xfrm>
              <a:off x="3777840" y="3807360"/>
              <a:ext cx="374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40"/>
            <p:cNvSpPr/>
            <p:nvPr/>
          </p:nvSpPr>
          <p:spPr>
            <a:xfrm>
              <a:off x="3403440" y="3807360"/>
              <a:ext cx="374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1"/>
            <p:cNvSpPr/>
            <p:nvPr/>
          </p:nvSpPr>
          <p:spPr>
            <a:xfrm>
              <a:off x="3048120" y="3807360"/>
              <a:ext cx="354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42"/>
            <p:cNvSpPr/>
            <p:nvPr/>
          </p:nvSpPr>
          <p:spPr>
            <a:xfrm>
              <a:off x="2655000" y="3807360"/>
              <a:ext cx="392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3"/>
            <p:cNvSpPr/>
            <p:nvPr/>
          </p:nvSpPr>
          <p:spPr>
            <a:xfrm>
              <a:off x="2277360" y="3807360"/>
              <a:ext cx="377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4"/>
            <p:cNvSpPr/>
            <p:nvPr/>
          </p:nvSpPr>
          <p:spPr>
            <a:xfrm>
              <a:off x="1905120" y="3807360"/>
              <a:ext cx="372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5"/>
            <p:cNvSpPr/>
            <p:nvPr/>
          </p:nvSpPr>
          <p:spPr>
            <a:xfrm>
              <a:off x="6402600" y="3234600"/>
              <a:ext cx="3740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46"/>
            <p:cNvSpPr/>
            <p:nvPr/>
          </p:nvSpPr>
          <p:spPr>
            <a:xfrm>
              <a:off x="6025320" y="3234600"/>
              <a:ext cx="37692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7"/>
            <p:cNvSpPr/>
            <p:nvPr/>
          </p:nvSpPr>
          <p:spPr>
            <a:xfrm>
              <a:off x="5650920" y="3234600"/>
              <a:ext cx="3740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48"/>
            <p:cNvSpPr/>
            <p:nvPr/>
          </p:nvSpPr>
          <p:spPr>
            <a:xfrm>
              <a:off x="5278320" y="3234600"/>
              <a:ext cx="3722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9"/>
            <p:cNvSpPr/>
            <p:nvPr/>
          </p:nvSpPr>
          <p:spPr>
            <a:xfrm>
              <a:off x="4900680" y="3234600"/>
              <a:ext cx="37728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50"/>
            <p:cNvSpPr/>
            <p:nvPr/>
          </p:nvSpPr>
          <p:spPr>
            <a:xfrm>
              <a:off x="4526280" y="3234600"/>
              <a:ext cx="3740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51"/>
            <p:cNvSpPr/>
            <p:nvPr/>
          </p:nvSpPr>
          <p:spPr>
            <a:xfrm>
              <a:off x="4152240" y="3234600"/>
              <a:ext cx="37368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2"/>
            <p:cNvSpPr/>
            <p:nvPr/>
          </p:nvSpPr>
          <p:spPr>
            <a:xfrm>
              <a:off x="3777840" y="3234600"/>
              <a:ext cx="3740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53"/>
            <p:cNvSpPr/>
            <p:nvPr/>
          </p:nvSpPr>
          <p:spPr>
            <a:xfrm>
              <a:off x="3403440" y="3234600"/>
              <a:ext cx="3740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54"/>
            <p:cNvSpPr/>
            <p:nvPr/>
          </p:nvSpPr>
          <p:spPr>
            <a:xfrm>
              <a:off x="3048120" y="3234600"/>
              <a:ext cx="35496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55"/>
            <p:cNvSpPr/>
            <p:nvPr/>
          </p:nvSpPr>
          <p:spPr>
            <a:xfrm>
              <a:off x="2655000" y="3234600"/>
              <a:ext cx="39276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56"/>
            <p:cNvSpPr/>
            <p:nvPr/>
          </p:nvSpPr>
          <p:spPr>
            <a:xfrm>
              <a:off x="2277360" y="3234600"/>
              <a:ext cx="37728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7"/>
            <p:cNvSpPr/>
            <p:nvPr/>
          </p:nvSpPr>
          <p:spPr>
            <a:xfrm>
              <a:off x="1905120" y="3234600"/>
              <a:ext cx="3722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8"/>
            <p:cNvSpPr/>
            <p:nvPr/>
          </p:nvSpPr>
          <p:spPr>
            <a:xfrm>
              <a:off x="6402600" y="2652120"/>
              <a:ext cx="3740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9"/>
            <p:cNvSpPr/>
            <p:nvPr/>
          </p:nvSpPr>
          <p:spPr>
            <a:xfrm>
              <a:off x="6025320" y="2652120"/>
              <a:ext cx="3769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0"/>
            <p:cNvSpPr/>
            <p:nvPr/>
          </p:nvSpPr>
          <p:spPr>
            <a:xfrm>
              <a:off x="5650920" y="2652120"/>
              <a:ext cx="3740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61"/>
            <p:cNvSpPr/>
            <p:nvPr/>
          </p:nvSpPr>
          <p:spPr>
            <a:xfrm>
              <a:off x="5278320" y="2652120"/>
              <a:ext cx="372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2"/>
            <p:cNvSpPr/>
            <p:nvPr/>
          </p:nvSpPr>
          <p:spPr>
            <a:xfrm>
              <a:off x="4900680" y="2652120"/>
              <a:ext cx="377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63"/>
            <p:cNvSpPr/>
            <p:nvPr/>
          </p:nvSpPr>
          <p:spPr>
            <a:xfrm>
              <a:off x="4526280" y="2652120"/>
              <a:ext cx="3740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64"/>
            <p:cNvSpPr/>
            <p:nvPr/>
          </p:nvSpPr>
          <p:spPr>
            <a:xfrm>
              <a:off x="4152240" y="2652120"/>
              <a:ext cx="3736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65"/>
            <p:cNvSpPr/>
            <p:nvPr/>
          </p:nvSpPr>
          <p:spPr>
            <a:xfrm>
              <a:off x="3777840" y="2652120"/>
              <a:ext cx="3740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66"/>
            <p:cNvSpPr/>
            <p:nvPr/>
          </p:nvSpPr>
          <p:spPr>
            <a:xfrm>
              <a:off x="3403440" y="2652120"/>
              <a:ext cx="3740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67"/>
            <p:cNvSpPr/>
            <p:nvPr/>
          </p:nvSpPr>
          <p:spPr>
            <a:xfrm>
              <a:off x="3048120" y="2652120"/>
              <a:ext cx="35496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68"/>
            <p:cNvSpPr/>
            <p:nvPr/>
          </p:nvSpPr>
          <p:spPr>
            <a:xfrm>
              <a:off x="2655000" y="2652120"/>
              <a:ext cx="39276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69"/>
            <p:cNvSpPr/>
            <p:nvPr/>
          </p:nvSpPr>
          <p:spPr>
            <a:xfrm>
              <a:off x="2277360" y="2652120"/>
              <a:ext cx="377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0"/>
            <p:cNvSpPr/>
            <p:nvPr/>
          </p:nvSpPr>
          <p:spPr>
            <a:xfrm>
              <a:off x="1905120" y="2652120"/>
              <a:ext cx="372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1"/>
            <p:cNvSpPr/>
            <p:nvPr/>
          </p:nvSpPr>
          <p:spPr>
            <a:xfrm>
              <a:off x="6402600" y="2071440"/>
              <a:ext cx="37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72"/>
            <p:cNvSpPr/>
            <p:nvPr/>
          </p:nvSpPr>
          <p:spPr>
            <a:xfrm>
              <a:off x="6025320" y="2071440"/>
              <a:ext cx="37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3"/>
            <p:cNvSpPr/>
            <p:nvPr/>
          </p:nvSpPr>
          <p:spPr>
            <a:xfrm>
              <a:off x="5650920" y="2071440"/>
              <a:ext cx="37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74"/>
            <p:cNvSpPr/>
            <p:nvPr/>
          </p:nvSpPr>
          <p:spPr>
            <a:xfrm>
              <a:off x="5278320" y="2071440"/>
              <a:ext cx="37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75"/>
            <p:cNvSpPr/>
            <p:nvPr/>
          </p:nvSpPr>
          <p:spPr>
            <a:xfrm>
              <a:off x="4900680" y="2071440"/>
              <a:ext cx="37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6"/>
            <p:cNvSpPr/>
            <p:nvPr/>
          </p:nvSpPr>
          <p:spPr>
            <a:xfrm>
              <a:off x="4526280" y="2071440"/>
              <a:ext cx="37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77"/>
            <p:cNvSpPr/>
            <p:nvPr/>
          </p:nvSpPr>
          <p:spPr>
            <a:xfrm>
              <a:off x="4152240" y="2071440"/>
              <a:ext cx="37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78"/>
            <p:cNvSpPr/>
            <p:nvPr/>
          </p:nvSpPr>
          <p:spPr>
            <a:xfrm>
              <a:off x="3777840" y="2071440"/>
              <a:ext cx="37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9"/>
            <p:cNvSpPr/>
            <p:nvPr/>
          </p:nvSpPr>
          <p:spPr>
            <a:xfrm>
              <a:off x="3403440" y="2071440"/>
              <a:ext cx="37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80"/>
            <p:cNvSpPr/>
            <p:nvPr/>
          </p:nvSpPr>
          <p:spPr>
            <a:xfrm>
              <a:off x="3048120" y="2071440"/>
              <a:ext cx="35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81"/>
            <p:cNvSpPr/>
            <p:nvPr/>
          </p:nvSpPr>
          <p:spPr>
            <a:xfrm>
              <a:off x="2655000" y="2071440"/>
              <a:ext cx="39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82"/>
            <p:cNvSpPr/>
            <p:nvPr/>
          </p:nvSpPr>
          <p:spPr>
            <a:xfrm>
              <a:off x="2277360" y="2071440"/>
              <a:ext cx="37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83"/>
            <p:cNvSpPr/>
            <p:nvPr/>
          </p:nvSpPr>
          <p:spPr>
            <a:xfrm>
              <a:off x="1905120" y="2071440"/>
              <a:ext cx="37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84"/>
            <p:cNvSpPr/>
            <p:nvPr/>
          </p:nvSpPr>
          <p:spPr>
            <a:xfrm>
              <a:off x="6402600" y="1522440"/>
              <a:ext cx="374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85"/>
            <p:cNvSpPr/>
            <p:nvPr/>
          </p:nvSpPr>
          <p:spPr>
            <a:xfrm>
              <a:off x="6025320" y="1522440"/>
              <a:ext cx="376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6"/>
            <p:cNvSpPr/>
            <p:nvPr/>
          </p:nvSpPr>
          <p:spPr>
            <a:xfrm>
              <a:off x="5650920" y="1522440"/>
              <a:ext cx="374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7"/>
            <p:cNvSpPr/>
            <p:nvPr/>
          </p:nvSpPr>
          <p:spPr>
            <a:xfrm>
              <a:off x="5278320" y="1522440"/>
              <a:ext cx="372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88"/>
            <p:cNvSpPr/>
            <p:nvPr/>
          </p:nvSpPr>
          <p:spPr>
            <a:xfrm>
              <a:off x="4900680" y="1522440"/>
              <a:ext cx="377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9"/>
            <p:cNvSpPr/>
            <p:nvPr/>
          </p:nvSpPr>
          <p:spPr>
            <a:xfrm>
              <a:off x="4526280" y="1522440"/>
              <a:ext cx="374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90"/>
            <p:cNvSpPr/>
            <p:nvPr/>
          </p:nvSpPr>
          <p:spPr>
            <a:xfrm>
              <a:off x="4152240" y="1522440"/>
              <a:ext cx="373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91"/>
            <p:cNvSpPr/>
            <p:nvPr/>
          </p:nvSpPr>
          <p:spPr>
            <a:xfrm>
              <a:off x="3777840" y="1522440"/>
              <a:ext cx="374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92"/>
            <p:cNvSpPr/>
            <p:nvPr/>
          </p:nvSpPr>
          <p:spPr>
            <a:xfrm>
              <a:off x="3403440" y="1522440"/>
              <a:ext cx="374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93"/>
            <p:cNvSpPr/>
            <p:nvPr/>
          </p:nvSpPr>
          <p:spPr>
            <a:xfrm>
              <a:off x="3048120" y="1522440"/>
              <a:ext cx="354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94"/>
            <p:cNvSpPr/>
            <p:nvPr/>
          </p:nvSpPr>
          <p:spPr>
            <a:xfrm>
              <a:off x="2655000" y="1522440"/>
              <a:ext cx="392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95"/>
            <p:cNvSpPr/>
            <p:nvPr/>
          </p:nvSpPr>
          <p:spPr>
            <a:xfrm>
              <a:off x="2277360" y="1522440"/>
              <a:ext cx="377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96"/>
            <p:cNvSpPr/>
            <p:nvPr/>
          </p:nvSpPr>
          <p:spPr>
            <a:xfrm>
              <a:off x="1905120" y="1522440"/>
              <a:ext cx="372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7"/>
            <p:cNvSpPr/>
            <p:nvPr/>
          </p:nvSpPr>
          <p:spPr>
            <a:xfrm>
              <a:off x="1905120" y="1522440"/>
              <a:ext cx="4871880" cy="288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98"/>
            <p:cNvSpPr/>
            <p:nvPr/>
          </p:nvSpPr>
          <p:spPr>
            <a:xfrm>
              <a:off x="1905120" y="2071440"/>
              <a:ext cx="4871880" cy="432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99"/>
            <p:cNvSpPr/>
            <p:nvPr/>
          </p:nvSpPr>
          <p:spPr>
            <a:xfrm>
              <a:off x="1905120" y="2652120"/>
              <a:ext cx="4871880" cy="288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00"/>
            <p:cNvSpPr/>
            <p:nvPr/>
          </p:nvSpPr>
          <p:spPr>
            <a:xfrm>
              <a:off x="1905120" y="3234600"/>
              <a:ext cx="4871880" cy="288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01"/>
            <p:cNvSpPr/>
            <p:nvPr/>
          </p:nvSpPr>
          <p:spPr>
            <a:xfrm>
              <a:off x="1905120" y="3807360"/>
              <a:ext cx="4871880" cy="288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02"/>
            <p:cNvSpPr/>
            <p:nvPr/>
          </p:nvSpPr>
          <p:spPr>
            <a:xfrm>
              <a:off x="1905120" y="4386960"/>
              <a:ext cx="4871880" cy="252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03"/>
            <p:cNvSpPr/>
            <p:nvPr/>
          </p:nvSpPr>
          <p:spPr>
            <a:xfrm>
              <a:off x="1905120" y="4965840"/>
              <a:ext cx="4871880" cy="288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04"/>
            <p:cNvSpPr/>
            <p:nvPr/>
          </p:nvSpPr>
          <p:spPr>
            <a:xfrm>
              <a:off x="1905120" y="5548680"/>
              <a:ext cx="4871880" cy="252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05"/>
            <p:cNvSpPr/>
            <p:nvPr/>
          </p:nvSpPr>
          <p:spPr>
            <a:xfrm>
              <a:off x="1905120" y="1522440"/>
              <a:ext cx="28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06"/>
            <p:cNvSpPr/>
            <p:nvPr/>
          </p:nvSpPr>
          <p:spPr>
            <a:xfrm>
              <a:off x="2277360" y="1522440"/>
              <a:ext cx="46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07"/>
            <p:cNvSpPr/>
            <p:nvPr/>
          </p:nvSpPr>
          <p:spPr>
            <a:xfrm>
              <a:off x="2655000" y="1522440"/>
              <a:ext cx="43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08"/>
            <p:cNvSpPr/>
            <p:nvPr/>
          </p:nvSpPr>
          <p:spPr>
            <a:xfrm>
              <a:off x="3048120" y="1522440"/>
              <a:ext cx="28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09"/>
            <p:cNvSpPr/>
            <p:nvPr/>
          </p:nvSpPr>
          <p:spPr>
            <a:xfrm>
              <a:off x="3403440" y="1522440"/>
              <a:ext cx="28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10"/>
            <p:cNvSpPr/>
            <p:nvPr/>
          </p:nvSpPr>
          <p:spPr>
            <a:xfrm>
              <a:off x="3777840" y="1522440"/>
              <a:ext cx="28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11"/>
            <p:cNvSpPr/>
            <p:nvPr/>
          </p:nvSpPr>
          <p:spPr>
            <a:xfrm>
              <a:off x="4152240" y="1522440"/>
              <a:ext cx="25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12"/>
            <p:cNvSpPr/>
            <p:nvPr/>
          </p:nvSpPr>
          <p:spPr>
            <a:xfrm>
              <a:off x="4526280" y="1522440"/>
              <a:ext cx="28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13"/>
            <p:cNvSpPr/>
            <p:nvPr/>
          </p:nvSpPr>
          <p:spPr>
            <a:xfrm>
              <a:off x="4900680" y="1522440"/>
              <a:ext cx="28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4"/>
            <p:cNvSpPr/>
            <p:nvPr/>
          </p:nvSpPr>
          <p:spPr>
            <a:xfrm>
              <a:off x="5278320" y="1522440"/>
              <a:ext cx="25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15"/>
            <p:cNvSpPr/>
            <p:nvPr/>
          </p:nvSpPr>
          <p:spPr>
            <a:xfrm>
              <a:off x="5650920" y="1522440"/>
              <a:ext cx="43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16"/>
            <p:cNvSpPr/>
            <p:nvPr/>
          </p:nvSpPr>
          <p:spPr>
            <a:xfrm>
              <a:off x="6025320" y="1522440"/>
              <a:ext cx="43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17"/>
            <p:cNvSpPr/>
            <p:nvPr/>
          </p:nvSpPr>
          <p:spPr>
            <a:xfrm>
              <a:off x="6402600" y="1522440"/>
              <a:ext cx="43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18"/>
            <p:cNvSpPr/>
            <p:nvPr/>
          </p:nvSpPr>
          <p:spPr>
            <a:xfrm>
              <a:off x="6777000" y="1522440"/>
              <a:ext cx="43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19"/>
          <p:cNvSpPr/>
          <p:nvPr/>
        </p:nvSpPr>
        <p:spPr>
          <a:xfrm>
            <a:off x="1371600" y="1266840"/>
            <a:ext cx="60804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20"/>
          <p:cNvSpPr/>
          <p:nvPr/>
        </p:nvSpPr>
        <p:spPr>
          <a:xfrm>
            <a:off x="2209680" y="5257800"/>
            <a:ext cx="152640" cy="1508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21"/>
          <p:cNvSpPr/>
          <p:nvPr/>
        </p:nvSpPr>
        <p:spPr>
          <a:xfrm>
            <a:off x="2592360" y="4878360"/>
            <a:ext cx="150840" cy="1508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22"/>
          <p:cNvSpPr/>
          <p:nvPr/>
        </p:nvSpPr>
        <p:spPr>
          <a:xfrm>
            <a:off x="2973240" y="4344840"/>
            <a:ext cx="150840" cy="1508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23"/>
          <p:cNvSpPr/>
          <p:nvPr/>
        </p:nvSpPr>
        <p:spPr>
          <a:xfrm>
            <a:off x="3351240" y="3581280"/>
            <a:ext cx="155520" cy="1526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24"/>
          <p:cNvSpPr/>
          <p:nvPr/>
        </p:nvSpPr>
        <p:spPr>
          <a:xfrm>
            <a:off x="3733920" y="2973240"/>
            <a:ext cx="153720" cy="1508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25"/>
          <p:cNvSpPr/>
          <p:nvPr/>
        </p:nvSpPr>
        <p:spPr>
          <a:xfrm>
            <a:off x="4114800" y="2209680"/>
            <a:ext cx="150840" cy="1526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26"/>
          <p:cNvSpPr/>
          <p:nvPr/>
        </p:nvSpPr>
        <p:spPr>
          <a:xfrm>
            <a:off x="4495680" y="1828800"/>
            <a:ext cx="152640" cy="1508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27"/>
          <p:cNvSpPr/>
          <p:nvPr/>
        </p:nvSpPr>
        <p:spPr>
          <a:xfrm>
            <a:off x="4878360" y="1752480"/>
            <a:ext cx="150840" cy="1526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28"/>
          <p:cNvSpPr/>
          <p:nvPr/>
        </p:nvSpPr>
        <p:spPr>
          <a:xfrm>
            <a:off x="5180040" y="2436840"/>
            <a:ext cx="155520" cy="15552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29"/>
          <p:cNvSpPr/>
          <p:nvPr/>
        </p:nvSpPr>
        <p:spPr>
          <a:xfrm>
            <a:off x="5562720" y="3276720"/>
            <a:ext cx="153720" cy="15372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30"/>
          <p:cNvSpPr/>
          <p:nvPr/>
        </p:nvSpPr>
        <p:spPr>
          <a:xfrm>
            <a:off x="5943600" y="4191120"/>
            <a:ext cx="150840" cy="15372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1"/>
          <p:cNvSpPr/>
          <p:nvPr/>
        </p:nvSpPr>
        <p:spPr>
          <a:xfrm>
            <a:off x="6324480" y="4878360"/>
            <a:ext cx="152640" cy="1508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2"/>
          <p:cNvSpPr/>
          <p:nvPr/>
        </p:nvSpPr>
        <p:spPr>
          <a:xfrm flipV="1">
            <a:off x="2286000" y="4952520"/>
            <a:ext cx="380880" cy="3826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3"/>
          <p:cNvSpPr/>
          <p:nvPr/>
        </p:nvSpPr>
        <p:spPr>
          <a:xfrm flipH="1">
            <a:off x="2666520" y="4421160"/>
            <a:ext cx="382680" cy="5317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34"/>
          <p:cNvSpPr/>
          <p:nvPr/>
        </p:nvSpPr>
        <p:spPr>
          <a:xfrm flipH="1">
            <a:off x="3049560" y="3657600"/>
            <a:ext cx="380880" cy="763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5"/>
          <p:cNvSpPr/>
          <p:nvPr/>
        </p:nvSpPr>
        <p:spPr>
          <a:xfrm flipH="1">
            <a:off x="3430440" y="3049560"/>
            <a:ext cx="378000" cy="6080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6"/>
          <p:cNvSpPr/>
          <p:nvPr/>
        </p:nvSpPr>
        <p:spPr>
          <a:xfrm flipH="1">
            <a:off x="3808080" y="2286000"/>
            <a:ext cx="382680" cy="763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37"/>
          <p:cNvSpPr/>
          <p:nvPr/>
        </p:nvSpPr>
        <p:spPr>
          <a:xfrm flipH="1">
            <a:off x="4191120" y="1905120"/>
            <a:ext cx="380880" cy="3808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38"/>
          <p:cNvSpPr/>
          <p:nvPr/>
        </p:nvSpPr>
        <p:spPr>
          <a:xfrm flipH="1">
            <a:off x="4572000" y="1828800"/>
            <a:ext cx="380880" cy="763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9"/>
          <p:cNvSpPr/>
          <p:nvPr/>
        </p:nvSpPr>
        <p:spPr>
          <a:xfrm>
            <a:off x="4952880" y="1828800"/>
            <a:ext cx="306360" cy="6872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40"/>
          <p:cNvSpPr/>
          <p:nvPr/>
        </p:nvSpPr>
        <p:spPr>
          <a:xfrm>
            <a:off x="5259240" y="2516040"/>
            <a:ext cx="378000" cy="8352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41"/>
          <p:cNvSpPr/>
          <p:nvPr/>
        </p:nvSpPr>
        <p:spPr>
          <a:xfrm>
            <a:off x="5637240" y="3351240"/>
            <a:ext cx="382680" cy="9144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42"/>
          <p:cNvSpPr/>
          <p:nvPr/>
        </p:nvSpPr>
        <p:spPr>
          <a:xfrm>
            <a:off x="6019920" y="4265640"/>
            <a:ext cx="380880" cy="6872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3"/>
          <p:cNvSpPr/>
          <p:nvPr/>
        </p:nvSpPr>
        <p:spPr>
          <a:xfrm>
            <a:off x="2286000" y="230040"/>
            <a:ext cx="57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4"/>
          <p:cNvSpPr/>
          <p:nvPr/>
        </p:nvSpPr>
        <p:spPr>
          <a:xfrm>
            <a:off x="1601640" y="230040"/>
            <a:ext cx="632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月平均气温变化情况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5"/>
          <p:cNvSpPr/>
          <p:nvPr/>
        </p:nvSpPr>
        <p:spPr>
          <a:xfrm>
            <a:off x="6400800" y="838080"/>
            <a:ext cx="175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月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46"/>
          <p:cNvSpPr/>
          <p:nvPr/>
        </p:nvSpPr>
        <p:spPr>
          <a:xfrm>
            <a:off x="2058840" y="1065240"/>
            <a:ext cx="1598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2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单位：摄氏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47"/>
          <p:cNvSpPr/>
          <p:nvPr/>
        </p:nvSpPr>
        <p:spPr>
          <a:xfrm>
            <a:off x="3430440" y="3657600"/>
            <a:ext cx="60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48"/>
          <p:cNvSpPr/>
          <p:nvPr/>
        </p:nvSpPr>
        <p:spPr>
          <a:xfrm>
            <a:off x="2436840" y="4572000"/>
            <a:ext cx="6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9"/>
          <p:cNvSpPr/>
          <p:nvPr/>
        </p:nvSpPr>
        <p:spPr>
          <a:xfrm>
            <a:off x="2743200" y="4114800"/>
            <a:ext cx="60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50"/>
          <p:cNvSpPr/>
          <p:nvPr/>
        </p:nvSpPr>
        <p:spPr>
          <a:xfrm>
            <a:off x="6551640" y="4802040"/>
            <a:ext cx="6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1"/>
          <p:cNvSpPr/>
          <p:nvPr/>
        </p:nvSpPr>
        <p:spPr>
          <a:xfrm>
            <a:off x="3808440" y="289404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52"/>
          <p:cNvSpPr/>
          <p:nvPr/>
        </p:nvSpPr>
        <p:spPr>
          <a:xfrm>
            <a:off x="4265640" y="2286000"/>
            <a:ext cx="6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53"/>
          <p:cNvSpPr/>
          <p:nvPr/>
        </p:nvSpPr>
        <p:spPr>
          <a:xfrm>
            <a:off x="4191120" y="1612800"/>
            <a:ext cx="61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4"/>
          <p:cNvSpPr/>
          <p:nvPr/>
        </p:nvSpPr>
        <p:spPr>
          <a:xfrm>
            <a:off x="5105520" y="1601640"/>
            <a:ext cx="610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55"/>
          <p:cNvSpPr/>
          <p:nvPr/>
        </p:nvSpPr>
        <p:spPr>
          <a:xfrm>
            <a:off x="5335560" y="2286000"/>
            <a:ext cx="60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6"/>
          <p:cNvSpPr/>
          <p:nvPr/>
        </p:nvSpPr>
        <p:spPr>
          <a:xfrm>
            <a:off x="5716440" y="3200400"/>
            <a:ext cx="60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7"/>
          <p:cNvSpPr/>
          <p:nvPr/>
        </p:nvSpPr>
        <p:spPr>
          <a:xfrm>
            <a:off x="6094440" y="403848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8"/>
          <p:cNvSpPr/>
          <p:nvPr/>
        </p:nvSpPr>
        <p:spPr>
          <a:xfrm>
            <a:off x="2058840" y="495288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9"/>
          <p:cNvSpPr/>
          <p:nvPr/>
        </p:nvSpPr>
        <p:spPr>
          <a:xfrm>
            <a:off x="8229600" y="457200"/>
            <a:ext cx="91440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0"/>
          <p:cNvSpPr/>
          <p:nvPr/>
        </p:nvSpPr>
        <p:spPr>
          <a:xfrm>
            <a:off x="6248520" y="4210200"/>
            <a:ext cx="1981080" cy="2303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折线统计图的特点：易于显示数据的变化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5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1DF8-E8E1-4993-9B50-29B8E0924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6443640" y="5445000"/>
            <a:ext cx="223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900000" y="83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统计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统计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数据资料各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042920" y="234936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统计表表示数据具有准确、系统、条理、方便阅读、便于计算等优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缺少直观，不易看清数据的特点和规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042920" y="3860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统计图可以直观表示各部分数量的大小、百分比结构、变化趋势和规律等，但不足之处是表示不够准确，所以对有的统计图要在适当的地方标注原始数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DF29-ED78-4731-9F80-9C9AB1291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395280" y="692280"/>
            <a:ext cx="806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刚才我们对全班同学都进行了调查，像这样考察全体对象的调查叫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全面调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也称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普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我国进行的第五次人口普查就是一次全面调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539640" y="5076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cc00"/>
                </a:solidFill>
                <a:latin typeface="Arial"/>
                <a:ea typeface="华文隶书"/>
              </a:rPr>
              <a:t>5</a:t>
            </a:r>
            <a:r>
              <a:rPr b="1" i="1" lang="zh-CN" sz="4800" spc="-1" strike="noStrike">
                <a:solidFill>
                  <a:srgbClr val="00cc00"/>
                </a:solidFill>
                <a:latin typeface="Arial"/>
              </a:rPr>
              <a:t>、全面调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3528-34BF-4158-8533-21F4AEF3D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658800" y="47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典型例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268200" y="2637000"/>
            <a:ext cx="8525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要清楚地表明一病人的体温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情况，应选择的统计图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扇形统计图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条形统计图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折线统计图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以上都不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D402-9483-43CB-93F8-E81382DD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331920" y="1984320"/>
            <a:ext cx="8525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某音乐行出售三种音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即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典音乐、流行音乐、民族音乐，为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这三种音乐唱片的销售量的百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，应该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扇形统计图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折线统计图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条形统计图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以上都可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42C9-0898-4E6E-9F16-1A02DD403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F569-3F6A-4DEE-A052-F358B3F52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第一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E3C9-BE85-4CA1-9067-730FBBD03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映某种股票的涨跌情况，应选择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条形统计图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折线统计图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扇形统计图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直方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300B-A3F7-4E98-8F6E-DDF0E07FB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03120" y="1911240"/>
            <a:ext cx="8661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某班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其中三好学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优秀学生干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在扇形统计图上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示三好学生和优秀学生干部人数的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角分别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1E61-33D8-41FA-908F-9071CA2C6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811080" y="1109880"/>
            <a:ext cx="584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如图所示的扇形图是对某班学生知道父母生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况的调查，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示只知道母亲生日，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示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道父亲生日，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示知道父母亲两人生日，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示都不知道．若该班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名学生，则知道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亲生日的人数有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4%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2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3665520" y="3116160"/>
            <a:ext cx="4623840" cy="4500360"/>
            <a:chOff x="3665520" y="3116160"/>
            <a:chExt cx="4623840" cy="4500360"/>
          </a:xfrm>
        </p:grpSpPr>
        <p:grpSp>
          <p:nvGrpSpPr>
            <p:cNvPr id="381" name="Group 4"/>
            <p:cNvGrpSpPr/>
            <p:nvPr/>
          </p:nvGrpSpPr>
          <p:grpSpPr>
            <a:xfrm>
              <a:off x="3665520" y="3116160"/>
              <a:ext cx="4623840" cy="4127400"/>
              <a:chOff x="3665520" y="3116160"/>
              <a:chExt cx="4623840" cy="4127400"/>
            </a:xfrm>
          </p:grpSpPr>
          <p:grpSp>
            <p:nvGrpSpPr>
              <p:cNvPr id="382" name="Group 5"/>
              <p:cNvGrpSpPr/>
              <p:nvPr/>
            </p:nvGrpSpPr>
            <p:grpSpPr>
              <a:xfrm>
                <a:off x="3665520" y="3116160"/>
                <a:ext cx="4349160" cy="4127400"/>
                <a:chOff x="3665520" y="3116160"/>
                <a:chExt cx="4349160" cy="4127400"/>
              </a:xfrm>
            </p:grpSpPr>
            <p:sp>
              <p:nvSpPr>
                <p:cNvPr id="383" name="Oval 6"/>
                <p:cNvSpPr/>
                <p:nvPr/>
              </p:nvSpPr>
              <p:spPr>
                <a:xfrm rot="9461400">
                  <a:off x="4114440" y="3657240"/>
                  <a:ext cx="3451320" cy="3045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"/>
                <p:cNvSpPr/>
                <p:nvPr/>
              </p:nvSpPr>
              <p:spPr>
                <a:xfrm rot="9461400">
                  <a:off x="5676120" y="4330080"/>
                  <a:ext cx="1596240" cy="561240"/>
                </a:xfrm>
                <a:custGeom>
                  <a:avLst/>
                  <a:gdLst>
                    <a:gd name="textAreaLeft" fmla="*/ 0 w 1596240"/>
                    <a:gd name="textAreaRight" fmla="*/ 1596600 w 15962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149" h="458">
                      <a:moveTo>
                        <a:pt x="1149" y="0"/>
                      </a:moveTo>
                      <a:lnTo>
                        <a:pt x="0" y="4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8"/>
                <p:cNvSpPr/>
                <p:nvPr/>
              </p:nvSpPr>
              <p:spPr>
                <a:xfrm rot="9461400">
                  <a:off x="5992200" y="4917960"/>
                  <a:ext cx="1232640" cy="1060200"/>
                </a:xfrm>
                <a:custGeom>
                  <a:avLst/>
                  <a:gdLst>
                    <a:gd name="textAreaLeft" fmla="*/ 0 w 1232640"/>
                    <a:gd name="textAreaRight" fmla="*/ 1233000 w 1232640"/>
                    <a:gd name="textAreaTop" fmla="*/ 0 h 1060200"/>
                    <a:gd name="textAreaBottom" fmla="*/ 1060560 h 1060200"/>
                  </a:gdLst>
                  <a:ahLst/>
                  <a:rect l="textAreaLeft" t="textAreaTop" r="textAreaRight" b="textAreaBottom"/>
                  <a:pathLst>
                    <a:path w="887" h="865">
                      <a:moveTo>
                        <a:pt x="887" y="86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9"/>
                <p:cNvSpPr/>
                <p:nvPr/>
              </p:nvSpPr>
              <p:spPr>
                <a:xfrm rot="9461400">
                  <a:off x="5811480" y="4870080"/>
                  <a:ext cx="1706040" cy="147960"/>
                </a:xfrm>
                <a:custGeom>
                  <a:avLst/>
                  <a:gdLst>
                    <a:gd name="textAreaLeft" fmla="*/ 0 w 1706040"/>
                    <a:gd name="textAreaRight" fmla="*/ 1706400 w 170604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1228" h="121">
                      <a:moveTo>
                        <a:pt x="1228" y="121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10"/>
                <p:cNvSpPr/>
                <p:nvPr/>
              </p:nvSpPr>
              <p:spPr>
                <a:xfrm rot="9461400">
                  <a:off x="5801040" y="5150880"/>
                  <a:ext cx="79200" cy="69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11"/>
                <p:cNvSpPr/>
                <p:nvPr/>
              </p:nvSpPr>
              <p:spPr>
                <a:xfrm flipH="1">
                  <a:off x="4255200" y="5181840"/>
                  <a:ext cx="1581120" cy="64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Text Box 12"/>
              <p:cNvSpPr/>
              <p:nvPr/>
            </p:nvSpPr>
            <p:spPr>
              <a:xfrm>
                <a:off x="6432120" y="4215960"/>
                <a:ext cx="107892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3"/>
              <p:cNvSpPr/>
              <p:nvPr/>
            </p:nvSpPr>
            <p:spPr>
              <a:xfrm>
                <a:off x="6726600" y="4683960"/>
                <a:ext cx="103968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4"/>
              <p:cNvSpPr/>
              <p:nvPr/>
            </p:nvSpPr>
            <p:spPr>
              <a:xfrm>
                <a:off x="6490800" y="5037840"/>
                <a:ext cx="1798560" cy="10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5050"/>
                    </a:solidFill>
                    <a:latin typeface="Times New Roman"/>
                  </a:rPr>
                  <a:t>12%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5"/>
              <p:cNvSpPr/>
              <p:nvPr/>
            </p:nvSpPr>
            <p:spPr>
              <a:xfrm>
                <a:off x="5281920" y="5292720"/>
                <a:ext cx="103968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6"/>
              <p:cNvSpPr/>
              <p:nvPr/>
            </p:nvSpPr>
            <p:spPr>
              <a:xfrm>
                <a:off x="4662720" y="3919320"/>
                <a:ext cx="103968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7"/>
              <p:cNvSpPr/>
              <p:nvPr/>
            </p:nvSpPr>
            <p:spPr>
              <a:xfrm>
                <a:off x="4544640" y="4382280"/>
                <a:ext cx="1798560" cy="10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5050"/>
                    </a:solidFill>
                    <a:latin typeface="Times New Roman"/>
                  </a:rPr>
                  <a:t>44%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8"/>
              <p:cNvSpPr/>
              <p:nvPr/>
            </p:nvSpPr>
            <p:spPr>
              <a:xfrm>
                <a:off x="5075640" y="5766120"/>
                <a:ext cx="1798560" cy="10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5050"/>
                    </a:solidFill>
                    <a:latin typeface="Times New Roman"/>
                  </a:rPr>
                  <a:t>38%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19"/>
            <p:cNvSpPr/>
            <p:nvPr/>
          </p:nvSpPr>
          <p:spPr>
            <a:xfrm>
              <a:off x="4669200" y="6653880"/>
              <a:ext cx="2889360" cy="96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66"/>
                  </a:solidFill>
                  <a:latin typeface="Times New Roman"/>
                </a:rPr>
                <a:t>（第</a:t>
              </a:r>
              <a:r>
                <a:rPr b="0" lang="en-US" sz="900" spc="-1" strike="noStrike">
                  <a:solidFill>
                    <a:srgbClr val="ffff66"/>
                  </a:solidFill>
                  <a:latin typeface="Times New Roman"/>
                </a:rPr>
                <a:t>9</a:t>
              </a:r>
              <a:r>
                <a:rPr b="0" lang="zh-CN" sz="900" spc="-1" strike="noStrike">
                  <a:solidFill>
                    <a:srgbClr val="ffff66"/>
                  </a:solidFill>
                  <a:latin typeface="Times New Roman"/>
                </a:rPr>
                <a:t>题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3B23-C6EB-4FB6-B995-FBD8A90CC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955440" y="765000"/>
            <a:ext cx="7226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如图，某校共有学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图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扇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别参加语、数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英三个兴趣小组的人数的百分比，规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人只能参加一个兴趣小组且每人均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课外小组，则不参加数学小组的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4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5724360" y="3867120"/>
            <a:ext cx="3013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12FA-7B8A-4E3D-9877-E8A0E3FFC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250920" y="1268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</a:rPr>
              <a:t>8.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条形图、扇形图、折线图、直方图各有什么特点？ 如何画这些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533520" y="58680"/>
            <a:ext cx="3673440" cy="1007640"/>
            <a:chOff x="533520" y="58680"/>
            <a:chExt cx="3673440" cy="1007640"/>
          </a:xfrm>
        </p:grpSpPr>
        <p:grpSp>
          <p:nvGrpSpPr>
            <p:cNvPr id="403" name="Group 4"/>
            <p:cNvGrpSpPr/>
            <p:nvPr/>
          </p:nvGrpSpPr>
          <p:grpSpPr>
            <a:xfrm>
              <a:off x="533520" y="58680"/>
              <a:ext cx="3673440" cy="1007640"/>
              <a:chOff x="533520" y="58680"/>
              <a:chExt cx="3673440" cy="1007640"/>
            </a:xfrm>
          </p:grpSpPr>
          <p:grpSp>
            <p:nvGrpSpPr>
              <p:cNvPr id="404" name="Group 5"/>
              <p:cNvGrpSpPr/>
              <p:nvPr/>
            </p:nvGrpSpPr>
            <p:grpSpPr>
              <a:xfrm>
                <a:off x="533520" y="58680"/>
                <a:ext cx="1904760" cy="1007640"/>
                <a:chOff x="533520" y="58680"/>
                <a:chExt cx="1904760" cy="1007640"/>
              </a:xfrm>
            </p:grpSpPr>
            <p:sp>
              <p:nvSpPr>
                <p:cNvPr id="405" name="AutoShape 6"/>
                <p:cNvSpPr/>
                <p:nvPr/>
              </p:nvSpPr>
              <p:spPr>
                <a:xfrm>
                  <a:off x="533520" y="137880"/>
                  <a:ext cx="1861200" cy="92844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00ff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Text Box 7"/>
                <p:cNvSpPr/>
                <p:nvPr/>
              </p:nvSpPr>
              <p:spPr>
                <a:xfrm>
                  <a:off x="555840" y="58680"/>
                  <a:ext cx="18824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Text Box 8"/>
              <p:cNvSpPr/>
              <p:nvPr/>
            </p:nvSpPr>
            <p:spPr>
              <a:xfrm>
                <a:off x="593640" y="360360"/>
                <a:ext cx="192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议一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8" name="Picture 9" descr="qz_1rejo[1]"/>
              <p:cNvPicPr/>
              <p:nvPr/>
            </p:nvPicPr>
            <p:blipFill>
              <a:blip r:embed="rId1"/>
              <a:stretch/>
            </p:blipFill>
            <p:spPr>
              <a:xfrm>
                <a:off x="2438280" y="163800"/>
                <a:ext cx="1768680" cy="828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9" name="Picture 10" descr="Q_011"/>
            <p:cNvPicPr/>
            <p:nvPr/>
          </p:nvPicPr>
          <p:blipFill>
            <a:blip r:embed="rId2"/>
            <a:stretch/>
          </p:blipFill>
          <p:spPr>
            <a:xfrm>
              <a:off x="2972160" y="130320"/>
              <a:ext cx="392040" cy="34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Text Box 11"/>
          <p:cNvSpPr/>
          <p:nvPr/>
        </p:nvSpPr>
        <p:spPr>
          <a:xfrm>
            <a:off x="755640" y="2781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条形图能直观显示每组中的具体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755640" y="3500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扇形图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能直观显示部分在总体中所占的百分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755640" y="47322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折线图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能直观显示数据的变化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755640" y="5516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直方图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能直观显示数据的分布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A545-303E-4F9C-A22B-62D56F3C4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0" y="9810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画条形统计图的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写出统计图名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画出横、纵两条互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垂直的数轴（有时不画箭头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确定长方形的宽度和间隔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确定长度单位和数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制成长方形并在长方形上方写上数据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3"/>
          <p:cNvGraphicFramePr/>
          <p:nvPr/>
        </p:nvGraphicFramePr>
        <p:xfrm>
          <a:off x="5354640" y="0"/>
          <a:ext cx="3789360" cy="34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4640" y="0"/>
                    <a:ext cx="378936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4E60-468F-4FC5-87E7-766CAD293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476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绘制扇形图的一般步骤有那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468360" y="22003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各部分量占总量的百分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539640" y="306396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相应扇形圆心角的度数                 （圆心角的度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应部分量所占总量的百分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3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539640" y="4648320"/>
            <a:ext cx="74883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圆心角的度数画出各个扇形，并在图上标出各扇形所代表的内容及所占的百分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5724360" y="0"/>
          <a:ext cx="3419640" cy="26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0"/>
                    <a:ext cx="341964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B865-4DCB-401D-BA6E-86BDD945B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0" y="73656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画折线统计图的步骤：           （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写出统计图名称；         （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画出横、纵两条互相垂直的数轴（有时不画箭头），分别表示两个标目的数据。                 （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根据横、纵各个方向上的各对对应的标目数据画点。             （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用线段把每相邻两点连接起来。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3"/>
          <p:cNvGraphicFramePr/>
          <p:nvPr/>
        </p:nvGraphicFramePr>
        <p:xfrm>
          <a:off x="6300720" y="0"/>
          <a:ext cx="2843280" cy="217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0"/>
                    <a:ext cx="28432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1282-977B-4937-8A8A-94F6E0133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3760920" y="0"/>
            <a:ext cx="1400040" cy="70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识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3220200" y="4221000"/>
            <a:ext cx="1399320" cy="187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形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147560" y="4221000"/>
            <a:ext cx="1399320" cy="187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扇形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5049000" y="4221000"/>
            <a:ext cx="1399320" cy="187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折线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5947560" y="4221000"/>
            <a:ext cx="1399320" cy="1944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方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4356000" y="3068640"/>
            <a:ext cx="2449440" cy="1168560"/>
            <a:chOff x="4356000" y="3068640"/>
            <a:chExt cx="2449440" cy="1168560"/>
          </a:xfrm>
        </p:grpSpPr>
        <p:sp>
          <p:nvSpPr>
            <p:cNvPr id="436" name="Line 8"/>
            <p:cNvSpPr/>
            <p:nvPr/>
          </p:nvSpPr>
          <p:spPr>
            <a:xfrm>
              <a:off x="5508360" y="3068640"/>
              <a:ext cx="0" cy="468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9"/>
            <p:cNvSpPr/>
            <p:nvPr/>
          </p:nvSpPr>
          <p:spPr>
            <a:xfrm>
              <a:off x="4356000" y="3517920"/>
              <a:ext cx="244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0"/>
            <p:cNvSpPr/>
            <p:nvPr/>
          </p:nvSpPr>
          <p:spPr>
            <a:xfrm>
              <a:off x="4356000" y="3517920"/>
              <a:ext cx="0" cy="7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1"/>
            <p:cNvSpPr/>
            <p:nvPr/>
          </p:nvSpPr>
          <p:spPr>
            <a:xfrm>
              <a:off x="5221080" y="3517920"/>
              <a:ext cx="0" cy="7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2"/>
            <p:cNvSpPr/>
            <p:nvPr/>
          </p:nvSpPr>
          <p:spPr>
            <a:xfrm>
              <a:off x="6084720" y="3517920"/>
              <a:ext cx="0" cy="7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6805440" y="3517920"/>
              <a:ext cx="0" cy="7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4"/>
          <p:cNvSpPr/>
          <p:nvPr/>
        </p:nvSpPr>
        <p:spPr>
          <a:xfrm>
            <a:off x="5847480" y="981000"/>
            <a:ext cx="1399320" cy="237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7276320" y="981000"/>
            <a:ext cx="1399320" cy="237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出结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6"/>
          <p:cNvSpPr/>
          <p:nvPr/>
        </p:nvSpPr>
        <p:spPr>
          <a:xfrm>
            <a:off x="1332000" y="1844640"/>
            <a:ext cx="1008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Object 17"/>
          <p:cNvGraphicFramePr/>
          <p:nvPr/>
        </p:nvGraphicFramePr>
        <p:xfrm>
          <a:off x="324000" y="3500280"/>
          <a:ext cx="139680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500280"/>
                    <a:ext cx="1396800" cy="312444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Line 18"/>
          <p:cNvSpPr/>
          <p:nvPr/>
        </p:nvSpPr>
        <p:spPr>
          <a:xfrm>
            <a:off x="900000" y="314172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9"/>
          <p:cNvSpPr/>
          <p:nvPr/>
        </p:nvSpPr>
        <p:spPr>
          <a:xfrm>
            <a:off x="1599480" y="981000"/>
            <a:ext cx="1399320" cy="22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收集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0"/>
          <p:cNvSpPr/>
          <p:nvPr/>
        </p:nvSpPr>
        <p:spPr>
          <a:xfrm>
            <a:off x="3130560" y="1846440"/>
            <a:ext cx="4316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1"/>
          <p:cNvSpPr/>
          <p:nvPr/>
        </p:nvSpPr>
        <p:spPr>
          <a:xfrm>
            <a:off x="3039480" y="909720"/>
            <a:ext cx="1399320" cy="22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理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2"/>
          <p:cNvSpPr/>
          <p:nvPr/>
        </p:nvSpPr>
        <p:spPr>
          <a:xfrm>
            <a:off x="4500720" y="184464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3"/>
          <p:cNvSpPr/>
          <p:nvPr/>
        </p:nvSpPr>
        <p:spPr>
          <a:xfrm>
            <a:off x="-56160" y="907920"/>
            <a:ext cx="1399320" cy="22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统计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4480920" y="909720"/>
            <a:ext cx="1399320" cy="22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楷体_GB2312"/>
              </a:rPr>
              <a:t>描述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5"/>
          <p:cNvSpPr/>
          <p:nvPr/>
        </p:nvSpPr>
        <p:spPr>
          <a:xfrm>
            <a:off x="5940360" y="184464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6"/>
          <p:cNvSpPr/>
          <p:nvPr/>
        </p:nvSpPr>
        <p:spPr>
          <a:xfrm>
            <a:off x="7308720" y="184464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26F3-2349-45CA-9723-76EB35CB0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250920" y="0"/>
            <a:ext cx="684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常见统计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3"/>
          <p:cNvGrpSpPr/>
          <p:nvPr/>
        </p:nvGrpSpPr>
        <p:grpSpPr>
          <a:xfrm>
            <a:off x="4859280" y="4292640"/>
            <a:ext cx="4066920" cy="2057400"/>
            <a:chOff x="4859280" y="4292640"/>
            <a:chExt cx="4066920" cy="2057400"/>
          </a:xfrm>
        </p:grpSpPr>
        <p:graphicFrame>
          <p:nvGraphicFramePr>
            <p:cNvPr id="459" name="Object 4"/>
            <p:cNvGraphicFramePr/>
            <p:nvPr/>
          </p:nvGraphicFramePr>
          <p:xfrm>
            <a:off x="4859280" y="4297680"/>
            <a:ext cx="4061160" cy="198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59280" y="4297680"/>
                      <a:ext cx="4061160" cy="198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1" name="Object 5"/>
            <p:cNvGraphicFramePr/>
            <p:nvPr/>
          </p:nvGraphicFramePr>
          <p:xfrm>
            <a:off x="4865040" y="4292640"/>
            <a:ext cx="4061160" cy="198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2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65040" y="4292640"/>
                      <a:ext cx="4061160" cy="198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Line 6"/>
            <p:cNvSpPr/>
            <p:nvPr/>
          </p:nvSpPr>
          <p:spPr>
            <a:xfrm>
              <a:off x="5126040" y="6009840"/>
              <a:ext cx="34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7"/>
            <p:cNvSpPr/>
            <p:nvPr/>
          </p:nvSpPr>
          <p:spPr>
            <a:xfrm flipV="1">
              <a:off x="5129280" y="4369680"/>
              <a:ext cx="0" cy="16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8"/>
            <p:cNvSpPr/>
            <p:nvPr/>
          </p:nvSpPr>
          <p:spPr>
            <a:xfrm>
              <a:off x="5094000" y="4425840"/>
              <a:ext cx="184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9"/>
            <p:cNvSpPr/>
            <p:nvPr/>
          </p:nvSpPr>
          <p:spPr>
            <a:xfrm>
              <a:off x="5199840" y="5952960"/>
              <a:ext cx="184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0"/>
            <p:cNvSpPr/>
            <p:nvPr/>
          </p:nvSpPr>
          <p:spPr>
            <a:xfrm>
              <a:off x="5733360" y="5952960"/>
              <a:ext cx="184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1"/>
            <p:cNvSpPr/>
            <p:nvPr/>
          </p:nvSpPr>
          <p:spPr>
            <a:xfrm>
              <a:off x="6319800" y="59529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2"/>
            <p:cNvSpPr/>
            <p:nvPr/>
          </p:nvSpPr>
          <p:spPr>
            <a:xfrm>
              <a:off x="6936840" y="59529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3"/>
            <p:cNvSpPr/>
            <p:nvPr/>
          </p:nvSpPr>
          <p:spPr>
            <a:xfrm>
              <a:off x="7438680" y="59529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14"/>
            <p:cNvSpPr/>
            <p:nvPr/>
          </p:nvSpPr>
          <p:spPr>
            <a:xfrm>
              <a:off x="7973280" y="5952960"/>
              <a:ext cx="184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5"/>
            <p:cNvSpPr/>
            <p:nvPr/>
          </p:nvSpPr>
          <p:spPr>
            <a:xfrm>
              <a:off x="8238960" y="56865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3" name="Object 16"/>
          <p:cNvGraphicFramePr/>
          <p:nvPr/>
        </p:nvGraphicFramePr>
        <p:xfrm>
          <a:off x="4284720" y="549360"/>
          <a:ext cx="4191120" cy="2813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7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549360"/>
                    <a:ext cx="419112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17"/>
          <p:cNvGraphicFramePr/>
          <p:nvPr/>
        </p:nvGraphicFramePr>
        <p:xfrm>
          <a:off x="468360" y="692280"/>
          <a:ext cx="3171600" cy="2809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7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692280"/>
                    <a:ext cx="317160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18"/>
          <p:cNvGraphicFramePr/>
          <p:nvPr/>
        </p:nvGraphicFramePr>
        <p:xfrm>
          <a:off x="395280" y="3789360"/>
          <a:ext cx="3543480" cy="271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7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3789360"/>
                    <a:ext cx="354348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518F-C35C-4DD2-B031-1CA8C0D05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371760" cy="232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5076720" y="0"/>
            <a:ext cx="349596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3132000" y="2349360"/>
            <a:ext cx="2737080" cy="15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5940360" y="3789360"/>
            <a:ext cx="259236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tretch/>
        </p:blipFill>
        <p:spPr>
          <a:xfrm>
            <a:off x="539640" y="3789360"/>
            <a:ext cx="2592360" cy="1655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6012000" y="2205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体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826920" y="234936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新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708360" y="3933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826920" y="5445000"/>
            <a:ext cx="20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娱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300720" y="5373720"/>
            <a:ext cx="17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.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戏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WordArt 12" descr=""/>
          <p:cNvPicPr/>
          <p:nvPr/>
        </p:nvPicPr>
        <p:blipFill>
          <a:blip r:embed="rId6"/>
          <a:stretch/>
        </p:blipFill>
        <p:spPr>
          <a:xfrm>
            <a:off x="676440" y="5851440"/>
            <a:ext cx="743076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26FD-BDBF-4A81-9E16-647B55D4A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FCB8-BC8A-46C2-8DD3-797719F70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0" y="1197000"/>
            <a:ext cx="8961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天，爸爸叫儿子去买一盒火柴。临出门前，爸爸嘱咐儿子要买能划燃的火柴。儿子拿着钱出门了，过了好一会儿，儿子才回到家。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火柴能划燃吗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爸爸问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都能划燃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这么肯定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儿子递过一盒划过的火柴，兴奋地说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每根都试过啦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WordArt 3"/>
          <p:cNvSpPr txBox="1"/>
          <p:nvPr/>
        </p:nvSpPr>
        <p:spPr>
          <a:xfrm>
            <a:off x="2749680" y="0"/>
            <a:ext cx="34588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创设情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0C6C-EF83-4557-94E1-7664E6EA2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284040" y="1639800"/>
            <a:ext cx="85028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问： 在这则笑话中，儿子采用的是什么调查方式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种调查方式好不好？还可采用什么方法调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背景17"/>
          <p:cNvPicPr/>
          <p:nvPr/>
        </p:nvPicPr>
        <p:blipFill>
          <a:blip r:embed="rId1"/>
          <a:stretch/>
        </p:blipFill>
        <p:spPr>
          <a:xfrm>
            <a:off x="6227640" y="-603360"/>
            <a:ext cx="2219400" cy="2664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花儿9"/>
          <p:cNvPicPr/>
          <p:nvPr/>
        </p:nvPicPr>
        <p:blipFill>
          <a:blip r:embed="rId2"/>
          <a:stretch/>
        </p:blipFill>
        <p:spPr>
          <a:xfrm>
            <a:off x="1116000" y="472428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7"/>
          <p:cNvPicPr/>
          <p:nvPr/>
        </p:nvPicPr>
        <p:blipFill>
          <a:blip r:embed="rId3"/>
          <a:stretch/>
        </p:blipFill>
        <p:spPr>
          <a:xfrm>
            <a:off x="7812000" y="6237360"/>
            <a:ext cx="324000" cy="3142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6"/>
          <p:cNvPicPr/>
          <p:nvPr/>
        </p:nvPicPr>
        <p:blipFill>
          <a:blip r:embed="rId4"/>
          <a:stretch/>
        </p:blipFill>
        <p:spPr>
          <a:xfrm>
            <a:off x="8317080" y="6237360"/>
            <a:ext cx="323640" cy="314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547A-FECD-4D63-8757-1EEA535AD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bt"/>
          <p:cNvPicPr/>
          <p:nvPr/>
        </p:nvPicPr>
        <p:blipFill>
          <a:blip r:embed="rId1"/>
          <a:stretch/>
        </p:blipFill>
        <p:spPr>
          <a:xfrm>
            <a:off x="439560" y="1481040"/>
            <a:ext cx="8458200" cy="51292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ZW_008"/>
          <p:cNvPicPr/>
          <p:nvPr/>
        </p:nvPicPr>
        <p:blipFill>
          <a:blip r:embed="rId2"/>
          <a:stretch/>
        </p:blipFill>
        <p:spPr>
          <a:xfrm>
            <a:off x="403200" y="5494320"/>
            <a:ext cx="2340000" cy="115272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5"/>
          <p:cNvSpPr/>
          <p:nvPr/>
        </p:nvSpPr>
        <p:spPr>
          <a:xfrm>
            <a:off x="3021120" y="5411880"/>
            <a:ext cx="533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要知道一锅汤的味道</a:t>
            </a:r>
            <a:r>
              <a:rPr b="1" i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i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该怎么办呢</a:t>
            </a:r>
            <a:r>
              <a:rPr b="1" i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ZW_008"/>
          <p:cNvPicPr/>
          <p:nvPr/>
        </p:nvPicPr>
        <p:blipFill>
          <a:blip r:embed="rId3"/>
          <a:stretch/>
        </p:blipFill>
        <p:spPr>
          <a:xfrm>
            <a:off x="0" y="5472000"/>
            <a:ext cx="2340000" cy="1152720"/>
          </a:xfrm>
          <a:prstGeom prst="rect">
            <a:avLst/>
          </a:prstGeom>
          <a:ln w="0">
            <a:noFill/>
          </a:ln>
        </p:spPr>
      </p:pic>
      <p:sp>
        <p:nvSpPr>
          <p:cNvPr id="496" name="WordArt 7"/>
          <p:cNvSpPr txBox="1"/>
          <p:nvPr/>
        </p:nvSpPr>
        <p:spPr>
          <a:xfrm>
            <a:off x="2909880" y="492120"/>
            <a:ext cx="345924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创设情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84D9-683B-4F37-873C-21325B01A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印军新型导弹性能神奇却无法发射使用(附图)"/>
          <p:cNvPicPr/>
          <p:nvPr/>
        </p:nvPicPr>
        <p:blipFill>
          <a:blip r:embed="rId1"/>
          <a:stretch/>
        </p:blipFill>
        <p:spPr>
          <a:xfrm>
            <a:off x="1116000" y="260280"/>
            <a:ext cx="7056360" cy="44262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"/>
          <p:cNvSpPr/>
          <p:nvPr/>
        </p:nvSpPr>
        <p:spPr>
          <a:xfrm>
            <a:off x="1655640" y="5084640"/>
            <a:ext cx="7777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Arial"/>
              </a:rPr>
              <a:t>想知道一批导弹的杀伤半径，采用什么调查方法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ZW_008"/>
          <p:cNvPicPr/>
          <p:nvPr/>
        </p:nvPicPr>
        <p:blipFill>
          <a:blip r:embed="rId2"/>
          <a:stretch/>
        </p:blipFill>
        <p:spPr>
          <a:xfrm>
            <a:off x="403200" y="5494320"/>
            <a:ext cx="2340000" cy="1152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ZW_008"/>
          <p:cNvPicPr/>
          <p:nvPr/>
        </p:nvPicPr>
        <p:blipFill>
          <a:blip r:embed="rId3"/>
          <a:stretch/>
        </p:blipFill>
        <p:spPr>
          <a:xfrm>
            <a:off x="0" y="5472000"/>
            <a:ext cx="2340000" cy="1152720"/>
          </a:xfrm>
          <a:prstGeom prst="rect">
            <a:avLst/>
          </a:prstGeom>
          <a:ln w="0">
            <a:noFill/>
          </a:ln>
        </p:spPr>
      </p:pic>
      <p:sp>
        <p:nvSpPr>
          <p:cNvPr id="502" name="WordArt 6"/>
          <p:cNvSpPr txBox="1"/>
          <p:nvPr/>
        </p:nvSpPr>
        <p:spPr>
          <a:xfrm>
            <a:off x="2793960" y="0"/>
            <a:ext cx="345924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创设情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2457-2C9A-4243-A24D-48DE7418B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2770200" y="304920"/>
            <a:ext cx="63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采用调查部分对象的方式来收集数据根据部分来估计整体的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叫做抽样调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 flipV="1" rot="10800000">
            <a:off x="1676520" y="2163240"/>
            <a:ext cx="64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要考察对象的全体叫做总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1990800" y="4038480"/>
            <a:ext cx="65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总体中所抽取的一部分个体叫做总体的一个样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806480" y="3092400"/>
            <a:ext cx="73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总体中每一个考察对象叫做个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 flipH="1">
            <a:off x="0" y="36504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抽样调查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98280" y="2124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总体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50760" y="2967120"/>
            <a:ext cx="21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个体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0" y="3962520"/>
            <a:ext cx="28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样本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152280" y="507348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样本容量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2692440" y="5105520"/>
            <a:ext cx="31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样本的个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5351-7642-4E31-9B6C-DBAF5622A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04920" y="1523880"/>
            <a:ext cx="8397720" cy="3581280"/>
            <a:chOff x="304920" y="1523880"/>
            <a:chExt cx="8397720" cy="3581280"/>
          </a:xfrm>
        </p:grpSpPr>
        <p:pic>
          <p:nvPicPr>
            <p:cNvPr id="516" name="Picture 3" descr=""/>
            <p:cNvPicPr/>
            <p:nvPr/>
          </p:nvPicPr>
          <p:blipFill>
            <a:blip r:embed="rId1"/>
            <a:stretch/>
          </p:blipFill>
          <p:spPr>
            <a:xfrm>
              <a:off x="304920" y="1591200"/>
              <a:ext cx="8397720" cy="35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Oval 4"/>
            <p:cNvSpPr/>
            <p:nvPr/>
          </p:nvSpPr>
          <p:spPr>
            <a:xfrm>
              <a:off x="4829040" y="4300200"/>
              <a:ext cx="995040" cy="579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抽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5"/>
            <p:cNvSpPr/>
            <p:nvPr/>
          </p:nvSpPr>
          <p:spPr>
            <a:xfrm>
              <a:off x="765000" y="1523880"/>
              <a:ext cx="995040" cy="580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总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"/>
            <p:cNvSpPr/>
            <p:nvPr/>
          </p:nvSpPr>
          <p:spPr>
            <a:xfrm>
              <a:off x="5373720" y="2457000"/>
              <a:ext cx="994680" cy="579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估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7"/>
            <p:cNvSpPr/>
            <p:nvPr/>
          </p:nvSpPr>
          <p:spPr>
            <a:xfrm>
              <a:off x="6949800" y="2358360"/>
              <a:ext cx="995040" cy="579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样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Oval 8"/>
          <p:cNvSpPr/>
          <p:nvPr/>
        </p:nvSpPr>
        <p:spPr>
          <a:xfrm>
            <a:off x="0" y="4702320"/>
            <a:ext cx="6600960" cy="2155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抽样调查是实际中应用非常广泛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一种调查方式，它是从总体中抽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样本进行调查，根据样本来估计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体的一种调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9" descr="3"/>
          <p:cNvPicPr/>
          <p:nvPr/>
        </p:nvPicPr>
        <p:blipFill>
          <a:blip r:embed="rId2"/>
          <a:stretch/>
        </p:blipFill>
        <p:spPr>
          <a:xfrm>
            <a:off x="4870440" y="-347760"/>
            <a:ext cx="4273560" cy="30276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0"/>
          <p:cNvSpPr/>
          <p:nvPr/>
        </p:nvSpPr>
        <p:spPr>
          <a:xfrm>
            <a:off x="0" y="0"/>
            <a:ext cx="53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整个地区的中小学生的视力情况是我们要考察的全体对象，称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6064200" y="440388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有实际被调查的小学生、初中生和高中生（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名）的视力情况组成一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样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4C1B-7B64-4AC1-964D-BB744710C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9154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一次考试中，考生有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名。怎样才能既省时又省力的了解到这些考生的数学平均成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52280" y="2743200"/>
            <a:ext cx="89917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总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＿＿＿＿＿＿＿＿＿＿＿＿＿＿＿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个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＿＿＿＿＿＿＿＿＿＿＿＿＿＿＿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9900ff"/>
                </a:solidFill>
                <a:latin typeface="黑体"/>
                <a:ea typeface="黑体"/>
              </a:rPr>
              <a:t>样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＿＿＿＿＿＿＿＿＿＿＿＿＿＿＿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样本的容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＿＿＿＿＿＿＿＿＿＿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3186720" y="2590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２万名考生数学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3293640" y="32446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其中每名考生的数学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3665520" y="38098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抽取的５００名考生的数学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358128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实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8" descr="023"/>
          <p:cNvPicPr/>
          <p:nvPr/>
        </p:nvPicPr>
        <p:blipFill>
          <a:blip r:embed="rId1"/>
          <a:stretch/>
        </p:blipFill>
        <p:spPr>
          <a:xfrm>
            <a:off x="0" y="0"/>
            <a:ext cx="12016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9"/>
          <p:cNvGrpSpPr/>
          <p:nvPr/>
        </p:nvGrpSpPr>
        <p:grpSpPr>
          <a:xfrm>
            <a:off x="71280" y="5334120"/>
            <a:ext cx="9072720" cy="1355760"/>
            <a:chOff x="71280" y="5334120"/>
            <a:chExt cx="9072720" cy="1355760"/>
          </a:xfrm>
        </p:grpSpPr>
        <p:pic>
          <p:nvPicPr>
            <p:cNvPr id="534" name="Picture 10" descr="b238"/>
            <p:cNvPicPr/>
            <p:nvPr/>
          </p:nvPicPr>
          <p:blipFill>
            <a:blip r:embed="rId2"/>
            <a:stretch/>
          </p:blipFill>
          <p:spPr>
            <a:xfrm>
              <a:off x="7802640" y="5334120"/>
              <a:ext cx="134136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11" descr=""/>
            <p:cNvPicPr/>
            <p:nvPr/>
          </p:nvPicPr>
          <p:blipFill>
            <a:blip r:embed="rId3"/>
            <a:stretch/>
          </p:blipFill>
          <p:spPr>
            <a:xfrm>
              <a:off x="71280" y="5883480"/>
              <a:ext cx="7956720" cy="52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Rectangle 12"/>
          <p:cNvSpPr/>
          <p:nvPr/>
        </p:nvSpPr>
        <p:spPr>
          <a:xfrm>
            <a:off x="4360320" y="4525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５０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344F-5D83-4D0E-AD2B-10AF8D479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"/>
          <p:cNvSpPr/>
          <p:nvPr/>
        </p:nvSpPr>
        <p:spPr>
          <a:xfrm>
            <a:off x="0" y="0"/>
            <a:ext cx="1600200" cy="990720"/>
          </a:xfrm>
          <a:prstGeom prst="cloudCallout">
            <a:avLst>
              <a:gd name="adj1" fmla="val 60615"/>
              <a:gd name="adj2" fmla="val 3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3"/>
          <p:cNvGrpSpPr/>
          <p:nvPr/>
        </p:nvGrpSpPr>
        <p:grpSpPr>
          <a:xfrm>
            <a:off x="71280" y="5410080"/>
            <a:ext cx="9072720" cy="1355760"/>
            <a:chOff x="71280" y="5410080"/>
            <a:chExt cx="9072720" cy="1355760"/>
          </a:xfrm>
        </p:grpSpPr>
        <p:pic>
          <p:nvPicPr>
            <p:cNvPr id="540" name="Picture 4" descr="b238"/>
            <p:cNvPicPr/>
            <p:nvPr/>
          </p:nvPicPr>
          <p:blipFill>
            <a:blip r:embed="rId1"/>
            <a:stretch/>
          </p:blipFill>
          <p:spPr>
            <a:xfrm>
              <a:off x="7802640" y="5410080"/>
              <a:ext cx="134136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5" descr=""/>
            <p:cNvPicPr/>
            <p:nvPr/>
          </p:nvPicPr>
          <p:blipFill>
            <a:blip r:embed="rId2"/>
            <a:stretch/>
          </p:blipFill>
          <p:spPr>
            <a:xfrm>
              <a:off x="71280" y="5959440"/>
              <a:ext cx="7956720" cy="528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2" name=""/>
          <p:cNvGraphicFramePr/>
          <p:nvPr/>
        </p:nvGraphicFramePr>
        <p:xfrm>
          <a:off x="380880" y="1066680"/>
          <a:ext cx="8763120" cy="4343400"/>
        </p:xfrm>
        <a:graphic>
          <a:graphicData uri="http://schemas.openxmlformats.org/drawingml/2006/table">
            <a:tbl>
              <a:tblPr/>
              <a:tblGrid>
                <a:gridCol w="1752840"/>
                <a:gridCol w="1981080"/>
                <a:gridCol w="1752480"/>
                <a:gridCol w="1524240"/>
                <a:gridCol w="17524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调查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适宜情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调查对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优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缺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全面调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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数较少</a:t>
                      </a: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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结果有特殊要求和特殊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全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非常准确的得出总体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有时费时费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抽样调查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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数较多</a:t>
                      </a: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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结果具有破坏性或危害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样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总体中一部分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省时省力．范围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只能估计出总体的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Text Box 32"/>
          <p:cNvSpPr/>
          <p:nvPr/>
        </p:nvSpPr>
        <p:spPr>
          <a:xfrm>
            <a:off x="2286000" y="2588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全面调查与抽样调查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95CD-8E0F-452B-B192-0BD0832FA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609480" y="18277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某校有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0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生，要想了解全校学生对新闻、体育、动画、娱乐、戏曲五类电视节目的喜爱情况，你打算怎样进行调查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066680" y="3505320"/>
            <a:ext cx="541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新魏"/>
              </a:rPr>
              <a:t>　抽样调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top_1"/>
          <p:cNvPicPr/>
          <p:nvPr/>
        </p:nvPicPr>
        <p:blipFill>
          <a:blip r:embed="rId1"/>
          <a:stretch/>
        </p:blipFill>
        <p:spPr>
          <a:xfrm>
            <a:off x="0" y="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5"/>
          <p:cNvSpPr/>
          <p:nvPr/>
        </p:nvSpPr>
        <p:spPr>
          <a:xfrm>
            <a:off x="4501080" y="5486400"/>
            <a:ext cx="2719800" cy="703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Arial"/>
                <a:ea typeface="隶书"/>
              </a:rPr>
              <a:t>　样本容量？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1828800" y="5486400"/>
            <a:ext cx="2133720" cy="703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Arial"/>
                <a:ea typeface="隶书"/>
              </a:rPr>
              <a:t>样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2895480" y="4572000"/>
            <a:ext cx="2667240" cy="914400"/>
            <a:chOff x="2895480" y="4572000"/>
            <a:chExt cx="2667240" cy="914400"/>
          </a:xfrm>
        </p:grpSpPr>
        <p:grpSp>
          <p:nvGrpSpPr>
            <p:cNvPr id="551" name="Group 8"/>
            <p:cNvGrpSpPr/>
            <p:nvPr/>
          </p:nvGrpSpPr>
          <p:grpSpPr>
            <a:xfrm>
              <a:off x="2895480" y="4572000"/>
              <a:ext cx="2667240" cy="914400"/>
              <a:chOff x="2895480" y="4572000"/>
              <a:chExt cx="2667240" cy="914400"/>
            </a:xfrm>
          </p:grpSpPr>
          <p:sp>
            <p:nvSpPr>
              <p:cNvPr id="552" name="Line 9"/>
              <p:cNvSpPr/>
              <p:nvPr/>
            </p:nvSpPr>
            <p:spPr>
              <a:xfrm>
                <a:off x="4114800" y="457200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0"/>
              <p:cNvSpPr/>
              <p:nvPr/>
            </p:nvSpPr>
            <p:spPr>
              <a:xfrm>
                <a:off x="2895480" y="4952880"/>
                <a:ext cx="2667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11"/>
              <p:cNvSpPr/>
              <p:nvPr/>
            </p:nvSpPr>
            <p:spPr>
              <a:xfrm>
                <a:off x="2895480" y="49528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Line 12"/>
            <p:cNvSpPr/>
            <p:nvPr/>
          </p:nvSpPr>
          <p:spPr>
            <a:xfrm>
              <a:off x="5562720" y="49528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Rectangle 13"/>
          <p:cNvSpPr/>
          <p:nvPr/>
        </p:nvSpPr>
        <p:spPr>
          <a:xfrm>
            <a:off x="533520" y="5486040"/>
            <a:ext cx="8610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华文新魏"/>
                <a:ea typeface="华文新魏"/>
              </a:rPr>
              <a:t>　　抽取多少名学生进行调查比较合适？被调查的学生又如何抽取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8641-7C3E-44D1-8874-B96CF64D3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250920" y="189000"/>
            <a:ext cx="8207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问题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要了解本班同学对新闻、体育、动画、娱乐、戏曲五类电视节目的喜爱情况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60A7-ABC0-4E60-8937-89787175C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457200" y="2025360"/>
            <a:ext cx="83059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39933"/>
                </a:solidFill>
                <a:latin typeface="华文新魏"/>
                <a:ea typeface="华文新魏"/>
              </a:rPr>
              <a:t>　　为了使样本能较好地反映总体情况，除了有合适的样本容量外，抽取时还要尽量使每一个个体有</a:t>
            </a:r>
            <a:r>
              <a:rPr b="1" lang="zh-CN" sz="3200" spc="-1" strike="noStrike">
                <a:solidFill>
                  <a:srgbClr val="cc00ff"/>
                </a:solidFill>
                <a:latin typeface="华文新魏"/>
                <a:ea typeface="华文新魏"/>
              </a:rPr>
              <a:t>相等的机会</a:t>
            </a:r>
            <a:r>
              <a:rPr b="1" lang="zh-CN" sz="3200" spc="-1" strike="noStrike">
                <a:solidFill>
                  <a:srgbClr val="339933"/>
                </a:solidFill>
                <a:latin typeface="华文新魏"/>
                <a:ea typeface="华文新魏"/>
              </a:rPr>
              <a:t>被抽到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如，可以在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0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生的注册学号中，随意抽取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学号，调查这些学号对应的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生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top_1"/>
          <p:cNvPicPr/>
          <p:nvPr/>
        </p:nvPicPr>
        <p:blipFill>
          <a:blip r:embed="rId1"/>
          <a:stretch/>
        </p:blipFill>
        <p:spPr>
          <a:xfrm>
            <a:off x="0" y="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5"/>
          <p:cNvSpPr/>
          <p:nvPr/>
        </p:nvSpPr>
        <p:spPr>
          <a:xfrm>
            <a:off x="457200" y="3899160"/>
            <a:ext cx="86868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归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上面抽取样本的过程中，总体中每一个个体都有相等的机会被抽到，像这样的抽样方法叫</a:t>
            </a:r>
            <a:r>
              <a:rPr b="1" lang="zh-CN" sz="4400" spc="-1" strike="noStrike">
                <a:solidFill>
                  <a:srgbClr val="cc00ff"/>
                </a:solidFill>
                <a:latin typeface="黑体"/>
                <a:ea typeface="黑体"/>
              </a:rPr>
              <a:t>简单随机抽样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0664-13BB-446B-AB5D-5CFE16FA7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"/>
          <p:cNvSpPr/>
          <p:nvPr/>
        </p:nvSpPr>
        <p:spPr>
          <a:xfrm>
            <a:off x="3108960" y="2241720"/>
            <a:ext cx="1155240" cy="1871640"/>
          </a:xfrm>
          <a:prstGeom prst="rect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整理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379880" y="2241720"/>
            <a:ext cx="1155240" cy="1871640"/>
          </a:xfrm>
          <a:prstGeom prst="rect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收集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4764600" y="2168640"/>
            <a:ext cx="1155240" cy="1871640"/>
          </a:xfrm>
          <a:prstGeom prst="rect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描述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6277320" y="2168640"/>
            <a:ext cx="1155240" cy="1871640"/>
          </a:xfrm>
          <a:prstGeom prst="rect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分析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7788600" y="2097000"/>
            <a:ext cx="1155240" cy="1944720"/>
          </a:xfrm>
          <a:prstGeom prst="rect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得出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>
            <a:off x="1116000" y="2673360"/>
            <a:ext cx="64620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8"/>
          <p:cNvSpPr/>
          <p:nvPr/>
        </p:nvSpPr>
        <p:spPr>
          <a:xfrm>
            <a:off x="1042920" y="3610080"/>
            <a:ext cx="649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179280" y="2168640"/>
            <a:ext cx="9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全面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179280" y="3176640"/>
            <a:ext cx="9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1"/>
          <p:cNvSpPr/>
          <p:nvPr/>
        </p:nvSpPr>
        <p:spPr>
          <a:xfrm>
            <a:off x="2843280" y="3105000"/>
            <a:ext cx="649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2"/>
          <p:cNvSpPr/>
          <p:nvPr/>
        </p:nvSpPr>
        <p:spPr>
          <a:xfrm>
            <a:off x="4500720" y="3105000"/>
            <a:ext cx="649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3"/>
          <p:cNvSpPr/>
          <p:nvPr/>
        </p:nvSpPr>
        <p:spPr>
          <a:xfrm>
            <a:off x="6012000" y="3105000"/>
            <a:ext cx="649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4"/>
          <p:cNvSpPr/>
          <p:nvPr/>
        </p:nvSpPr>
        <p:spPr>
          <a:xfrm>
            <a:off x="7524720" y="3033720"/>
            <a:ext cx="649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5"/>
          <p:cNvSpPr/>
          <p:nvPr/>
        </p:nvSpPr>
        <p:spPr>
          <a:xfrm>
            <a:off x="2627280" y="26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制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6"/>
          <p:cNvSpPr/>
          <p:nvPr/>
        </p:nvSpPr>
        <p:spPr>
          <a:xfrm>
            <a:off x="4284720" y="26002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绘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762120" y="9144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数据处理的一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017C-9B5C-4E21-AEAB-079886AA9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2"/>
          <p:cNvGrpSpPr/>
          <p:nvPr/>
        </p:nvGrpSpPr>
        <p:grpSpPr>
          <a:xfrm>
            <a:off x="71280" y="5410080"/>
            <a:ext cx="9072720" cy="1355760"/>
            <a:chOff x="71280" y="5410080"/>
            <a:chExt cx="9072720" cy="1355760"/>
          </a:xfrm>
        </p:grpSpPr>
        <p:pic>
          <p:nvPicPr>
            <p:cNvPr id="580" name="Picture 3" descr="b238"/>
            <p:cNvPicPr/>
            <p:nvPr/>
          </p:nvPicPr>
          <p:blipFill>
            <a:blip r:embed="rId1"/>
            <a:stretch/>
          </p:blipFill>
          <p:spPr>
            <a:xfrm>
              <a:off x="7802640" y="5410080"/>
              <a:ext cx="134136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" descr=""/>
            <p:cNvPicPr/>
            <p:nvPr/>
          </p:nvPicPr>
          <p:blipFill>
            <a:blip r:embed="rId2"/>
            <a:stretch/>
          </p:blipFill>
          <p:spPr>
            <a:xfrm>
              <a:off x="71280" y="5959440"/>
              <a:ext cx="7956720" cy="52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Text Box 5"/>
          <p:cNvSpPr/>
          <p:nvPr/>
        </p:nvSpPr>
        <p:spPr>
          <a:xfrm>
            <a:off x="76320" y="228600"/>
            <a:ext cx="9067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要调查下面几个问题，你认为应该作全面调查还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抽样调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要调查市场上某种食品含量是否符号国家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检测某城市的空气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调查一个村子所有家庭的收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调查人们对保护环境的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调查一个班级中的学生对建立班级英语角的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了解一批灯泡的使用寿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7543800" y="1522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5867280" y="2817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全面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5562720" y="3656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4800600" y="1903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0"/>
          <p:cNvSpPr/>
          <p:nvPr/>
        </p:nvSpPr>
        <p:spPr>
          <a:xfrm>
            <a:off x="5181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754380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全面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10DB-774A-4DCA-8F46-4BA21C448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210869"/>
          <p:cNvPicPr/>
          <p:nvPr/>
        </p:nvPicPr>
        <p:blipFill>
          <a:blip r:embed="rId1"/>
          <a:stretch/>
        </p:blipFill>
        <p:spPr>
          <a:xfrm>
            <a:off x="304920" y="1433520"/>
            <a:ext cx="8458200" cy="52052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808200" y="3578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4"/>
          <p:cNvSpPr/>
          <p:nvPr/>
        </p:nvSpPr>
        <p:spPr>
          <a:xfrm flipV="1">
            <a:off x="324000" y="4508280"/>
            <a:ext cx="5601960" cy="1944720"/>
          </a:xfrm>
          <a:prstGeom prst="cloudCallout">
            <a:avLst>
              <a:gd name="adj1" fmla="val 7972"/>
              <a:gd name="adj2" fmla="val 90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ZW_008"/>
          <p:cNvPicPr/>
          <p:nvPr/>
        </p:nvPicPr>
        <p:blipFill>
          <a:blip r:embed="rId2"/>
          <a:stretch/>
        </p:blipFill>
        <p:spPr>
          <a:xfrm>
            <a:off x="3882960" y="5270400"/>
            <a:ext cx="2340000" cy="11527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ZW_008"/>
          <p:cNvPicPr/>
          <p:nvPr/>
        </p:nvPicPr>
        <p:blipFill>
          <a:blip r:embed="rId3"/>
          <a:stretch/>
        </p:blipFill>
        <p:spPr>
          <a:xfrm>
            <a:off x="3479760" y="5248440"/>
            <a:ext cx="2340000" cy="115236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7"/>
          <p:cNvSpPr/>
          <p:nvPr/>
        </p:nvSpPr>
        <p:spPr>
          <a:xfrm>
            <a:off x="811080" y="4786200"/>
            <a:ext cx="475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zh-CN" sz="4400" spc="-1" strike="noStrike">
                <a:solidFill>
                  <a:srgbClr val="cc0000"/>
                </a:solidFill>
                <a:latin typeface="Arial"/>
              </a:rPr>
              <a:t>怎样估计鱼塘里有多少条鱼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2816280" y="641520"/>
            <a:ext cx="31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5BAB-F86D-4B30-A225-703D76FFE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0" y="0"/>
            <a:ext cx="861048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具体做法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一次捕捞出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条，把它们全部做上标记后放到池塘里，过一段时间进行第二次捕捞，若一共捕捞到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条鱼，其中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条鱼身上有标记，那么池塘里鱼的数目就可以通过近似比例关系，得到估计的数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其近似比例关系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池塘里有标记鱼的数目           第二次捕捞出有标记鱼的数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池塘中鱼的数目                       第二次捕捞出鱼的数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3821040" y="541800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4"/>
          <p:cNvSpPr/>
          <p:nvPr/>
        </p:nvSpPr>
        <p:spPr>
          <a:xfrm>
            <a:off x="565200" y="5637240"/>
            <a:ext cx="30002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4506840" y="5634000"/>
            <a:ext cx="38037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69F9-68F8-43F0-A349-2EC237F87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"/>
          <p:cNvSpPr/>
          <p:nvPr/>
        </p:nvSpPr>
        <p:spPr>
          <a:xfrm>
            <a:off x="380880" y="533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想一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47760" y="2147760"/>
            <a:ext cx="8610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堂课我们学会了为了统计调查某些事情，我们可以通过抽样调查的方法，也知道了抽样调查的重要性，那在具体调查某些数据时，可通过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哪些途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得到自己需要的数据以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如何整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批数据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WordArt 4"/>
          <p:cNvSpPr txBox="1"/>
          <p:nvPr/>
        </p:nvSpPr>
        <p:spPr>
          <a:xfrm>
            <a:off x="2071800" y="385920"/>
            <a:ext cx="527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畅所欲言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2273-D27A-49AA-8608-2D43A3BA7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838080" y="26622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0e0e"/>
                </a:solidFill>
                <a:latin typeface="Arial"/>
                <a:ea typeface="黑体"/>
              </a:rPr>
              <a:t>直接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1647720" y="3438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0e0e"/>
                </a:solidFill>
                <a:latin typeface="Arial"/>
                <a:ea typeface="黑体"/>
              </a:rPr>
              <a:t>通过查阅文献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3640" y="269568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0e0e"/>
                </a:solidFill>
                <a:latin typeface="Arial"/>
                <a:ea typeface="黑体"/>
              </a:rPr>
              <a:t>测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4643280" y="2695680"/>
            <a:ext cx="17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0e0e"/>
                </a:solidFill>
                <a:latin typeface="Arial"/>
                <a:ea typeface="黑体"/>
              </a:rPr>
              <a:t>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5595120" y="3438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0e0e"/>
                </a:solidFill>
                <a:latin typeface="Arial"/>
                <a:ea typeface="黑体"/>
              </a:rPr>
              <a:t>使用互联网查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6012000" y="2695680"/>
            <a:ext cx="221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0e0e"/>
                </a:solidFill>
                <a:latin typeface="Arial"/>
                <a:ea typeface="黑体"/>
              </a:rPr>
              <a:t>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3120840" y="1743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收集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WordArt 9"/>
          <p:cNvSpPr txBox="1"/>
          <p:nvPr/>
        </p:nvSpPr>
        <p:spPr>
          <a:xfrm>
            <a:off x="1989000" y="297000"/>
            <a:ext cx="527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畅所欲言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作业：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P 158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－－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1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B66A-1DE1-40A1-B104-FF3F292B6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181620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3" descr="未标题-2"/>
          <p:cNvPicPr/>
          <p:nvPr/>
        </p:nvPicPr>
        <p:blipFill>
          <a:blip r:embed="rId1"/>
          <a:stretch/>
        </p:blipFill>
        <p:spPr>
          <a:xfrm>
            <a:off x="380880" y="3048120"/>
            <a:ext cx="8431200" cy="14605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4"/>
          <p:cNvSpPr/>
          <p:nvPr/>
        </p:nvSpPr>
        <p:spPr>
          <a:xfrm>
            <a:off x="1851120" y="1959120"/>
            <a:ext cx="6848280" cy="146556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抽样调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  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——</a:t>
            </a:r>
            <a:r>
              <a:rPr b="1" i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层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533520" y="1905120"/>
            <a:ext cx="1304640" cy="74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WordArt 6"/>
          <p:cNvSpPr txBox="1"/>
          <p:nvPr/>
        </p:nvSpPr>
        <p:spPr>
          <a:xfrm>
            <a:off x="304920" y="20574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0.1.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22" name="Picture 7" descr="花儿9"/>
          <p:cNvPicPr/>
          <p:nvPr/>
        </p:nvPicPr>
        <p:blipFill>
          <a:blip r:embed="rId2"/>
          <a:stretch/>
        </p:blipFill>
        <p:spPr>
          <a:xfrm>
            <a:off x="7272360" y="5234040"/>
            <a:ext cx="18716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4678-026E-4D8F-B194-8F88597EA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"/>
          <p:cNvSpPr/>
          <p:nvPr/>
        </p:nvSpPr>
        <p:spPr>
          <a:xfrm>
            <a:off x="522360" y="1351080"/>
            <a:ext cx="8140680" cy="39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了了解我班学生的视力情况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以便提出保护视力的建议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3" descr="ZW_008"/>
          <p:cNvPicPr/>
          <p:nvPr/>
        </p:nvPicPr>
        <p:blipFill>
          <a:blip r:embed="rId1"/>
          <a:stretch/>
        </p:blipFill>
        <p:spPr>
          <a:xfrm>
            <a:off x="6176880" y="5705640"/>
            <a:ext cx="2340000" cy="1152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ZW_008"/>
          <p:cNvPicPr/>
          <p:nvPr/>
        </p:nvPicPr>
        <p:blipFill>
          <a:blip r:embed="rId2"/>
          <a:stretch/>
        </p:blipFill>
        <p:spPr>
          <a:xfrm>
            <a:off x="6804000" y="5705640"/>
            <a:ext cx="2340000" cy="115236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5"/>
          <p:cNvSpPr/>
          <p:nvPr/>
        </p:nvSpPr>
        <p:spPr>
          <a:xfrm>
            <a:off x="727200" y="3227400"/>
            <a:ext cx="782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你认为采用哪种调查方式较为妥当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WordArt 6" descr=""/>
          <p:cNvPicPr/>
          <p:nvPr/>
        </p:nvPicPr>
        <p:blipFill>
          <a:blip r:embed="rId3"/>
          <a:stretch/>
        </p:blipFill>
        <p:spPr>
          <a:xfrm>
            <a:off x="1371600" y="133200"/>
            <a:ext cx="1731960" cy="158616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7"/>
          <p:cNvSpPr/>
          <p:nvPr/>
        </p:nvSpPr>
        <p:spPr>
          <a:xfrm>
            <a:off x="2903400" y="5526000"/>
            <a:ext cx="27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全面调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700200" y="3537000"/>
            <a:ext cx="782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调查的步骤是怎样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4555-5336-4839-A2E9-2CF646AC1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684360" y="981000"/>
            <a:ext cx="8208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查问卷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   月   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179280" y="981000"/>
            <a:ext cx="8675280" cy="4066920"/>
            <a:chOff x="179280" y="981000"/>
            <a:chExt cx="8675280" cy="4066920"/>
          </a:xfrm>
        </p:grpSpPr>
        <p:sp>
          <p:nvSpPr>
            <p:cNvPr id="67" name="Line 4"/>
            <p:cNvSpPr/>
            <p:nvPr/>
          </p:nvSpPr>
          <p:spPr>
            <a:xfrm>
              <a:off x="179280" y="5047920"/>
              <a:ext cx="8675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5"/>
            <p:cNvGrpSpPr/>
            <p:nvPr/>
          </p:nvGrpSpPr>
          <p:grpSpPr>
            <a:xfrm>
              <a:off x="179280" y="981000"/>
              <a:ext cx="8674920" cy="4066560"/>
              <a:chOff x="179280" y="981000"/>
              <a:chExt cx="8674920" cy="4066560"/>
            </a:xfrm>
          </p:grpSpPr>
          <p:sp>
            <p:nvSpPr>
              <p:cNvPr id="69" name="Line 6"/>
              <p:cNvSpPr/>
              <p:nvPr/>
            </p:nvSpPr>
            <p:spPr>
              <a:xfrm>
                <a:off x="179280" y="981000"/>
                <a:ext cx="0" cy="406656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7"/>
              <p:cNvSpPr/>
              <p:nvPr/>
            </p:nvSpPr>
            <p:spPr>
              <a:xfrm>
                <a:off x="179280" y="981000"/>
                <a:ext cx="867492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8"/>
              <p:cNvSpPr/>
              <p:nvPr/>
            </p:nvSpPr>
            <p:spPr>
              <a:xfrm>
                <a:off x="8854200" y="981000"/>
                <a:ext cx="0" cy="406656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2" name="WordArt 9" descr=""/>
          <p:cNvPicPr/>
          <p:nvPr/>
        </p:nvPicPr>
        <p:blipFill>
          <a:blip r:embed="rId1"/>
          <a:stretch/>
        </p:blipFill>
        <p:spPr>
          <a:xfrm>
            <a:off x="2182680" y="-6480"/>
            <a:ext cx="4413240" cy="1067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250920" y="2071800"/>
            <a:ext cx="8497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在以下五类电视节目中，你最喜爱的是（     ）。             （单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新闻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体育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娱乐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戏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填完后，请将问卷交数学课代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179280" y="53038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想进一步了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男、女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爱节目的差异，问卷中还应该包含什么内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1616040" y="60879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卷中应该增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性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9BB2-F184-4B1D-9D14-2870631D0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"/>
          <p:cNvSpPr/>
          <p:nvPr/>
        </p:nvSpPr>
        <p:spPr>
          <a:xfrm>
            <a:off x="2513160" y="213192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015af"/>
                </a:solidFill>
                <a:latin typeface="Arial"/>
                <a:ea typeface="华文新魏"/>
              </a:rPr>
              <a:t>收集数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3784680" y="213192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015af"/>
                </a:solidFill>
                <a:latin typeface="Arial"/>
                <a:ea typeface="华文新魏"/>
              </a:rPr>
              <a:t>整理数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4863960" y="213192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015af"/>
                </a:solidFill>
                <a:latin typeface="Arial"/>
                <a:ea typeface="华文新魏"/>
              </a:rPr>
              <a:t>描述数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6880320" y="213192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新魏"/>
              </a:rPr>
              <a:t>得出结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6"/>
          <p:cNvSpPr/>
          <p:nvPr/>
        </p:nvSpPr>
        <p:spPr>
          <a:xfrm>
            <a:off x="1870200" y="2708280"/>
            <a:ext cx="57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7"/>
          <p:cNvSpPr/>
          <p:nvPr/>
        </p:nvSpPr>
        <p:spPr>
          <a:xfrm>
            <a:off x="3094200" y="2779560"/>
            <a:ext cx="571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8"/>
          <p:cNvSpPr/>
          <p:nvPr/>
        </p:nvSpPr>
        <p:spPr>
          <a:xfrm>
            <a:off x="4361040" y="27795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9"/>
          <p:cNvSpPr/>
          <p:nvPr/>
        </p:nvSpPr>
        <p:spPr>
          <a:xfrm>
            <a:off x="5970600" y="213192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新魏"/>
              </a:rPr>
              <a:t>分析数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0"/>
          <p:cNvSpPr/>
          <p:nvPr/>
        </p:nvSpPr>
        <p:spPr>
          <a:xfrm>
            <a:off x="5483160" y="2779560"/>
            <a:ext cx="343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1"/>
          <p:cNvSpPr/>
          <p:nvPr/>
        </p:nvSpPr>
        <p:spPr>
          <a:xfrm>
            <a:off x="6534000" y="277956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2986200" y="2266560"/>
            <a:ext cx="10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统计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4310640" y="2205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绘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2873520" y="4148280"/>
            <a:ext cx="1440" cy="28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15"/>
          <p:cNvGrpSpPr/>
          <p:nvPr/>
        </p:nvGrpSpPr>
        <p:grpSpPr>
          <a:xfrm>
            <a:off x="4141800" y="3429000"/>
            <a:ext cx="1828800" cy="647640"/>
            <a:chOff x="4141800" y="3429000"/>
            <a:chExt cx="1828800" cy="647640"/>
          </a:xfrm>
        </p:grpSpPr>
        <p:sp>
          <p:nvSpPr>
            <p:cNvPr id="646" name="Line 16"/>
            <p:cNvSpPr/>
            <p:nvPr/>
          </p:nvSpPr>
          <p:spPr>
            <a:xfrm>
              <a:off x="5105160" y="3429000"/>
              <a:ext cx="0" cy="36036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4141800" y="3789360"/>
              <a:ext cx="18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8"/>
            <p:cNvSpPr/>
            <p:nvPr/>
          </p:nvSpPr>
          <p:spPr>
            <a:xfrm>
              <a:off x="4170240" y="3789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9"/>
            <p:cNvSpPr/>
            <p:nvPr/>
          </p:nvSpPr>
          <p:spPr>
            <a:xfrm>
              <a:off x="5105160" y="3789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0"/>
            <p:cNvSpPr/>
            <p:nvPr/>
          </p:nvSpPr>
          <p:spPr>
            <a:xfrm>
              <a:off x="5970600" y="3789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21"/>
          <p:cNvSpPr/>
          <p:nvPr/>
        </p:nvSpPr>
        <p:spPr>
          <a:xfrm>
            <a:off x="3954600" y="407664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新魏"/>
              </a:rPr>
              <a:t>条形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2"/>
          <p:cNvSpPr/>
          <p:nvPr/>
        </p:nvSpPr>
        <p:spPr>
          <a:xfrm>
            <a:off x="4889520" y="407664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新魏"/>
              </a:rPr>
              <a:t>扇形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5754600" y="407664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新魏"/>
              </a:rPr>
              <a:t>折线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425520" y="2563920"/>
            <a:ext cx="118584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面调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1504800" y="220500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问卷调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26" descr="ZW_008"/>
          <p:cNvPicPr/>
          <p:nvPr/>
        </p:nvPicPr>
        <p:blipFill>
          <a:blip r:embed="rId1"/>
          <a:stretch/>
        </p:blipFill>
        <p:spPr>
          <a:xfrm>
            <a:off x="6440400" y="5319720"/>
            <a:ext cx="2340000" cy="11523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7" descr="ZW_008"/>
          <p:cNvPicPr/>
          <p:nvPr/>
        </p:nvPicPr>
        <p:blipFill>
          <a:blip r:embed="rId2"/>
          <a:stretch/>
        </p:blipFill>
        <p:spPr>
          <a:xfrm>
            <a:off x="7067520" y="5319720"/>
            <a:ext cx="2340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0F69-BE91-4125-9E07-402B6F798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"/>
          <p:cNvSpPr/>
          <p:nvPr/>
        </p:nvSpPr>
        <p:spPr>
          <a:xfrm>
            <a:off x="522360" y="1351080"/>
            <a:ext cx="8140680" cy="39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了了解椒江初一年级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0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学生的视力情况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中任意抽取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0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学生进行调查，以便提出保护视力的建议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3" descr="ZW_008"/>
          <p:cNvPicPr/>
          <p:nvPr/>
        </p:nvPicPr>
        <p:blipFill>
          <a:blip r:embed="rId1"/>
          <a:stretch/>
        </p:blipFill>
        <p:spPr>
          <a:xfrm>
            <a:off x="6176880" y="5705640"/>
            <a:ext cx="2340000" cy="11523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ZW_008"/>
          <p:cNvPicPr/>
          <p:nvPr/>
        </p:nvPicPr>
        <p:blipFill>
          <a:blip r:embed="rId2"/>
          <a:stretch/>
        </p:blipFill>
        <p:spPr>
          <a:xfrm>
            <a:off x="6804000" y="5705640"/>
            <a:ext cx="2340000" cy="1152360"/>
          </a:xfrm>
          <a:prstGeom prst="rect">
            <a:avLst/>
          </a:prstGeom>
          <a:ln w="0">
            <a:noFill/>
          </a:ln>
        </p:spPr>
      </p:pic>
      <p:pic>
        <p:nvPicPr>
          <p:cNvPr id="662" name="WordArt 5" descr=""/>
          <p:cNvPicPr/>
          <p:nvPr/>
        </p:nvPicPr>
        <p:blipFill>
          <a:blip r:embed="rId3"/>
          <a:stretch/>
        </p:blipFill>
        <p:spPr>
          <a:xfrm>
            <a:off x="1371600" y="-6480"/>
            <a:ext cx="1731960" cy="157968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6"/>
          <p:cNvSpPr/>
          <p:nvPr/>
        </p:nvSpPr>
        <p:spPr>
          <a:xfrm>
            <a:off x="260280" y="4149720"/>
            <a:ext cx="825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这种调查方式叫</a:t>
            </a:r>
            <a:r>
              <a:rPr b="0" lang="zh-CN" sz="6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   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166680" y="4130640"/>
            <a:ext cx="839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在这个问题中，总体 、个体、样本各是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5599080" y="4370400"/>
            <a:ext cx="27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ECDA-1CD4-4F82-B9F2-76257A97B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0" y="1371600"/>
            <a:ext cx="856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抽样调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种方法，它只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抽取了一部分对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进行调查，然后根据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样本数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推断全体对象的情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0" y="40100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如果在抽取样本的过程中，样本的数量和抽取的方法会影响样本的代表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2571-3EDA-44C7-86CE-A79B85F44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647640" y="20588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如果在抽取样本的过程中，总体的每一个个体都有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相等的机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被抽到，这样的抽样方法就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简单的随机抽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WordArt 3" descr=""/>
          <p:cNvPicPr/>
          <p:nvPr/>
        </p:nvPicPr>
        <p:blipFill>
          <a:blip r:embed="rId1"/>
          <a:stretch/>
        </p:blipFill>
        <p:spPr>
          <a:xfrm>
            <a:off x="3724200" y="4443480"/>
            <a:ext cx="269568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3D3E-A5F9-4FB1-8E21-2822E998C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11"/>
          <p:cNvPicPr/>
          <p:nvPr/>
        </p:nvPicPr>
        <p:blipFill>
          <a:blip r:embed="rId1"/>
          <a:stretch/>
        </p:blipFill>
        <p:spPr>
          <a:xfrm>
            <a:off x="343080" y="2554200"/>
            <a:ext cx="3412800" cy="411336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3"/>
          <p:cNvSpPr/>
          <p:nvPr/>
        </p:nvSpPr>
        <p:spPr>
          <a:xfrm>
            <a:off x="1444680" y="816120"/>
            <a:ext cx="762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了了解台州市中小学生的视力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提出保护视力的建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市准备对中小学生进行视力调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么如何调查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4184640" y="2941560"/>
            <a:ext cx="46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由于我市中小学生很多，如果采用全面调查既费时又费力。你能找出既省时省力，又能解决问题的办法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WordArt 5" descr=""/>
          <p:cNvPicPr/>
          <p:nvPr/>
        </p:nvPicPr>
        <p:blipFill>
          <a:blip r:embed="rId2"/>
          <a:stretch/>
        </p:blipFill>
        <p:spPr>
          <a:xfrm>
            <a:off x="317520" y="360360"/>
            <a:ext cx="1730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4F15-64C1-4AEA-B656-A2F5BE69B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4516560" y="679320"/>
            <a:ext cx="46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采取调查方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726080" y="2360520"/>
            <a:ext cx="441792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仅仅从小学学校抽取部分同学作为调查的对象，妥当吗？初中学段、高中学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4" descr="14"/>
          <p:cNvPicPr/>
          <p:nvPr/>
        </p:nvPicPr>
        <p:blipFill>
          <a:blip r:embed="rId1"/>
          <a:stretch/>
        </p:blipFill>
        <p:spPr>
          <a:xfrm>
            <a:off x="311040" y="419040"/>
            <a:ext cx="4297320" cy="6245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5"/>
          <p:cNvSpPr/>
          <p:nvPr/>
        </p:nvSpPr>
        <p:spPr>
          <a:xfrm>
            <a:off x="5253120" y="1363680"/>
            <a:ext cx="27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D72A-2962-4FCC-A3DF-A7B6491AB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调查的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中选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，城区一所、农村一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中三所：市直一所、郊区一所、农村一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学四所：市直一所、区直一所、市郊一所、农村一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调查人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中每年级抽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初中每年级抽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小学每年级抽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在抽取的人数中男女生各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539640" y="404640"/>
            <a:ext cx="8604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全市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所高中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400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所初中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多所小学，怎样选取调查学校及人数，才能较准确地反映出全市中小学生的视力情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4" descr="fl1"/>
          <p:cNvPicPr/>
          <p:nvPr/>
        </p:nvPicPr>
        <p:blipFill>
          <a:blip r:embed="rId1"/>
          <a:stretch/>
        </p:blipFill>
        <p:spPr>
          <a:xfrm>
            <a:off x="0" y="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5" descr="花1"/>
          <p:cNvPicPr/>
          <p:nvPr/>
        </p:nvPicPr>
        <p:blipFill>
          <a:blip r:embed="rId2"/>
          <a:stretch/>
        </p:blipFill>
        <p:spPr>
          <a:xfrm>
            <a:off x="7432560" y="5264280"/>
            <a:ext cx="1200240" cy="1268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5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8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1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4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0D0B-3CDF-4F7B-A1F6-8B0E6687F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"/>
          <p:cNvSpPr/>
          <p:nvPr/>
        </p:nvSpPr>
        <p:spPr>
          <a:xfrm>
            <a:off x="324000" y="2637000"/>
            <a:ext cx="858024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设计调查问卷应注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不能涉及提问者个人的观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提问人们不愿回答的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选择的答案尽可能全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应简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卷应简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490680" y="1052640"/>
            <a:ext cx="865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为了获得我市中小学生视力状况的数据，找出保护视力的措施，我们采用问卷调查，那么调查问卷中应包括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395280" y="333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隶书"/>
              </a:rPr>
              <a:t>1.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设计调查问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0C37-2BF0-452E-A9B2-A1BA4F9F5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方正姚体"/>
              </a:rPr>
              <a:t>中小学视力调查问卷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方正姚体"/>
              </a:rPr>
              <a:t>__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方正姚体"/>
              </a:rPr>
              <a:t>年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方正姚体"/>
              </a:rPr>
              <a:t>__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方正姚体"/>
              </a:rPr>
              <a:t>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方正姚体"/>
              </a:rPr>
              <a:t>__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方正姚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755640" y="1484280"/>
          <a:ext cx="7391520" cy="5175360"/>
        </p:xfrm>
        <a:graphic>
          <a:graphicData uri="http://schemas.openxmlformats.org/drawingml/2006/table">
            <a:tbl>
              <a:tblPr/>
              <a:tblGrid>
                <a:gridCol w="1293840"/>
                <a:gridCol w="946080"/>
                <a:gridCol w="1119240"/>
                <a:gridCol w="1120680"/>
                <a:gridCol w="1119240"/>
                <a:gridCol w="1792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视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左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矫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视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左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右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右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学习使用的灯具（    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日光灯  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白炽灯  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节能灯  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其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看书时眼睛与书本的距离（    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很近 （小于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cm)  B  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适中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0cm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左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是否躺着看书（    ）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经常  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很少  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从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平均每天看电视用时间大约是（    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平均每天使用电脑的时间大约是（    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你认为造成视力不良的原因有哪些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4" name="Picture 46" descr="花"/>
          <p:cNvPicPr/>
          <p:nvPr/>
        </p:nvPicPr>
        <p:blipFill>
          <a:blip r:embed="rId1"/>
          <a:stretch/>
        </p:blipFill>
        <p:spPr>
          <a:xfrm>
            <a:off x="6804000" y="5445000"/>
            <a:ext cx="1440000" cy="779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F996-8EB8-453A-89B5-0797DD523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216000" y="620280"/>
            <a:ext cx="8928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收集数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采用各种方式进行问卷调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1100880" y="3075120"/>
            <a:ext cx="241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整理数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1243080" y="4346640"/>
            <a:ext cx="39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列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835200" y="5315040"/>
            <a:ext cx="75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只对问卷的前一部分作整理与描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82B4-E0AA-41B9-9DE0-D7CFA8322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80880" y="5057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杂乱无章的数据不利于我们发现其中的规律，为了更清楚地了解数据所蕴含规律，需要对数据进行整理，统计中经常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格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整理数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如下表所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WordArt 3" descr=""/>
          <p:cNvPicPr/>
          <p:nvPr/>
        </p:nvPicPr>
        <p:blipFill>
          <a:blip r:embed="rId1"/>
          <a:stretch/>
        </p:blipFill>
        <p:spPr>
          <a:xfrm>
            <a:off x="1030320" y="255600"/>
            <a:ext cx="2322360" cy="615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79280" y="981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调查问卷，可以收集到全班每位同学最喜爱的节目的编号（字母），我们把它们称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066680" y="304704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CCADBCADCD     CEABDDBC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DBDCDDDCDC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EBBDDCCE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ABDDCBCBD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22FF-31CA-4B60-AEF7-38933DC3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"/>
          <p:cNvSpPr/>
          <p:nvPr/>
        </p:nvSpPr>
        <p:spPr>
          <a:xfrm>
            <a:off x="1835280" y="18900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中小学生视力调查统计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468360" y="1413000"/>
          <a:ext cx="8424720" cy="2735280"/>
        </p:xfrm>
        <a:graphic>
          <a:graphicData uri="http://schemas.openxmlformats.org/drawingml/2006/table">
            <a:tbl>
              <a:tblPr/>
              <a:tblGrid>
                <a:gridCol w="1108080"/>
                <a:gridCol w="1195200"/>
                <a:gridCol w="4392720"/>
                <a:gridCol w="1728720"/>
              </a:tblGrid>
              <a:tr h="94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视力不良学生人数                            男                女          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视力不良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初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Text Box 30"/>
          <p:cNvSpPr/>
          <p:nvPr/>
        </p:nvSpPr>
        <p:spPr>
          <a:xfrm>
            <a:off x="698400" y="28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31"/>
          <p:cNvSpPr/>
          <p:nvPr/>
        </p:nvSpPr>
        <p:spPr>
          <a:xfrm>
            <a:off x="4211640" y="191628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2"/>
          <p:cNvSpPr/>
          <p:nvPr/>
        </p:nvSpPr>
        <p:spPr>
          <a:xfrm>
            <a:off x="5724360" y="1989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3"/>
          <p:cNvSpPr/>
          <p:nvPr/>
        </p:nvSpPr>
        <p:spPr>
          <a:xfrm>
            <a:off x="2843280" y="191628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3692520" y="4172040"/>
            <a:ext cx="54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视力不良的标准为视力低于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35"/>
          <p:cNvSpPr/>
          <p:nvPr/>
        </p:nvSpPr>
        <p:spPr>
          <a:xfrm>
            <a:off x="0" y="5303880"/>
            <a:ext cx="922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了比较不同学段的学生的视力情况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根据上表画出统计图来更直观地反映数据信息的变化情况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6"/>
          <p:cNvSpPr/>
          <p:nvPr/>
        </p:nvSpPr>
        <p:spPr>
          <a:xfrm>
            <a:off x="185760" y="421632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思考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7"/>
          <p:cNvSpPr/>
          <p:nvPr/>
        </p:nvSpPr>
        <p:spPr>
          <a:xfrm>
            <a:off x="0" y="4719600"/>
            <a:ext cx="82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从表中的数据获取哪些信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8"/>
          <p:cNvSpPr/>
          <p:nvPr/>
        </p:nvSpPr>
        <p:spPr>
          <a:xfrm>
            <a:off x="3206880" y="2368440"/>
            <a:ext cx="5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9"/>
          <p:cNvSpPr/>
          <p:nvPr/>
        </p:nvSpPr>
        <p:spPr>
          <a:xfrm>
            <a:off x="3206880" y="3017880"/>
            <a:ext cx="5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0"/>
          <p:cNvSpPr/>
          <p:nvPr/>
        </p:nvSpPr>
        <p:spPr>
          <a:xfrm>
            <a:off x="3099240" y="3592440"/>
            <a:ext cx="77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1"/>
          <p:cNvSpPr/>
          <p:nvPr/>
        </p:nvSpPr>
        <p:spPr>
          <a:xfrm>
            <a:off x="4718160" y="2368440"/>
            <a:ext cx="5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2"/>
          <p:cNvSpPr/>
          <p:nvPr/>
        </p:nvSpPr>
        <p:spPr>
          <a:xfrm>
            <a:off x="4718160" y="3017880"/>
            <a:ext cx="5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3"/>
          <p:cNvSpPr/>
          <p:nvPr/>
        </p:nvSpPr>
        <p:spPr>
          <a:xfrm>
            <a:off x="4612320" y="3592440"/>
            <a:ext cx="77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4"/>
          <p:cNvSpPr/>
          <p:nvPr/>
        </p:nvSpPr>
        <p:spPr>
          <a:xfrm>
            <a:off x="6231240" y="2368440"/>
            <a:ext cx="5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45"/>
          <p:cNvSpPr/>
          <p:nvPr/>
        </p:nvSpPr>
        <p:spPr>
          <a:xfrm>
            <a:off x="6123600" y="3017880"/>
            <a:ext cx="77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6"/>
          <p:cNvSpPr/>
          <p:nvPr/>
        </p:nvSpPr>
        <p:spPr>
          <a:xfrm>
            <a:off x="6123600" y="3592440"/>
            <a:ext cx="77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7"/>
          <p:cNvSpPr/>
          <p:nvPr/>
        </p:nvSpPr>
        <p:spPr>
          <a:xfrm>
            <a:off x="7542720" y="2368440"/>
            <a:ext cx="892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8"/>
          <p:cNvSpPr/>
          <p:nvPr/>
        </p:nvSpPr>
        <p:spPr>
          <a:xfrm>
            <a:off x="7542720" y="3017880"/>
            <a:ext cx="892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4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9"/>
          <p:cNvSpPr/>
          <p:nvPr/>
        </p:nvSpPr>
        <p:spPr>
          <a:xfrm>
            <a:off x="7542720" y="3592440"/>
            <a:ext cx="892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7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F86B-A5DD-41FA-830E-CE22F5F38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49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描述数据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学生交流各自数据，画出高中、初中、小学学生视力条形统计图、折线统计图、扇形统计图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8729-40EB-4120-98F2-6C4EC0E59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Object 2"/>
          <p:cNvGraphicFramePr/>
          <p:nvPr/>
        </p:nvGraphicFramePr>
        <p:xfrm>
          <a:off x="0" y="304920"/>
          <a:ext cx="487692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487692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3"/>
          <p:cNvGraphicFramePr/>
          <p:nvPr/>
        </p:nvGraphicFramePr>
        <p:xfrm>
          <a:off x="5029200" y="352440"/>
          <a:ext cx="4038480" cy="26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52440"/>
                    <a:ext cx="4038480" cy="2695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30" name="Object 4"/>
          <p:cNvGraphicFramePr/>
          <p:nvPr/>
        </p:nvGraphicFramePr>
        <p:xfrm>
          <a:off x="-76320" y="3247920"/>
          <a:ext cx="4876920" cy="325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247920"/>
                    <a:ext cx="487692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2" name="Group 5"/>
          <p:cNvGrpSpPr/>
          <p:nvPr/>
        </p:nvGrpSpPr>
        <p:grpSpPr>
          <a:xfrm>
            <a:off x="4800600" y="3429000"/>
            <a:ext cx="4419720" cy="3206160"/>
            <a:chOff x="4800600" y="3429000"/>
            <a:chExt cx="4419720" cy="3206160"/>
          </a:xfrm>
        </p:grpSpPr>
        <p:sp>
          <p:nvSpPr>
            <p:cNvPr id="733" name="AutoShape 6"/>
            <p:cNvSpPr/>
            <p:nvPr/>
          </p:nvSpPr>
          <p:spPr>
            <a:xfrm>
              <a:off x="4800600" y="3429000"/>
              <a:ext cx="1447920" cy="762120"/>
            </a:xfrm>
            <a:prstGeom prst="cloudCallout">
              <a:avLst>
                <a:gd name="adj1" fmla="val -45722"/>
                <a:gd name="adj2" fmla="val 999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7"/>
            <p:cNvSpPr/>
            <p:nvPr/>
          </p:nvSpPr>
          <p:spPr>
            <a:xfrm>
              <a:off x="4876920" y="4346640"/>
              <a:ext cx="4343400" cy="2288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条形图：反映每个项目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具体数据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扇形图：反映各部分在总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所占的百分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折线图：反映事物的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化情况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7107-B7AC-45C7-B857-2BCE35508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分析数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汉仪行楷简"/>
              </a:rPr>
              <a:t>通过观察表格、折线图，讨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汉仪行楷简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高中、初中、小学的视力情况各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男生、女生视力不良情况及其所占比例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使用电脑时间长短对视力的影响如何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1B49-2374-4B83-8D4E-854BD60D0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675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得出结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高、初、小随年级升高，学生视力不       良率也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城区的比农村学生视力不良率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看电视，用电脑时间长影响学生视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全市的视力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E36C-9AE2-4B89-82E2-4B41D013A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WordArt 2"/>
          <p:cNvSpPr txBox="1"/>
          <p:nvPr/>
        </p:nvSpPr>
        <p:spPr>
          <a:xfrm>
            <a:off x="2611440" y="507960"/>
            <a:ext cx="345924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形成概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1" name="Rectangle 3"/>
          <p:cNvSpPr/>
          <p:nvPr/>
        </p:nvSpPr>
        <p:spPr>
          <a:xfrm>
            <a:off x="771480" y="3927600"/>
            <a:ext cx="80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而是先将总体按某种特征分为若干个类型或层，然后再从每一类型或层中进行单纯随机抽样，组成一个样本，这样的抽样调查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分层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4"/>
          <p:cNvSpPr/>
          <p:nvPr/>
        </p:nvSpPr>
        <p:spPr>
          <a:xfrm>
            <a:off x="735120" y="1217520"/>
            <a:ext cx="80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1095480" y="1508040"/>
            <a:ext cx="78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看到：在调查全市中小学生的视力情况中，因为中、小学生存在着很大的个体差异，因而没有采用简单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随机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BB6A-B97A-40E0-9E23-DB372D41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WordArt 2"/>
          <p:cNvSpPr txBox="1"/>
          <p:nvPr/>
        </p:nvSpPr>
        <p:spPr>
          <a:xfrm>
            <a:off x="2600280" y="366840"/>
            <a:ext cx="366228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层抽样调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1407960"/>
            <a:ext cx="80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优点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划类分层，容易抽出具有代表性的调查样本，使样本能更好地反应总体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855720" y="3220920"/>
            <a:ext cx="63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问题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什么情况下分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层的根据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4332240"/>
            <a:ext cx="86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层抽样适用于总体量大、个体差异程度较大的情况。分层的根据是按总体单位差异程度或某一特征分类分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793B-7428-414A-9558-E2B4AA60A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"/>
          <p:cNvSpPr/>
          <p:nvPr/>
        </p:nvSpPr>
        <p:spPr>
          <a:xfrm>
            <a:off x="515880" y="2060640"/>
            <a:ext cx="814068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了解全市中小学生视力情况调查中，是怎样分层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WordArt 3"/>
          <p:cNvSpPr txBox="1"/>
          <p:nvPr/>
        </p:nvSpPr>
        <p:spPr>
          <a:xfrm>
            <a:off x="1773360" y="544680"/>
            <a:ext cx="279396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问题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617400" y="3780000"/>
            <a:ext cx="814068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1687680" y="3879720"/>
            <a:ext cx="597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还有其他分法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1903320" y="4889520"/>
            <a:ext cx="59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（人数比例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5A50-824F-471F-84A0-32074D66A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"/>
          <p:cNvSpPr/>
          <p:nvPr/>
        </p:nvSpPr>
        <p:spPr>
          <a:xfrm>
            <a:off x="644400" y="2000160"/>
            <a:ext cx="8140680" cy="35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假如全校学生人数为七年级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，八年级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0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，九年级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0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，我们又该怎样分层呢？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WordArt 3"/>
          <p:cNvSpPr txBox="1"/>
          <p:nvPr/>
        </p:nvSpPr>
        <p:spPr>
          <a:xfrm>
            <a:off x="1773360" y="544680"/>
            <a:ext cx="279396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如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5C79-7E6E-4086-A422-CF6FF5739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"/>
          <p:cNvSpPr/>
          <p:nvPr/>
        </p:nvSpPr>
        <p:spPr>
          <a:xfrm>
            <a:off x="25092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"/>
          <p:cNvSpPr/>
          <p:nvPr/>
        </p:nvSpPr>
        <p:spPr>
          <a:xfrm>
            <a:off x="647640" y="2724120"/>
            <a:ext cx="821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某地区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万市民，其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青少年、成年人、老年人的人数比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要想了解他们对新闻、体育、动画、娱乐、戏曲五类电视节目的喜爱情况．现抽取一个容量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 0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样本进行调查，则各需抽取多少名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729B-03B5-425F-BBF6-5F21628DE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219320" y="765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班同学最喜爱节目的人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9920" y="1400040"/>
          <a:ext cx="7693200" cy="3589560"/>
        </p:xfrm>
        <a:graphic>
          <a:graphicData uri="http://schemas.openxmlformats.org/drawingml/2006/table">
            <a:tbl>
              <a:tblPr/>
              <a:tblGrid>
                <a:gridCol w="1990800"/>
                <a:gridCol w="2389320"/>
                <a:gridCol w="1501560"/>
                <a:gridCol w="18115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节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划   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  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分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新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娱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戏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WordArt 45" descr="纸袋"/>
          <p:cNvPicPr/>
          <p:nvPr/>
        </p:nvPicPr>
        <p:blipFill>
          <a:blip r:embed="rId1"/>
          <a:stretch/>
        </p:blipFill>
        <p:spPr>
          <a:xfrm>
            <a:off x="-96840" y="-426960"/>
            <a:ext cx="3016080" cy="130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6" descr="d3y1"/>
          <p:cNvPicPr/>
          <p:nvPr/>
        </p:nvPicPr>
        <p:blipFill>
          <a:blip r:embed="rId2"/>
          <a:stretch/>
        </p:blipFill>
        <p:spPr>
          <a:xfrm>
            <a:off x="250920" y="260280"/>
            <a:ext cx="504720" cy="620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7"/>
          <p:cNvSpPr/>
          <p:nvPr/>
        </p:nvSpPr>
        <p:spPr>
          <a:xfrm>
            <a:off x="325440" y="623088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为了更直观地看出表中的信息，还可以用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新魏"/>
              </a:rPr>
              <a:t>条形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新魏"/>
              </a:rPr>
              <a:t>扇形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来描述数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396720" y="545148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划记法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记录数据时，“正”字的每一划（笔画）代表一个数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表可以清楚地反映全班同学喜爱各类节目的情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69F5-DA8C-4EEE-B921-656857A7F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2"/>
          <p:cNvSpPr/>
          <p:nvPr/>
        </p:nvSpPr>
        <p:spPr>
          <a:xfrm>
            <a:off x="2666880" y="11430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1062000" y="2730600"/>
            <a:ext cx="64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与学生一起翻阅课本例题，整理思路，再次感受分层抽样调查的特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WordArt 4"/>
          <p:cNvSpPr txBox="1"/>
          <p:nvPr/>
        </p:nvSpPr>
        <p:spPr>
          <a:xfrm>
            <a:off x="2071800" y="385920"/>
            <a:ext cx="527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回归课本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8B96-AEC5-4297-B638-6531FEE3F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2"/>
          <p:cNvSpPr/>
          <p:nvPr/>
        </p:nvSpPr>
        <p:spPr>
          <a:xfrm>
            <a:off x="324000" y="3487680"/>
            <a:ext cx="87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课时训练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3"/>
          <p:cNvGrpSpPr/>
          <p:nvPr/>
        </p:nvGrpSpPr>
        <p:grpSpPr>
          <a:xfrm>
            <a:off x="539640" y="285840"/>
            <a:ext cx="8604000" cy="1270080"/>
            <a:chOff x="539640" y="285840"/>
            <a:chExt cx="8604000" cy="1270080"/>
          </a:xfrm>
        </p:grpSpPr>
        <p:sp>
          <p:nvSpPr>
            <p:cNvPr id="768" name="Text Box 4"/>
            <p:cNvSpPr/>
            <p:nvPr/>
          </p:nvSpPr>
          <p:spPr>
            <a:xfrm>
              <a:off x="1366560" y="547560"/>
              <a:ext cx="7777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9" name="Picture 5" descr="dhgif015"/>
            <p:cNvPicPr/>
            <p:nvPr/>
          </p:nvPicPr>
          <p:blipFill>
            <a:blip r:embed="rId1"/>
            <a:stretch/>
          </p:blipFill>
          <p:spPr>
            <a:xfrm>
              <a:off x="539640" y="285840"/>
              <a:ext cx="81756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0" name="WordArt 6"/>
          <p:cNvSpPr txBox="1"/>
          <p:nvPr/>
        </p:nvSpPr>
        <p:spPr>
          <a:xfrm>
            <a:off x="1932120" y="492120"/>
            <a:ext cx="4681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布置作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241200" y="2819520"/>
            <a:ext cx="86756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作业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227160" y="4170240"/>
            <a:ext cx="86756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习题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9.3        1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8840" y="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楷体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、数据的描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461960" y="5673600"/>
            <a:ext cx="56451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576440" y="1856880"/>
            <a:ext cx="0" cy="397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775640" y="1523880"/>
            <a:ext cx="8506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条形统计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638360" y="1741320"/>
            <a:ext cx="10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726240" y="5722920"/>
            <a:ext cx="19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目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053000" y="2516040"/>
            <a:ext cx="51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1619280" y="4933800"/>
            <a:ext cx="491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1562040" y="4172040"/>
            <a:ext cx="497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581120" y="3448080"/>
            <a:ext cx="501012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1581120" y="2743200"/>
            <a:ext cx="501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408760" y="572292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闻    体育   动画   娱乐   戏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1943280" y="5067360"/>
            <a:ext cx="323640" cy="628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971800" y="4191120"/>
            <a:ext cx="343080" cy="1504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3962520" y="3448080"/>
            <a:ext cx="32364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5048280" y="2990880"/>
            <a:ext cx="380880" cy="2705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058080" y="5219640"/>
            <a:ext cx="285480" cy="438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1929240" y="4554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2939040" y="3639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3872520" y="2916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5034600" y="2554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6063120" y="480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6553080" y="2762280"/>
            <a:ext cx="0" cy="29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621880" y="6218280"/>
            <a:ext cx="34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.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1165320" y="105876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全班同学最喜爱节目的人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0"/>
          <p:cNvGrpSpPr/>
          <p:nvPr/>
        </p:nvGrpSpPr>
        <p:grpSpPr>
          <a:xfrm>
            <a:off x="6362640" y="3500280"/>
            <a:ext cx="2781000" cy="1679040"/>
            <a:chOff x="6362640" y="3500280"/>
            <a:chExt cx="2781000" cy="1679040"/>
          </a:xfrm>
        </p:grpSpPr>
        <p:sp>
          <p:nvSpPr>
            <p:cNvPr id="114" name="AutoShape 31"/>
            <p:cNvSpPr/>
            <p:nvPr/>
          </p:nvSpPr>
          <p:spPr>
            <a:xfrm>
              <a:off x="6362640" y="3500280"/>
              <a:ext cx="2703960" cy="167904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2"/>
            <p:cNvSpPr/>
            <p:nvPr/>
          </p:nvSpPr>
          <p:spPr>
            <a:xfrm>
              <a:off x="6362640" y="3668040"/>
              <a:ext cx="27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条形图的特点：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条形图能清楚地表示出每个项目的具体数目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89920" y="1353960"/>
            <a:ext cx="8506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扇形统计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494000" y="704880"/>
            <a:ext cx="57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全班同学最喜爱节目的人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1752480" y="1752480"/>
            <a:ext cx="3600720" cy="369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 flipH="1">
            <a:off x="2743200" y="3657600"/>
            <a:ext cx="78120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543480" y="3676680"/>
            <a:ext cx="1790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V="1">
            <a:off x="3486240" y="1943280"/>
            <a:ext cx="8762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2209320" y="2437920"/>
            <a:ext cx="1257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 flipH="1" flipV="1">
            <a:off x="3028680" y="1847880"/>
            <a:ext cx="4762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3584520" y="4011480"/>
            <a:ext cx="167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060640" y="326880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娱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6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2438280" y="2057400"/>
            <a:ext cx="8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戏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6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3222720" y="1844640"/>
            <a:ext cx="115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908520" y="2506680"/>
            <a:ext cx="127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体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0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2152440" y="5559480"/>
            <a:ext cx="39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图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0.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6"/>
          <p:cNvGrpSpPr/>
          <p:nvPr/>
        </p:nvGrpSpPr>
        <p:grpSpPr>
          <a:xfrm>
            <a:off x="6019920" y="2590920"/>
            <a:ext cx="3124080" cy="1523880"/>
            <a:chOff x="6019920" y="2590920"/>
            <a:chExt cx="3124080" cy="1523880"/>
          </a:xfrm>
        </p:grpSpPr>
        <p:sp>
          <p:nvSpPr>
            <p:cNvPr id="131" name="AutoShape 17"/>
            <p:cNvSpPr/>
            <p:nvPr/>
          </p:nvSpPr>
          <p:spPr>
            <a:xfrm>
              <a:off x="6019920" y="2590920"/>
              <a:ext cx="3124080" cy="152388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8"/>
            <p:cNvSpPr/>
            <p:nvPr/>
          </p:nvSpPr>
          <p:spPr>
            <a:xfrm>
              <a:off x="6095880" y="2743200"/>
              <a:ext cx="304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扇形统计图的特点：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扇形统计图能清楚地表示出各部分在总体中所占的百分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2-18T09:45:59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