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考研战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658966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500F-13BB-4CA6-B933-26DF5AEE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baike.baidu.com/view/83981.htm" TargetMode="External"/><Relationship Id="rId2" Type="http://schemas.openxmlformats.org/officeDocument/2006/relationships/hyperlink" Target="http://baike.baidu.com/view/6118.htm" TargetMode="External"/><Relationship Id="rId3" Type="http://schemas.openxmlformats.org/officeDocument/2006/relationships/slide" Target="../slides/slide10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页眉占位符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考研战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658966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“九校联盟”（简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9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协议书内容主要包括互换本科生和研究生培养，互相承认所修学分；举办暑期学校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9-Summer Sch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，扩大“九校联盟的影响”，与美国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常春藤联盟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英国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罗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盟校、澳大利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紧密合作；成立联盟网站，博士学位论文互评等等内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考研战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658966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E07-7201-4663-A150-9629808F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F68-E9F7-4C5B-A6F7-54D20586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F7A-69C0-44C5-B75A-44C0198B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82E-AA47-4FB2-A7A2-01673F70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8B91-5716-4916-8D28-13DE0F31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EF69-2393-4EBC-9E25-85B3ADA7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A56B-6396-461E-B528-8BEE8925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493B-3360-49FC-9902-78F67180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705E-F487-4A4D-A9F6-C9D224BC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A296-5B51-4677-B45D-162A5881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E7A8-78C4-4689-87A5-9D729C02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199-E486-4D5C-A4C6-88B433A2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7A01-7B1E-497E-9A69-2D8FD6DE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48C3-F4D0-4398-9EC3-D2B433EB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BE1-A39C-481F-BF5C-08902B52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0823-0079-4A85-B21B-53399AA5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2BF2-18D5-4777-9EC1-460FB624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BFCC-155A-4C5C-A7DE-8DE41464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A99BC-C4AB-4CA8-B465-A507B3D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76A3-257E-4BBF-A6EF-CF17705E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2CF8-E0B7-48E1-BD59-F975F519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DC45-F12B-434A-91FB-11F8F49E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E86-37A1-466A-B89D-051D08B5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47DA-881F-45FE-8321-83531F1D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1C58-1170-4F3F-B080-2BBB1470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043F-B499-43E8-8986-8736DE22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B98C-BC82-4421-BDCE-88503740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9918-9BEC-4781-BD90-FFB7B6D8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2F1E-1897-4A5D-A41F-479A1852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9CD23-492B-4646-858B-80FA2EA8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C602-962A-4B0F-BDFE-DD2B354F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A62E2-24F0-4AF6-B212-CFCF29DE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7717-12DB-44BF-A180-CAD40A0F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18B-C8F7-426A-AEAA-7F262F70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BDC5-BAD4-4279-A283-34D72BFD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58420-F7C1-45CF-8997-61C90355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B084-9655-48B6-A118-62943C60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FEF6-0713-4AF0-B65A-9A73FB98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21737-ACF7-4234-A254-C3A70BAD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61357-64FA-494E-BA7C-FEE07B0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18090-36B8-4962-9FD2-5A6667F9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33D6-22E1-4751-9A76-EB0EF12A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1BA9-479A-4A68-96E2-B7170AB8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02146-C837-47D6-9AF5-380535B0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966-EE8B-4104-AE19-6FA0FC87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780ED-95EB-4A00-98EA-C373284B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60440-6A21-40A1-85C9-C543B6FC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FE8B-BB73-4E1D-B95C-3BD703BA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EF687-1C00-4D6B-A06E-D79D5547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10242-4A5B-4AB0-8F93-7E9F5BC5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1EAE9-C37E-4151-AA79-E3682876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9EFAE-C4F7-4A52-979E-584468CE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502C1-BF71-4DFE-A151-A57D87CC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131B3-9873-463A-97B2-8E2AD3AB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1A62B-CABC-49CF-9276-76ABE0BA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4BC-B4AC-4ED8-AEDE-A8E92EAD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1A92-B231-4466-88A9-80970D68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798-C202-4B7B-90E1-82B01ECA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C96-0E76-4AFE-9126-489C8AD7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65C-8341-48F5-8241-DC434D6F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9132-2400-45F6-81D0-1B717EEC4DB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A6B5-5C90-4198-999B-184EF8313E7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0677-B9F3-4B61-A13D-A79D486F1E4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8545-62DD-4BC8-91D6-62754F5B8C7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9223-DE36-423C-87BC-A8DA5B94DF5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xicc.ac.cn/" TargetMode="Externa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500"/>
            </a:b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2016</a:t>
            </a:r>
            <a:r>
              <a:rPr b="1" lang="zh-CN" sz="4800" spc="-1" strike="noStrike">
                <a:solidFill>
                  <a:srgbClr val="04617b"/>
                </a:solidFill>
                <a:latin typeface="Calibri"/>
              </a:rPr>
              <a:t>中国大学化学专业排行榜</a:t>
            </a:r>
            <a:br>
              <a:rPr sz="4600"/>
            </a:br>
            <a:r>
              <a:rPr b="0" lang="zh-CN" sz="46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zh-CN" sz="5500" spc="-1" strike="noStrike">
                <a:solidFill>
                  <a:srgbClr val="04617b"/>
                </a:solidFill>
                <a:latin typeface="Calibri"/>
              </a:rPr>
              <a:t>化学院所简介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960" y="276120"/>
            <a:ext cx="48672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985</a:t>
            </a: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工程高校名单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052280"/>
            <a:ext cx="3168360" cy="5182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一期名单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所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清华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北京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中国科技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南京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复旦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上海交通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西安交通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浙江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哈尔滨工业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南开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天津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东南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华中科技大学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492360" y="1596240"/>
            <a:ext cx="2665440" cy="435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武汉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厦门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山东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湖南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中国海洋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中南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吉林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北京理工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大连理工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北京航空航天大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6488280" y="588960"/>
            <a:ext cx="1553760" cy="551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庆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科技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川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南理工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山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兰州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北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西北工业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济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京师范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国人民大学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086800" y="2037960"/>
            <a:ext cx="2516760" cy="3359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85dfd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三期名单：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） 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国地质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国矿业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国石油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央财经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京科技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95000" y="885600"/>
            <a:ext cx="2516760" cy="2872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85dfd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二期名单：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） 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国农业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防科技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央民族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西北农林科技大学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-411120" y="-316080"/>
            <a:ext cx="852948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211</a:t>
            </a:r>
            <a:r>
              <a:rPr b="1" lang="zh-CN" sz="5000" spc="-1" strike="noStrike">
                <a:solidFill>
                  <a:srgbClr val="04617b"/>
                </a:solidFill>
                <a:latin typeface="Calibri"/>
              </a:rPr>
              <a:t>工程”院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面向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21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世纪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，在“九五”期间，重点建设一批高等学校和重点学科，并在此基础上经过若干年的努力，使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100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所左右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的高等学校以及一批重点学科在教育质量、科学研究、管理水平和办学效益等方面有较大提高，在高等教育改革特别是管理体制改革方面有明显进展，成为立足国内培养高层次人才、解决经济建设和社会发展重大问题的基地。这就是所谓的“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1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工程”院校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-181080" y="-24300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5320" y="523440"/>
            <a:ext cx="5430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评价院系主要指标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267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 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人员情况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：教职员工人数，其中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中科院院士、长江特聘教授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获得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国家自然科学基金委杰出青年基金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资助人员（与国外学者合作获得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类杰出青年基金资助）获得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教育部跨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新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世纪人才基金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资助、获得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教育部优秀青年教师基金</a:t>
            </a:r>
            <a:r>
              <a:rPr b="0" lang="zh-CN" sz="2600" spc="-1" strike="noStrike">
                <a:solidFill>
                  <a:srgbClr val="0000ff"/>
                </a:solidFill>
                <a:latin typeface="Constanti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入选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国家级百千万人才工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2 </a:t>
            </a:r>
            <a:r>
              <a:rPr b="1" lang="zh-CN" sz="2600" spc="-1" strike="noStrike">
                <a:solidFill>
                  <a:srgbClr val="e2d700"/>
                </a:solidFill>
                <a:latin typeface="Constantia"/>
              </a:rPr>
              <a:t>国家重点实验室、教育部重点实验室、国家级实验教学示范中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国家教育部重点学科  一级学科博士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4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国家自然科学基金委“科学基金创新研究群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国家理科基础科学研究与教学人才培养基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6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科研经费、各类项目、高水平的文章（</a:t>
            </a: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SCI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收录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600200"/>
            <a:ext cx="822960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对于同一二级学科专业，国家重点学科强于博士点，博士点强于硕士点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一级学科博士点代表一级学科的最高水平。一般一个一级学科下都会分设几个 二级学科，对于同时拥有一级 学科博士点的，该一级学科下设的重点学科越多，该一级学科实力越强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-396720" y="-316080"/>
            <a:ext cx="852948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化学一级学科评估硬指标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640" y="1483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国家重点学科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国家重点实验室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两院院士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长江学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博士生导师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高水平文章（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006</a:t>
            </a: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）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-324000" y="-31608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65311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郑州大学  化学系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师资队伍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教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1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其中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外籍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省特聘教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省级教学名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校级教学名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教学基地和中心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理科基础科学研究和教学人才培养基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级实验教学示范中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名牌专业、精品课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仪器分析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省级精品课程：有机化学、仪器分析、物理化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学位点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一级化学博士点和九个硕士点（有机化学、无机化学、分析化学、物理化学、应用化学、工业催化、药物化学、药物分析学、环境科学）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重点实验室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河南省化学生物学与有机化学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河南省高校应用化学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国家级重点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培育</a:t>
            </a: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学科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：有机化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省级重点学科：有机化学、无机化学、分析化学、药物化学、工业催化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11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工程”重点建设学科：有机化学及应用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科研成果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年化学系共承担国家和省部级科研项目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96 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项，获国家和省部级奖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项，发明专利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项，发表论文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10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篇，其中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CI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I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收录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412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篇。近三年拥有科研经费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6136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万元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 </a:t>
            </a: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科研经费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167.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万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24000" y="907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Constantia"/>
              </a:rPr>
              <a:t>北京大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与分子工程学院简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4" descr="img-001"/>
          <p:cNvPicPr/>
          <p:nvPr/>
        </p:nvPicPr>
        <p:blipFill>
          <a:blip r:embed="rId2"/>
          <a:stretch/>
        </p:blipFill>
        <p:spPr>
          <a:xfrm>
            <a:off x="1332000" y="2421000"/>
            <a:ext cx="5761080" cy="35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94920" y="907920"/>
            <a:ext cx="7931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化学学院现有教职员工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01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，其中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中科院院士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长江特聘教授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。有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27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人获得国家自然科学基金委杰出青年基金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资助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与国外学者合作获得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类杰出青年基金资助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获得教育部跨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世纪人才基金资助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获得教育部优秀青年教师基金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入选国家级百千万人才工程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稀土功能材料化学”、“表界面纳米工程学”，以及“有机合成与方法学”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个研究团队获得国家自然科学基金委“科学基金创新研究群体”资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年以来发表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SCI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收录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论文每年保持在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400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篇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左右，且高水平的文章呈逐年递增的趋势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95280" y="260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大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主要大学化学专业介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中科院相关化学研究所介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对比排名情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-22320" y="-31608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个国家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稀土材料化学与应用国家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分子动态与稳态结构国家重点实验室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个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生物有机与分子工程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高分子化学与物理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个国防科工委国防重点学科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放射化学与辐射化学国防重点学科实验室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个国家教育部重点学科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无机、物化、高分子化学与物理、有机和分析化学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763640" y="1602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大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化学学院承办了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物理化学学报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》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和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大学化学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》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期刊，并接受教育部的委托成立了“高等学校化学教育研究中心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化学学院是国家教委遴选的“国家理科基础科学研究与教学人才培养基地”。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900000" y="260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大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23640" y="119700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现有教职工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3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其中中科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教育部“长江学者奖励计划”特聘教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、国家杰出青年基金获得者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配位化学国家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介观化学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生命分析化学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86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计划新材料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源研究开发中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755640" y="333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南京大学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学化工学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化学一级学科博士点，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无机、分析、物化、高分子国家重点学科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基础学科（化学）人才培养基地”之一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无机化学学报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2002</a:t>
            </a: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年由“全国学位与研究生教育发展中心”进行的首次全国一级学科评估中，化学学科名列全国第二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ff"/>
                </a:solidFill>
                <a:latin typeface="Constantia"/>
              </a:rPr>
              <a:t>无机化学学科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拥有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配位化学国家重点实验室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是</a:t>
            </a: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国家重点学科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其中中科院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长江特聘教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国家杰出青年基金获得者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（海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），教育部跨世纪人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。每年可批准申请课题约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项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ff"/>
                </a:solidFill>
                <a:latin typeface="Constantia"/>
              </a:rPr>
              <a:t>分析化学学科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高鸿院士、陈洪渊院士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87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首批批准为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国家重点学科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 “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生命分析化学教育部重点实验室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中科院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国家杰出青年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研究方向：纳米生物电分析化学、生物分析化学、 生命与功能材料的表界面分析、分离与分子识别、环境和能源分析化学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116000" y="189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南京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ff"/>
                </a:solidFill>
                <a:latin typeface="Constantia"/>
              </a:rPr>
              <a:t>有机化学教研室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：胡宏纹院士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国家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6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高新技术新材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源研究开发中心”。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ff"/>
                </a:solidFill>
                <a:latin typeface="Constantia"/>
              </a:rPr>
              <a:t>物理化学教研室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江元生院士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88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全国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重点学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介观化学教育部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拥有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，杰出青年基金获得者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ff"/>
                </a:solidFill>
                <a:latin typeface="Constantia"/>
              </a:rPr>
              <a:t>高分子化学与物理学科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国家重点学科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中科院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、国家杰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116000" y="189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南京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Constantia"/>
              </a:rPr>
              <a:t>复旦大学        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化学系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拥有中国科学院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（含双聘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）、国家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7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首席科学家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、教育部长江计划特聘教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、国家杰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、教育部优秀青年教师和跨世纪（新世纪）优秀人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一级学科博士学位授权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物理化学是国家重点学科，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009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无机化学和分析化学学科新增为国家重点学科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9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国家基础学科研究和教学人才培养基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科研经费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70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万余元，有国家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73“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项目及子项目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个，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63“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项目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个，国家自然科学基金重大和重点项目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个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南开大学   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学院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9038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http://chem.nankai.edu.cn/bbs/attachments/month_0803/untitled_XcOxdAf3xsZE.jpeg"/>
          <p:cNvPicPr/>
          <p:nvPr/>
        </p:nvPicPr>
        <p:blipFill>
          <a:blip r:embed="rId2"/>
          <a:stretch/>
        </p:blipFill>
        <p:spPr>
          <a:xfrm>
            <a:off x="1403280" y="1773360"/>
            <a:ext cx="561672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4596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拥有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个国家重点学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有机化学、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006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新增高分子化学与物理、无机、分析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个国家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元素有机化学、吸附分离功能高分子材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个农药国家工程研究中心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个国家基础科学研究和教学人才培养基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中国科学院、中国工程院院士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人，教育部“长江学者特聘教授”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人，国家杰出青年基金获得者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人，“跨世纪优秀人才”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人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17b"/>
                </a:solidFill>
                <a:latin typeface="Calibri"/>
              </a:rPr>
              <a:t>评价指标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(1):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1" lang="zh-CN" sz="5000" spc="-1" strike="noStrike">
                <a:solidFill>
                  <a:srgbClr val="009dd9"/>
                </a:solidFill>
                <a:latin typeface="Calibri"/>
              </a:rPr>
              <a:t>基金项目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国家自然科学基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面上项目、人才项目（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杰出青年基金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5 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清华大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获化学一级学科博士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两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长江特聘教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国家杰青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个教育部重点实验室：“生命有机磷化学及化学生物学教育部重点实验室”和“有机光电子与分子工程教育部重点实验室”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分析化学为国家重点学科，物理化学为国家培育重点学科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有机化学”和“仪器分析”课程为国家精品课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nstantia"/>
              </a:rPr>
              <a:t>6.</a:t>
            </a:r>
            <a:r>
              <a:rPr b="1" lang="zh-CN" sz="3400" spc="-1" strike="noStrike">
                <a:solidFill>
                  <a:srgbClr val="0000ff"/>
                </a:solidFill>
                <a:latin typeface="Constantia"/>
              </a:rPr>
              <a:t>吉林大学   化学学院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科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唐敖庆、孙家钟、徐如人、沈家骢、周其凤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位教育部长江学者奖励计划特聘教授，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位国家杰青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国家理科基础科学研究和教学人才培养基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一级学科博士学位授权单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个国家重点学科：无机化学、物理化学和高分子化学与物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理论化学计算国家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无机合成与制备化学国家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超分子结构与材料教育部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国家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86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特种工程塑料研究与开发中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教育部特种工程塑料研究中心</a:t>
            </a: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　   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Constantia"/>
              </a:rPr>
              <a:t>中国科学技术大学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与材料科学学院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中科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刘有成、朱清时、钱逸泰、吴奇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，中国科学院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海外杰出人才计划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入选者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教育部长江特聘教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杰出青年基金获得者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    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合肥微尺度物质科学国家实验室、中国科学院能量转换材料重点实验室、中国科学院软物质化学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获得国家自然科学基金创新团队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个，教育部创新团队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个，承担了一批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973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863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、国家自然科学基金重点项目、中科院重大项目和重要方向性创新项目，每年科研经费逾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4000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万元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4617b"/>
                </a:solidFill>
                <a:latin typeface="Calibri"/>
              </a:rPr>
              <a:t>7.</a:t>
            </a:r>
            <a:r>
              <a:rPr b="1" lang="zh-CN" sz="5300" spc="-1" strike="noStrike">
                <a:solidFill>
                  <a:srgbClr val="04617b"/>
                </a:solidFill>
                <a:latin typeface="Calibri"/>
              </a:rPr>
              <a:t>中国科学技术大学  </a:t>
            </a: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化学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化学为国家一级重点学科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职工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5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其中中国科学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教育部长江学者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国家杰出青年基金获得者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中国科学院“引进国外杰出人才”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  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80%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以上的毕业生被国内外著名大学或研究机构录取为研究生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8.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厦门大学  化学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   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8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中国科学院院士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,3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长江学者特聘教授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1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国家“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973”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计划首席科学家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15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国家杰青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7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入选国家百千万人才工程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2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获国家级教学名师称号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4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教育部跨世纪人才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3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教育部青年教师奖获得者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8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教育部新世纪优秀人才支持计划入选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固体表面物理化学国家重点实验室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现代分析科学教育部重点实验室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醇醚酯化工清洁生产国家工程实验室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电化学技术教育部工程研究中心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1998</a:t>
            </a: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年，化学一级学科博士点学位授予权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4000" y="98064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物理化学和分析化学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个国家重点学科。物理化学在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国家重点学科评审中名列第一，同时在所属一级学科中名列第一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99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的化学“理科基础科学研究和教学人才培养基地” 。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999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全国理科“人才基地”第四名、全国化学“人才基地”第二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06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，全国首批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个之一的国家级化学实验教学示范中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Constantia"/>
              </a:rPr>
              <a:t>浙江大学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国家理科基础研究和教学人才培养基地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国家工科基础课程教学基地”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一级学科博士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科院院士有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长江计划特聘教授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系还聘请了唐敖庆等中科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756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nstantia"/>
              </a:rPr>
              <a:t>10.</a:t>
            </a:r>
            <a:r>
              <a:rPr b="1" lang="zh-CN" sz="3400" spc="-1" strike="noStrike">
                <a:solidFill>
                  <a:srgbClr val="0000ff"/>
                </a:solidFill>
                <a:latin typeface="Constantia"/>
              </a:rPr>
              <a:t>中山大学  化学与化学工程学院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nstantia"/>
              </a:rPr>
              <a:t>中国科学院院士</a:t>
            </a: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Constantia"/>
              </a:rPr>
              <a:t>人，“长江学者”特聘教授</a:t>
            </a: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Constantia"/>
              </a:rPr>
              <a:t>人，“国家杰青</a:t>
            </a: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1" lang="zh-CN" sz="34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Constantia"/>
              </a:rPr>
              <a:t>国家重点学科“无机化学”、“高分子化学与物理”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e2d700"/>
                </a:solidFill>
                <a:latin typeface="Constantia"/>
              </a:rPr>
              <a:t>化学一级学科博士点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e2d700"/>
                </a:solidFill>
                <a:latin typeface="Constantia"/>
              </a:rPr>
              <a:t>国家理科基础科学研究和教学人才培养基地，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dd9"/>
                </a:solidFill>
                <a:latin typeface="Constantia"/>
              </a:rPr>
              <a:t>首批国家级实验教学示范中心，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dd9"/>
                </a:solidFill>
                <a:latin typeface="Constantia"/>
              </a:rPr>
              <a:t>化学教学团队获评国家级教学团队</a:t>
            </a:r>
            <a:r>
              <a:rPr b="0" lang="zh-CN" sz="3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11 </a:t>
            </a:r>
            <a:r>
              <a:rPr b="1" lang="zh-CN" sz="5000" spc="-1" strike="noStrike">
                <a:solidFill>
                  <a:srgbClr val="04617b"/>
                </a:solidFill>
                <a:latin typeface="Calibri"/>
              </a:rPr>
              <a:t>上海交通大学    </a:t>
            </a:r>
            <a:r>
              <a:rPr b="1" lang="zh-CN" sz="3200" spc="-1" strike="noStrike">
                <a:solidFill>
                  <a:srgbClr val="04617b"/>
                </a:solidFill>
                <a:latin typeface="Calibri"/>
              </a:rPr>
              <a:t>化学化工学院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科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名，长江学者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名，国家杰青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2005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年全院到校经费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3000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万余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每年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CI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收录的论文达到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多篇，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005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为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0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篇。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cience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、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ture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J.Am.Chem.Soc.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gew.Chemie.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等国际权威杂志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790560" y="1125360"/>
            <a:ext cx="8353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2.</a:t>
            </a:r>
            <a:r>
              <a:rPr b="1" lang="zh-CN" sz="3600" spc="-1" strike="noStrike">
                <a:solidFill>
                  <a:srgbClr val="000000"/>
                </a:solidFill>
                <a:latin typeface="Constantia"/>
              </a:rPr>
              <a:t>武汉大学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与分子科学学院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院士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国家重点学科：分析化学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d700"/>
                </a:solidFill>
                <a:latin typeface="Constantia"/>
              </a:rPr>
              <a:t>教育部生物医用高分子材料重点实验室；教育部有机硅化合物材料工程研究中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1993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年，化学国家基础科学研究和教学人才培养基地。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化学专业为一级学科博士学位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国家“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973”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日，原国家科技领导小组第三次会议决定要制定和实施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重点基础研究发展规划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，随后由科技部组织实施了国家重点基础研究发展计划（亦称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97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计划）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主要任务是紧紧围绕农业、能源、信息、资源环境、人口与健康、材料等领域国民经济、社会发展和科技自身发展的重大科学问题，开展多学科综合性研究，提供解决问题的理论依据和科基础；部署相关的、重要的、探索性强的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前沿基础研究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-252360" y="-316080"/>
            <a:ext cx="852948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91440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13.</a:t>
            </a:r>
            <a:r>
              <a:rPr b="1" lang="zh-CN" sz="3600" spc="-1" strike="noStrike">
                <a:solidFill>
                  <a:srgbClr val="000000"/>
                </a:solidFill>
                <a:latin typeface="Constantia"/>
              </a:rPr>
              <a:t>兰州大学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化工学院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国科学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、“长江学者奖励计划”特聘教授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、国务院学科评议组成员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、国家杰出青年基金获得者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国家理科基础科学研究与教学人才培养基地、国家级实验教学示范中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   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博士学位授权一级学科。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功能有机分子化学国家重点实验室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国家重点学科 有机化学（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1982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）</a:t>
            </a:r>
            <a:r>
              <a:rPr b="0" lang="zh-CN" sz="2600" spc="-1" strike="noStrike">
                <a:solidFill>
                  <a:srgbClr val="ff33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14.</a:t>
            </a:r>
            <a:r>
              <a:rPr b="1" lang="zh-CN" sz="3600" spc="-1" strike="noStrike">
                <a:solidFill>
                  <a:srgbClr val="000000"/>
                </a:solidFill>
                <a:latin typeface="Constantia"/>
              </a:rPr>
              <a:t>四川大学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学院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绿色化学与技术教育部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   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中国科学院院士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（兼职），国家教学指导委员会成员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，国家杰青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，教育部跨世纪（新世纪）优秀人才培养计划资助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，高等学校优秀青年教师教学科研奖励计划资助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研究与应用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核心期刊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734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Constantia"/>
              </a:rPr>
              <a:t>15.</a:t>
            </a:r>
            <a:r>
              <a:rPr b="1" lang="zh-CN" sz="4600" spc="-1" strike="noStrike">
                <a:solidFill>
                  <a:srgbClr val="0000ff"/>
                </a:solidFill>
                <a:latin typeface="Constantia"/>
              </a:rPr>
              <a:t>湖南大学   </a:t>
            </a:r>
            <a:r>
              <a:rPr b="1" lang="zh-CN" sz="3400" spc="-1" strike="noStrike">
                <a:solidFill>
                  <a:srgbClr val="0000ff"/>
                </a:solidFill>
                <a:latin typeface="Constantia"/>
              </a:rPr>
              <a:t>化学与化工学院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中国科学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中国工程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国务院“长江学者奖励计划”特聘教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分析化学国家重点学科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化学生物传感与计量学”国家重点实验室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工科（化学）基础课程教学基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化学一级学科博士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教育部学科排名中，排名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位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6 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北京师范大学化学学院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中国科学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中国工程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97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项目首席专家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长江学者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新世纪百千万人才工程国家级人选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国家杰出青年基金获得者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跨世纪人才和新世纪人才共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教育部教学指导委员会分委会委员共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化学一级学科博士学位授权单位（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2003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物理化学是国家重点学科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个放射性药物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近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来，平均每年到位科研经费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20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余万元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中科院研究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9760" y="612360"/>
            <a:ext cx="8169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1  </a:t>
            </a: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中国科学院化学研究所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1956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年建所 。  职工 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459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人，中国科学院院士 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8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人、国家杰青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34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人，国家基金委优秀创新群体 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4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个，海外创新团队 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3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个，中国科学院“百人计划”入选者 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46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1996 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年，化学一级学科授予博士学位的试点单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1997 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年，中国科学院博士生重点培养基地。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主办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化学通报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高分子学报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高分子通报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高分子科学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（英文版）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化学通讯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等。中国化学会挂靠在化学所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9760" y="612360"/>
            <a:ext cx="8169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中国科学院化学研究所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nstantia"/>
              </a:rPr>
              <a:t>国家重点实验室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分子反应动力学国家重点实验室（与大连化物所合建）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分子动态与稳态结构国家重点实验室（与北京大学合建）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高分子物理与化学国家重点实验室（与长春应化所合建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nstantia"/>
              </a:rPr>
              <a:t>中国科学院重点实验室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有机固体院重点实验室，光化学院重点实验室，分子纳米结构与纳米技术院重点实验室，胶体、界面与化学热力学院重点实验室，工程塑料院重点实验室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zh-CN" sz="5300" spc="-1" strike="noStrike">
                <a:solidFill>
                  <a:srgbClr val="04617b"/>
                </a:solidFill>
                <a:latin typeface="Calibri"/>
              </a:rPr>
              <a:t>上海有机所</a:t>
            </a:r>
            <a:endParaRPr b="0" lang="en-US" sz="5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998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，化学一级学科授权单位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生命有机国家级重点实验室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 金属有机化学国家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中国科学院有机氟化学开放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师资力量    高级科研人员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其中中国科学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位，入选中科院“百人计划”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3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获国家杰青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出版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化学学报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、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有机化学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和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Chinese Journal of Chemistry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三种刊物。</a:t>
            </a:r>
            <a:r>
              <a:rPr b="0" lang="zh-CN" sz="28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3</a:t>
            </a: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中国科学院上海硅酸盐研究所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导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左右，两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d700"/>
                </a:solidFill>
                <a:latin typeface="Constantia"/>
              </a:rPr>
              <a:t>主要研究领域：结构陶瓷及复合材料、无机功能陶瓷、人工晶体材料、无机涂层材料、特种玻璃材料、生物与组织工程材料、环保与能源材料、空间材料与工程、中国古陶瓷科学技术研究、无机材料分析检测与表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高性能陶瓷和超微结构国家重点实验室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无机材料学报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核心期刊，并被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SCIE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收录引用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材料科学与工程一级学科授予博士学位及硕士学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4 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中国科学院上海药物研究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国科学院唯一的综合性药物研究机构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全所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多人，中国科学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中国工程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新药研究国家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两个国家级研究中心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95280" y="980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国家“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863”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项目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86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月，王大珩、王淦昌、杨嘉墀、陈芳允四位老科学家给中共中央写信，提出要跟踪世界先进水平，发展我国高技术的建议。这封信得到了小平同志的高度重视，小平同志亲自批示：此事宜速决断，不可拖延。经过三轮极为严格的科学和技术论证后，中共中央、国务院批准了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高技术研究发展计划（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863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计划）纲要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04617b"/>
                </a:solidFill>
                <a:latin typeface="Calibri"/>
              </a:rPr>
              <a:t>中国科学院大连化学物理研究所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50920" y="1341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在催化化学、化学工程、化学激光和分子反应动力学、以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色谱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为主的近代分析化学等四个学科领域形成了自己的特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13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位两院院士指导研究生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催化基础国家重点实验室、分子反应动力学国家重点实验室、国家高技术短波长化学激光重点实验室、国家催化工程技术研究中心、国家膜技术工程研究中心、国家色谱研究分析中心、燃料电池及氢能技术国家中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催化学报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、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色谱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和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Journal of Natural Gas Chemistry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化学和化学工程与技术两个一级学科授予博士和硕士学位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研究生实行奖学金制，可获得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8000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元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/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年至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18000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元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/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年的科研津贴</a:t>
            </a:r>
            <a:r>
              <a:rPr b="1" lang="zh-CN" sz="2000" spc="-1" strike="noStrike">
                <a:solidFill>
                  <a:srgbClr val="ff3300"/>
                </a:solidFill>
                <a:latin typeface="Constantia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6  </a:t>
            </a:r>
            <a:r>
              <a:rPr b="1" lang="zh-CN" sz="5000" spc="-1" strike="noStrike">
                <a:solidFill>
                  <a:srgbClr val="04617b"/>
                </a:solidFill>
                <a:latin typeface="Calibri"/>
              </a:rPr>
              <a:t>长春应化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高分子化学与物理、无机化学、分析化学、物理化学和有机化学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职工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835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，其中中国科学院院士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，第三世界科学院院士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，国家杰出青年基金获得者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19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，“百人计划”入选者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27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，国家级百千万人才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7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化学一级学科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高分子物理与化学国家重点实验室、电分析化学国家重点实验室、稀土资源利用国家重点实验室、国家电化学和光谱研究分析中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分析化学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和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应用化学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核心刊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7 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中科院成都有机化学研究所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成立于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5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主要学科方向有物理化学、有机合成、高分子化学和分析化学，其优势研发领域包括天然气转化、不对称合成、皮革化工材料及环境友好材料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职工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00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余人，中科院“百人计划”人才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8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郑州烟草研究院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中国烟草总公司郑州烟草研究院创始于</a:t>
            </a: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1958</a:t>
            </a: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年，是中国烟草总公司所属的惟一一所综合性烟草科学研究开发机构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专业技术人员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190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余人，中国工程院院士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、国家级有突出贡献专家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、国际烟草科学研究合作中心（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CORESTA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）的正式成员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拥有烟草农业、烟草工艺、烟草化学和香精香料四个学科及研究领域，烟草质检、标准化和科技信息</a:t>
            </a: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个行业级中心，烟草工艺和烟草化学</a:t>
            </a: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个行业重点实验室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9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中科院广州地球化学研究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993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年成立，中国科学院院士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、俄罗斯科学院院士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，中国科学院“百人计划”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，国家杰青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地质学、地球化学、海洋科学、环境科学研究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有机地球化学国家重点实验室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中国科学院同位素年代学和地球化学重点实验室” “中国科学院边缘海地质与矿产资源重点实验室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极端环境地质地球化学重点实验室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成矿动力学重点实验室”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ff"/>
                </a:solidFill>
                <a:uFillTx/>
                <a:latin typeface="Calibri"/>
              </a:rPr>
              <a:t>10 </a:t>
            </a:r>
            <a:r>
              <a:rPr b="0" lang="zh-CN" sz="41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中国科学院山西煤炭化学研究所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现有职工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5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其中中科院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中科院“百人计划”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国家杰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在物理化学、材料学、化学工艺及工业催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个专业具有博士学位授予权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有机化学、物理化学、材料学、化学工程、化学工艺及工业催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个专业具有硕士学位授予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11.</a:t>
            </a:r>
            <a:r>
              <a:rPr b="1" lang="zh-CN" sz="4000" spc="-1" strike="noStrike">
                <a:solidFill>
                  <a:srgbClr val="0000ff"/>
                </a:solidFill>
                <a:latin typeface="Constantia"/>
              </a:rPr>
              <a:t>中国科学院理化技术研究所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成立于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99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，原中国科学院感光化学研究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专业技术人员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37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其中有中国科学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第三世界科学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有机化学、物理化学、凝聚态物理、制冷及低温工程博士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重点研究领域为光功能材料与器件、低温工程学新技术、绿色化学合成新技术、能源材料与新技术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理科基地”的专业点分布如下：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化学专业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14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个专业点，分布在北京大学、中国农业大学、南开大学、吉林大学、复旦大学 、南京大学、浙江大学、厦门大学、福州大学、郑州大学、武汉大学、中山大学、西北大学 、兰州大学。</a:t>
            </a:r>
            <a:br>
              <a:rPr sz="2600"/>
            </a:b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国家工科基础课程和教学基地    化学</a:t>
            </a: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9</a:t>
            </a: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个基地点</a:t>
            </a:r>
            <a:br>
              <a:rPr sz="2600"/>
            </a:b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分布在华东理工大学、浙江大学、天津大学、石油大学、四川大学、北京化工大学、湖南大学、中南大学、大连理工大学</a:t>
            </a:r>
            <a:br>
              <a:rPr sz="2600"/>
            </a:b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2332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66"/>
                </a:solidFill>
                <a:latin typeface="Calibri"/>
              </a:rPr>
              <a:t>化学一级学科博士点   </a:t>
            </a:r>
            <a:r>
              <a:rPr b="0" lang="zh-CN" sz="2500" spc="-1" strike="noStrike">
                <a:solidFill>
                  <a:srgbClr val="ff0066"/>
                </a:solidFill>
                <a:latin typeface="Calibri"/>
              </a:rPr>
              <a:t>（</a:t>
            </a: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31</a:t>
            </a:r>
            <a:r>
              <a:rPr b="0" lang="zh-CN" sz="2500" spc="-1" strike="noStrike">
                <a:solidFill>
                  <a:srgbClr val="ff0066"/>
                </a:solidFill>
                <a:latin typeface="Calibri"/>
              </a:rPr>
              <a:t>个</a:t>
            </a:r>
            <a:r>
              <a:rPr b="0" lang="en-US" sz="2200" spc="-1" strike="noStrike">
                <a:solidFill>
                  <a:srgbClr val="ff0066"/>
                </a:solidFill>
                <a:latin typeface="Calibri"/>
              </a:rPr>
              <a:t>2006</a:t>
            </a:r>
            <a:r>
              <a:rPr b="0" lang="zh-CN" sz="2200" spc="-1" strike="noStrike">
                <a:solidFill>
                  <a:srgbClr val="ff0066"/>
                </a:solidFill>
                <a:latin typeface="Calibri"/>
              </a:rPr>
              <a:t>年</a:t>
            </a:r>
            <a:r>
              <a:rPr b="0" lang="zh-CN" sz="2500" spc="-1" strike="noStrike">
                <a:solidFill>
                  <a:srgbClr val="ff0066"/>
                </a:solidFill>
                <a:latin typeface="Calibri"/>
              </a:rPr>
              <a:t>）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9280" y="1052280"/>
            <a:ext cx="3492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  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北京大学    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北京化工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北京师范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大连理工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东北师范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福州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复旦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湖南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华东理工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华东师范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吉林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兰州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南京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南开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067280" y="836640"/>
            <a:ext cx="327816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华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山东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山西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陕西师范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四川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苏州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天津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同济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武汉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西北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西北师范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厦门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浙江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郑州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中国科学技术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中国科学院研究生院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中山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77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6600"/>
                </a:solidFill>
                <a:latin typeface="Calibri"/>
              </a:rPr>
              <a:t>化学类国家重点实验室（</a:t>
            </a:r>
            <a:r>
              <a:rPr b="0" lang="en-US" sz="4500" spc="-1" strike="noStrike">
                <a:solidFill>
                  <a:srgbClr val="006600"/>
                </a:solidFill>
                <a:latin typeface="Calibri"/>
              </a:rPr>
              <a:t>22</a:t>
            </a:r>
            <a:r>
              <a:rPr b="0" lang="zh-CN" sz="4500" spc="-1" strike="noStrike">
                <a:solidFill>
                  <a:srgbClr val="006600"/>
                </a:solidFill>
                <a:latin typeface="Calibri"/>
              </a:rPr>
              <a:t>个</a:t>
            </a:r>
            <a:r>
              <a:rPr b="1" lang="zh-CN" sz="4500" spc="-1" strike="noStrike">
                <a:solidFill>
                  <a:srgbClr val="006600"/>
                </a:solidFill>
                <a:latin typeface="Calibri"/>
              </a:rPr>
              <a:t>）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材料化学工程国家重点实验室 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南京工业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超分子结构与材料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吉林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催化基础国家重点实验室 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大连化物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电分析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长春应化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多相复杂系统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过程工程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分子反应动力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大连化物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.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高分子物理与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长春应化所</a:t>
            </a:r>
            <a:r>
              <a:rPr b="1" i="1" lang="zh-CN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60400" y="460080"/>
            <a:ext cx="471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dd9"/>
                </a:solidFill>
                <a:latin typeface="Calibri"/>
              </a:rPr>
              <a:t>(2)</a:t>
            </a:r>
            <a:r>
              <a:rPr b="1" lang="zh-CN" sz="4000" spc="-1" strike="noStrike">
                <a:solidFill>
                  <a:srgbClr val="009dd9"/>
                </a:solidFill>
                <a:latin typeface="Calibri"/>
              </a:rPr>
              <a:t>人才计划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Constantia"/>
              </a:rPr>
              <a:t>中国科学院院士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原称“中国科学院学部委员”，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每两年增选一次，每次增选数人。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化学部约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190</a:t>
            </a: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到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2009</a:t>
            </a: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年）。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6836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8.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功能有机分子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兰州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化工资源有效利用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北京化工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化学工程联合国家重点实验室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清华大学、天津大学、华东理工大学、浙江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化学生物传感与计量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湖南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结构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福建物构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精细化工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大连理工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理论化学计算国家重点实验室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吉林大学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5 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煤转化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山西煤化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6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生命有机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上海有机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23640" y="549360"/>
            <a:ext cx="85071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7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羰基合成和选择氧化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兰州化物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无机合成与制备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吉大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稀土资源利用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长春应化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现代配位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南京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1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元素有机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南开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2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重质油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石油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3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聚合物分子工程实验室（教育部）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复旦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4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生命分析化学实验室（教育部）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南京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有机氟化学实验室（中科院）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上海有机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化学一级重点学科（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007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年）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北京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南开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吉林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复旦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南京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浙江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国科学技术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厦门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化学二级国家重点学科 （</a:t>
            </a: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2007</a:t>
            </a:r>
            <a:r>
              <a:rPr b="0" lang="zh-CN" sz="2900" spc="-1" strike="noStrike">
                <a:solidFill>
                  <a:srgbClr val="04617b"/>
                </a:solidFill>
                <a:latin typeface="Calibri"/>
              </a:rPr>
              <a:t>年）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无机化学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 中山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分析化学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 清华大学  武汉大学  湖南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有机化学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 四川大学  兰州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物理化学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 北京师范大学  福州大学  山东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高分子化学与物理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 中山大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一级学科顶级期刊</a:t>
            </a:r>
            <a:r>
              <a:rPr b="0" lang="zh-CN" sz="3200" spc="-1" strike="noStrike">
                <a:solidFill>
                  <a:srgbClr val="04617b"/>
                </a:solidFill>
                <a:latin typeface="Calibri"/>
              </a:rPr>
              <a:t>（</a:t>
            </a:r>
            <a:r>
              <a:rPr b="1" lang="zh-CN" sz="2800" spc="-1" strike="noStrike">
                <a:solidFill>
                  <a:srgbClr val="04617b"/>
                </a:solidFill>
                <a:latin typeface="Calibri"/>
              </a:rPr>
              <a:t>化学一区）</a:t>
            </a:r>
            <a:r>
              <a:rPr b="0" lang="zh-CN" sz="28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HEMICAL REVIEWS       IF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3.036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HEMICAL SOCIETY REVIEWS  </a:t>
            </a:r>
            <a:r>
              <a:rPr b="1" lang="zh-CN" sz="2200" spc="-1" strike="noStrike">
                <a:solidFill>
                  <a:srgbClr val="000000"/>
                </a:solidFill>
                <a:latin typeface="Constantia"/>
              </a:rPr>
              <a:t>化学一区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F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6.585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GRESS IN POLYMER SCIENCE   IF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2.870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OUNTS OF CHEMICAL RESEARCH      21.852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URFACE SCIENCE REPORTS                 18.593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ture Chemistry                        17.927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GEWANDTE CHEMIE-INTERNATIONAL EDITIO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2.730 </a:t>
            </a:r>
            <a:br>
              <a:rPr sz="22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NUAL REVIEW OF PHYSICAL CHEMISTRY     12.245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DRICHIMICA ACTA        11.786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OURNAL OF PHOTOCHEMISTRY AND PHOTOBIOLOGY C-PHOTOCHEMISTRY REVIEWS       10.81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nual Review of Analytical Chemistry   10.404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ORDINATION CHEMISTRY REVIEWS      10.018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VANCES IN ORGANOMETALLIC CHEMISTRY     9.692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ergy &amp; Environmental Science     9.488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OURNAL OF THE AMERICAN CHEMICAL SOCIETY    9.023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TURAL PRODUCT REPORTS 8.881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说明：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、主要统计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类影响因子最高的前十六份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期刊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。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、时间区间：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9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1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日。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、归类依据：以通讯作者单位为准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、数据来源：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I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系统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920" y="620640"/>
            <a:ext cx="2890800" cy="557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中科院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3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北京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清华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3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厦门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9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中国科学技术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复旦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5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南开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浙江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9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四川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8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南京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华东理工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吉林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3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武汉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2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香港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2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大连理工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192560" y="4575240"/>
            <a:ext cx="153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526560" y="685800"/>
            <a:ext cx="2036880" cy="5429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兰州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海交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香港中文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山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香港科技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京化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东南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华南理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华东师范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苏州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湖南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东北师范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哈尔滨工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武汉理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山东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香港理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395400" y="469440"/>
            <a:ext cx="2050560" cy="601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南京工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华中科技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福州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人民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香港城市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济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石油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华中师范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京师范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京航天航空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西北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香港浸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浙江工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云南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西安交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西南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京理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农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郑州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042920" y="156600"/>
            <a:ext cx="3168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-2012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合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7690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4617b"/>
                </a:solidFill>
                <a:latin typeface="Calibri"/>
              </a:rPr>
              <a:t>中国大学化学专业排名</a:t>
            </a:r>
            <a:r>
              <a:rPr b="0" lang="en-US" sz="3300" spc="-1" strike="noStrike">
                <a:solidFill>
                  <a:srgbClr val="04617b"/>
                </a:solidFill>
                <a:latin typeface="Calibri"/>
              </a:rPr>
              <a:t>------</a:t>
            </a:r>
            <a:br>
              <a:rPr sz="3300"/>
            </a:br>
            <a:r>
              <a:rPr b="0" lang="en-US" sz="3300" spc="-1" strike="noStrike">
                <a:solidFill>
                  <a:srgbClr val="04617b"/>
                </a:solidFill>
                <a:latin typeface="Calibri"/>
              </a:rPr>
              <a:t>                       </a:t>
            </a:r>
            <a:r>
              <a:rPr b="0" lang="zh-CN" sz="2700" spc="-1" strike="noStrike">
                <a:solidFill>
                  <a:srgbClr val="006600"/>
                </a:solidFill>
                <a:latin typeface="Calibri"/>
              </a:rPr>
              <a:t>网络论坛仅供参考</a:t>
            </a: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71900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nstantia"/>
              </a:rPr>
              <a:t> 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1.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北大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　北大当之无愧在高校化学排名第一，各个方向都不错。 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2-5 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南大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,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复旦，南开，清华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　南大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复旦，南开，清华处于第二梯队，其中复旦上升速度非常快，光从这两年发表的论文高分子和物化都处在最前列。南大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南开都是传统化学强校，南开的有机，南大的无机都是强势学科，南开的无机上升很快。清华也是强在物化，清华高水平的文章不少，但相对规模较小。 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640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6-7 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吉大 科大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　科大化学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F&gt;7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的文章不多但整体实力还是挺强；吉大化学，尤其是理论计算化学。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8-9 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厦大 浙大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　厦大化学的年轻院士很多，文章却不是很多，不知道为什么？大家都批评浙大高水平的文章不多，但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F&gt;3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的化学文章远多于厦大，而且高分子发展神速，仅次于复旦。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10.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中山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　应该是中山大学，不温不火。但中山大学是大陆化学学科明显的分界线，中山肯定不如前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所学校，而又比后面的学校强不少，后面学校唯一的特色是兰大的有机。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3300"/>
                </a:solidFill>
                <a:latin typeface="Calibri"/>
              </a:rPr>
              <a:t>长江学者奖励计划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9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月，教育部和李嘉诚基金会共同启动实施了“长江学者奖励计划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长江学者奖励计划”包括特聘教授、讲座教授岗位制度和长江学者成就奖三部分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00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起，每年计划聘任特聘教授、讲座教授各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名，聘期为三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-324000" y="-31608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777564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11-14 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上海交大 山大 武大 兰大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上海交大，大概工科发展高分子比较容易，像浙大一样高分子不错。山大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&gt;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的化学文章是非前十名学校里最多的，和厦大差不多，但好像没什么特色，武大的理科除了生物外，就算分析化学还行。兰大化学出去的牛人太多了，几乎每个学校都有不少兰大毕业的，这点和吉大很像，有机很好。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15-17 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华东理工 川大 北师大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华东理工 川大 北师大都一般化，华东理工的化工还是很强，北师大的化学不想数学和 物理那么强。 </a:t>
            </a:r>
            <a:br>
              <a:rPr sz="26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新一轮重点学科遴选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高分子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复旦肯定没有问题，浙大科大南开属于第二梯队，然后上交大、北化工、南大、北大、吉大都不错，中山比较够呛，在广州华南理工和中山差不多。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分析化学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北大应该是第一，其他的几个学校武大、复旦、南大、厦大都差不多，接下来湖大，然后南开的分析也有所起色。</a:t>
            </a:r>
            <a:br>
              <a:rPr sz="2600"/>
            </a:b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91440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无机化学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南大以前是绝对第一，但现在南开可以与之一比高低，吉大也很强，接着是北大，再下来科大和苏州大学都有一定的竞争力，然后东北师大，山大，厦大都差不多。</a:t>
            </a:r>
            <a:br>
              <a:rPr sz="2600"/>
            </a:b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6756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有机化学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前三名优势明显，北大和南开并列第一，感觉北大稍强，第三兰大。 　接下来应该是浙大和清华，再次厦大和科大。 </a:t>
            </a:r>
            <a:br>
              <a:rPr sz="2600"/>
            </a:b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物理化学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　　物化强校很多，因为物化是化学最容易发好文章的方向，处于上升期的学校也不少。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　　第一梯队的数量就很多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科大、北大、清华、吉大、南大，复旦也很好，浙大物化处于其下。接下来南开厦大，厦大物化以前不错，但近几年很一般，感觉名大于实，姑且放在这一档次。然后山大武大上海交大都不差，福大也还行，整个福建的物化还是不错的。大连理工、北化工也过得去。 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中国研究生教育分专业排行榜：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070303</a:t>
            </a: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有机化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68360" y="1341360"/>
          <a:ext cx="8218440" cy="5278680"/>
        </p:xfrm>
        <a:graphic>
          <a:graphicData uri="http://schemas.openxmlformats.org/drawingml/2006/table">
            <a:tbl>
              <a:tblPr/>
              <a:tblGrid>
                <a:gridCol w="647640"/>
                <a:gridCol w="1368360"/>
                <a:gridCol w="716040"/>
                <a:gridCol w="579600"/>
                <a:gridCol w="1584000"/>
                <a:gridCol w="579600"/>
                <a:gridCol w="500040"/>
                <a:gridCol w="1584360"/>
                <a:gridCol w="65880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名称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名称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名称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兰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吉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徐州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山东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华中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京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天津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浙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山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郑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川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复旦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苏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科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武汉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湖南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清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厦门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云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9760" y="484200"/>
            <a:ext cx="81691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070304</a:t>
            </a:r>
            <a:r>
              <a:rPr b="1" lang="zh-CN" sz="4500" spc="-1" strike="noStrike">
                <a:solidFill>
                  <a:srgbClr val="04617b"/>
                </a:solidFill>
                <a:latin typeface="Calibri"/>
              </a:rPr>
              <a:t>物理化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39640" y="1125360"/>
          <a:ext cx="8229600" cy="5286600"/>
        </p:xfrm>
        <a:graphic>
          <a:graphicData uri="http://schemas.openxmlformats.org/drawingml/2006/table">
            <a:tbl>
              <a:tblPr/>
              <a:tblGrid>
                <a:gridCol w="443160"/>
                <a:gridCol w="1377720"/>
                <a:gridCol w="638280"/>
                <a:gridCol w="576360"/>
                <a:gridCol w="1531800"/>
                <a:gridCol w="700200"/>
                <a:gridCol w="647640"/>
                <a:gridCol w="1512720"/>
                <a:gridCol w="801720"/>
              </a:tblGrid>
              <a:tr h="84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清华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吉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京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福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科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大连理工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华东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复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武汉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天津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浙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京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山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厦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山东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湖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辽宁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070301</a:t>
            </a: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无机化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57200" y="1052640"/>
          <a:ext cx="8229600" cy="5043240"/>
        </p:xfrm>
        <a:graphic>
          <a:graphicData uri="http://schemas.openxmlformats.org/drawingml/2006/table">
            <a:tbl>
              <a:tblPr/>
              <a:tblGrid>
                <a:gridCol w="514440"/>
                <a:gridCol w="1512720"/>
                <a:gridCol w="708120"/>
                <a:gridCol w="515880"/>
                <a:gridCol w="1511280"/>
                <a:gridCol w="720720"/>
                <a:gridCol w="576360"/>
                <a:gridCol w="1655640"/>
                <a:gridCol w="514440"/>
              </a:tblGrid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京大学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东北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武汉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吉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兰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同济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开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复旦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苏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京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厦门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科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浙江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山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郑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山东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清华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070302</a:t>
            </a:r>
            <a:r>
              <a:rPr b="1" lang="zh-CN" sz="5000" spc="-1" strike="noStrike">
                <a:solidFill>
                  <a:srgbClr val="04617b"/>
                </a:solidFill>
                <a:latin typeface="Calibri"/>
              </a:rPr>
              <a:t>分析化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57200" y="1600200"/>
          <a:ext cx="8229600" cy="5230800"/>
        </p:xfrm>
        <a:graphic>
          <a:graphicData uri="http://schemas.openxmlformats.org/drawingml/2006/table">
            <a:tbl>
              <a:tblPr/>
              <a:tblGrid>
                <a:gridCol w="514440"/>
                <a:gridCol w="1584360"/>
                <a:gridCol w="636480"/>
                <a:gridCol w="515880"/>
                <a:gridCol w="1800360"/>
                <a:gridCol w="431640"/>
                <a:gridCol w="503280"/>
                <a:gridCol w="1728720"/>
                <a:gridCol w="5144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武汉大学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厦门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西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京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科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东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吉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京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四川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浙江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清华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山东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开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兰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西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复旦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华东师范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湖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山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受聘特聘教授岗位的人员在聘期内享受每年人民币１０万元的特聘教授岗位津贴，同时享受学校按照国家有关规定提供的工资、保险、福利等待遇。其中，任职期间取得重大学术成就、作出杰出贡献的人员，还可以获得每年颁发一次的“长江学者成就奖”。每次奖励一等奖１名，奖励人民币１００万元，二等奖３名，每人奖励人民币５０万元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考研选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nstantia"/>
              </a:rPr>
              <a:t>选学校、专业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nstantia"/>
              </a:rPr>
              <a:t>选导师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研究方向、研究基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2d700"/>
                </a:solidFill>
                <a:latin typeface="Constantia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2d700"/>
                </a:solidFill>
                <a:latin typeface="Constantia"/>
              </a:rPr>
              <a:t>     </a:t>
            </a:r>
            <a:r>
              <a:rPr b="1" i="1" lang="en-US" sz="8000" spc="-1" strike="noStrike">
                <a:solidFill>
                  <a:srgbClr val="e2d700"/>
                </a:solidFill>
                <a:latin typeface="Constantia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9dd9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9dd9"/>
                </a:solidFill>
                <a:latin typeface="Calibri"/>
              </a:rPr>
              <a:t>）学校类型</a:t>
            </a:r>
            <a:r>
              <a:rPr b="1" lang="zh-CN" sz="5000" spc="-1" strike="noStrike">
                <a:solidFill>
                  <a:srgbClr val="009dd9"/>
                </a:solidFill>
                <a:latin typeface="Calibri"/>
              </a:rPr>
              <a:t>     “</a:t>
            </a:r>
            <a:r>
              <a:rPr b="1" lang="en-US" sz="5000" spc="-1" strike="noStrike">
                <a:solidFill>
                  <a:srgbClr val="009dd9"/>
                </a:solidFill>
                <a:latin typeface="Calibri"/>
              </a:rPr>
              <a:t>985”</a:t>
            </a:r>
            <a:r>
              <a:rPr b="1" lang="zh-CN" sz="5000" spc="-1" strike="noStrike">
                <a:solidFill>
                  <a:srgbClr val="009dd9"/>
                </a:solidFill>
                <a:latin typeface="Calibri"/>
              </a:rPr>
              <a:t>高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9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日，江泽民总书记在庆祝北大建校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周年大会上向全社会宣告：“为了实现现代化，我国要有若干所具有世界先进水平的一流大学。”为贯彻落实党中央科教兴国的战略和江泽民同志的号召，教育部决定在实施“面向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世纪教育振兴行动计划”中，重点支持北京大学、清华大学等部分高等学校创建世界一流大学和高水平大学，简称“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985”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工程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-396720" y="-27000"/>
            <a:ext cx="8529480" cy="154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7:23:31Z</dcterms:created>
  <dc:creator>User</dc:creator>
  <dc:description/>
  <dc:language>en-US</dc:language>
  <cp:lastModifiedBy>未知用户</cp:lastModifiedBy>
  <dcterms:modified xsi:type="dcterms:W3CDTF">2016-01-13T03:24:32Z</dcterms:modified>
  <cp:revision>141</cp:revision>
  <dc:subject/>
  <dc:title>中国大学化学专业排行榜</dc:title>
</cp:coreProperties>
</file>