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12.jpeg" ContentType="image/jpeg"/>
  <Override PartName="/ppt/media/image7.jpeg" ContentType="image/jpeg"/>
  <Override PartName="/ppt/media/camera.wav" ContentType="audio/x-wav"/>
  <Override PartName="/ppt/media/image21.jpeg" ContentType="image/jpeg"/>
  <Override PartName="/ppt/media/image3.png" ContentType="image/png"/>
  <Override PartName="/ppt/media/image24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D9B-D20A-483D-BA00-523DDD76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7AB-B686-426F-9386-43D8F1D4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1BF0-8CB5-4C91-B214-8FEE91C7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C58-A746-4748-AAB5-FF9CB7B5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2B35-CAB0-455F-888E-B9D41B62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770B-5194-4778-8119-7E26B8FA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4BD0-881D-4D8F-A56A-9DC5CFD1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4A3E-6BDC-4B98-9543-B172E426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7DE8-8A6C-4CF0-8418-64A2BB57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D9BD-E7F9-4CF2-866F-72B504C9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7549-7B3F-4B6E-812F-483956E5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184-56F1-40CC-9D5B-A17212BB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9428-7588-4669-B8CB-9AECB241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E91E-8660-4A91-B7BF-760959FC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EC51-EDFA-46D2-BBBF-628C5AFC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BA47-B6F3-4D8C-B7FA-D5E4C321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31D5-164B-4D4F-AB33-A9DC420D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108-7BD7-4D1D-99C3-6137A20F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3FC-7265-4986-91BF-D5421A8B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030-BD7F-4C67-AA2A-E494941E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DC4-062C-4C72-93D7-4B0ECFEB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61F-25A4-4E37-A072-47EE9886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F58-3133-4BC6-A63D-1C8CE0EF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44A-A654-4065-BABA-925B8C98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CE94-D8BE-4D0E-9CB3-60007539D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6D12-3D21-42B6-A67B-A2D7CA4FD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file:///tmp/home/.config/libreoffice/4/user/gallery/camera.wav" TargetMode="External"/><Relationship Id="rId4" Type="http://schemas.microsoft.com/office/2007/relationships/media" Target="file:///tmp/home/.config/libreoffice/4/user/gallery/camera.wav" TargetMode="External"/><Relationship Id="rId5" Type="http://schemas.openxmlformats.org/officeDocument/2006/relationships/image" Target="../media/image17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03280" y="54936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0ec"/>
                </a:solidFill>
                <a:latin typeface="Times New Roman"/>
              </a:rPr>
              <a:t>人民解放军百万大军横渡长江的背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1197000"/>
            <a:ext cx="73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解放战争时期，中国人民解放军第二、第三野战军和第四野战军一部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在长江中下游强渡长江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对国民党军汤恩伯、白崇禧两集团进行的战略性进攻战役。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国共双方代表团拟定了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国内和平协定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最后修正案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》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并商定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日签字。但南京国民党政府却拒绝签字，人民解放军即遵照中共中央军委命令，于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日夜发起渡江作战。其中突击集团第一梯队第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第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第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第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军在强大炮火掩护下，冒着国民党军军舰和江防炮火的拦截，在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余公里的正面上，首先登船起渡，迅速攻占了鲫鱼洲等江心洲。接着，突破鲁港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芜湖西南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至铜陵段国民党军江防阵地，连续打退守军的多次反击，巩固了滩头阵地，尔后向纵深发展攻势，至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日，占领铜陵、繁昌、顺安等地。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372360" y="522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camera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1227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908000" y="765000"/>
            <a:ext cx="251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96078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作者简介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96078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529080" cy="467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0" y="1557360"/>
            <a:ext cx="529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毛泽东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893-1976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），中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人民共和国的缔造者，伟大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无产阶级革命家、军事家、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想家，中华人民共和国第一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国家主席，中国人民第一代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导集体的核心。他的讲话稿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在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毛泽东选集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（共五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里，他的诗词收在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毛泽东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词文集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里，他撰写的新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收在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毛泽东新闻工作文选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47640" y="836640"/>
            <a:ext cx="25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96078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文体知识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96078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8" name=""/>
          <p:cNvSpPr/>
          <p:nvPr/>
        </p:nvSpPr>
        <p:spPr>
          <a:xfrm>
            <a:off x="592200" y="1844640"/>
            <a:ext cx="85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、新闻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又称消息，是报纸最常用的文章样式。它用事实说话，及时报道最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发生的有社会价值的事实。从广义上讲，包括：消息、通讯、报告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学；从狭义上讲，就是指消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2708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、新闻六要素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人物、时间、地点、事件发生的原因、经过、结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0686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、新闻结构五部分：标题、导语、主体、背景、结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3500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）标题</a:t>
            </a:r>
            <a:r>
              <a:rPr b="1" lang="zh-CN" sz="1800" spc="-1" strike="noStrike">
                <a:solidFill>
                  <a:srgbClr val="b2b2b2"/>
                </a:solidFill>
                <a:latin typeface="Tahoma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常利用多行形式。分为：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主标、引标、副标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三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86064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）导语</a:t>
            </a:r>
            <a:r>
              <a:rPr b="1" lang="zh-CN" sz="1800" spc="-1" strike="noStrike">
                <a:solidFill>
                  <a:srgbClr val="b2b2b2"/>
                </a:solidFill>
                <a:latin typeface="Tahoma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消息开头的第一段或第一句话，它扼要地揭示消息的核心内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4149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）主体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消息的躯干，它用充足的事实表现主题，是对导语内容的进一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扩展和阐释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4724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）背景和结语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背景指的是消息发生的社会环境和自然环境。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背景和结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有时可以暗含在主体中，没有明显标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77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、新闻的特征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用事实说话（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基本特征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）、迅速及时、简明扼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7340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、新闻在表达方式上的特点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以记叙为主，可适当议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3573360"/>
            <a:ext cx="144720" cy="863640"/>
          </a:xfrm>
          <a:custGeom>
            <a:avLst/>
            <a:gdLst>
              <a:gd name="textAreaLeft" fmla="*/ 92520 w 144720"/>
              <a:gd name="textAreaRight" fmla="*/ 14508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3800" y="3645000"/>
            <a:ext cx="4550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必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可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119052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“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三特征、五结构、六要素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71640" y="69228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新闻的结构要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1268280"/>
            <a:ext cx="13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导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背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126828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高度概括事件（迅速了解新闻主要内容，要看标题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1963800"/>
            <a:ext cx="69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简洁明了的叙述事件。一般指“电头”后的第一句话或第一段。（较详细了解新闻内容，要看导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2708280"/>
            <a:ext cx="723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导语后集中叙述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事件、阐发问题和表明观点的中心部分。（详细地的了解新闻内容，要看主体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422100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14bc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是事物的历史状况或存在的环境、条件，是从属部分，一般插在主体中，也插在“导语”或“结语”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3500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是新闻的结尾，一般指新闻的最后一句或一段。（依内容的需要，可有可无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990720"/>
            <a:ext cx="30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教学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1628640"/>
            <a:ext cx="7129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把握课文中的人物、事件，认识中国革命胜利来之不易，并从中获得有益启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了解新闻的特点、新闻的结构、新闻的六大要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2000" cy="7416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87280" y="134136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请给下面红色的字标上正确的读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69228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42818"/>
                </a:solidFill>
                <a:latin typeface="Times New Roman"/>
                <a:ea typeface="华文隶书"/>
              </a:rPr>
              <a:t>检查预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1989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</a:t>
            </a: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1916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芜</a:t>
            </a: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2637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港（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565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退（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33577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灭（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 rot="10756800">
            <a:off x="4355280" y="3357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绥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）（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407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宝（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407664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</a:t>
            </a: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顽抗（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486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屋建</a:t>
            </a: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479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气势</a:t>
            </a: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磅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 ）（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19731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53080" y="1844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w</a:t>
            </a:r>
            <a:r>
              <a:rPr b="1" lang="zh-CN" sz="1800" spc="-1" strike="noStrike">
                <a:solidFill>
                  <a:srgbClr val="2f20ec"/>
                </a:solidFill>
                <a:latin typeface="Times New Roman"/>
              </a:rPr>
              <a:t>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71640" y="2637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d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2492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ku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27280" y="3284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jiā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328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su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80360" y="328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jì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27280" y="400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gu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400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y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797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lí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47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pá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28000" y="478152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b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33840" y="5734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锐不可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15520" y="568152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dà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2000" cy="7416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79640" y="981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请解析下面的词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1700280"/>
            <a:ext cx="1727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屋建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隅顽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气势磅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溃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悍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167004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0e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形容居高临下，无法阻挡的有利形势。“瓴”，古代一种盛水的瓶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242100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0e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垂死挣扎，顽固抵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19640" y="2924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0e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形容气势雄伟壮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27280" y="3645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0e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阻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4292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0e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败退。“溃”，溃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5013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0e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蛮横的样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68360" y="2276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0ec"/>
                </a:solidFill>
                <a:latin typeface="Times New Roman"/>
              </a:rPr>
              <a:t>㈠、自读课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0e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2f20ec"/>
                </a:solidFill>
                <a:latin typeface="Times New Roman"/>
              </a:rPr>
              <a:t>对照地图，复述三路大军的渡江情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155736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整体把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5732640"/>
              <a:ext cx="914400" cy="50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九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29600" y="1309680"/>
              <a:ext cx="90000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江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6000" y="3700080"/>
              <a:ext cx="9907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安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10080" y="2094840"/>
              <a:ext cx="114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芜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0" y="5867280"/>
            <a:ext cx="9144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九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53280" y="1371600"/>
            <a:ext cx="914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江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3672000"/>
            <a:ext cx="99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安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3564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芜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9495800">
            <a:off x="540000" y="4005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方正行楷简体"/>
              </a:rPr>
              <a:t>西路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9681800">
            <a:off x="611640" y="4507920"/>
            <a:ext cx="22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35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万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9011000">
            <a:off x="2362320" y="205704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中路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9104000">
            <a:off x="2988360" y="242064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万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9011000">
            <a:off x="3734280" y="19656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方正行楷简体"/>
              </a:rPr>
              <a:t>东路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8946200">
            <a:off x="4141080" y="764280"/>
            <a:ext cx="16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万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258920" y="404640"/>
            <a:ext cx="7391520" cy="5562720"/>
            <a:chOff x="1258920" y="404640"/>
            <a:chExt cx="7391520" cy="5562720"/>
          </a:xfrm>
        </p:grpSpPr>
        <p:sp>
          <p:nvSpPr>
            <p:cNvPr id="196" name="未知"/>
            <p:cNvSpPr/>
            <p:nvPr/>
          </p:nvSpPr>
          <p:spPr>
            <a:xfrm>
              <a:off x="1258920" y="4330440"/>
              <a:ext cx="2038320" cy="1636920"/>
            </a:xfrm>
            <a:custGeom>
              <a:avLst/>
              <a:gdLst/>
              <a:ahLst/>
              <a:rect l="l" t="t" r="r" b="b"/>
              <a:pathLst>
                <a:path w="1284" h="1008">
                  <a:moveTo>
                    <a:pt x="0" y="1008"/>
                  </a:moveTo>
                  <a:cubicBezTo>
                    <a:pt x="8" y="984"/>
                    <a:pt x="3" y="950"/>
                    <a:pt x="24" y="936"/>
                  </a:cubicBezTo>
                  <a:cubicBezTo>
                    <a:pt x="60" y="912"/>
                    <a:pt x="96" y="900"/>
                    <a:pt x="132" y="876"/>
                  </a:cubicBezTo>
                  <a:cubicBezTo>
                    <a:pt x="175" y="890"/>
                    <a:pt x="223" y="892"/>
                    <a:pt x="264" y="912"/>
                  </a:cubicBezTo>
                  <a:cubicBezTo>
                    <a:pt x="357" y="959"/>
                    <a:pt x="246" y="918"/>
                    <a:pt x="336" y="948"/>
                  </a:cubicBezTo>
                  <a:cubicBezTo>
                    <a:pt x="360" y="940"/>
                    <a:pt x="391" y="933"/>
                    <a:pt x="408" y="912"/>
                  </a:cubicBezTo>
                  <a:cubicBezTo>
                    <a:pt x="455" y="854"/>
                    <a:pt x="377" y="890"/>
                    <a:pt x="456" y="864"/>
                  </a:cubicBezTo>
                  <a:cubicBezTo>
                    <a:pt x="520" y="767"/>
                    <a:pt x="704" y="691"/>
                    <a:pt x="804" y="624"/>
                  </a:cubicBezTo>
                  <a:cubicBezTo>
                    <a:pt x="833" y="605"/>
                    <a:pt x="911" y="518"/>
                    <a:pt x="924" y="480"/>
                  </a:cubicBezTo>
                  <a:cubicBezTo>
                    <a:pt x="928" y="468"/>
                    <a:pt x="927" y="453"/>
                    <a:pt x="936" y="444"/>
                  </a:cubicBezTo>
                  <a:cubicBezTo>
                    <a:pt x="956" y="424"/>
                    <a:pt x="1008" y="396"/>
                    <a:pt x="1008" y="396"/>
                  </a:cubicBezTo>
                  <a:cubicBezTo>
                    <a:pt x="1054" y="327"/>
                    <a:pt x="1046" y="307"/>
                    <a:pt x="1020" y="228"/>
                  </a:cubicBezTo>
                  <a:cubicBezTo>
                    <a:pt x="1033" y="161"/>
                    <a:pt x="1024" y="145"/>
                    <a:pt x="1080" y="108"/>
                  </a:cubicBezTo>
                  <a:cubicBezTo>
                    <a:pt x="1107" y="27"/>
                    <a:pt x="1069" y="104"/>
                    <a:pt x="1200" y="60"/>
                  </a:cubicBezTo>
                  <a:cubicBezTo>
                    <a:pt x="1238" y="47"/>
                    <a:pt x="1259" y="25"/>
                    <a:pt x="1284" y="0"/>
                  </a:cubicBezTo>
                </a:path>
              </a:pathLst>
            </a:custGeom>
            <a:noFill/>
            <a:ln w="142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3240000" y="2425680"/>
              <a:ext cx="2192400" cy="1981080"/>
            </a:xfrm>
            <a:custGeom>
              <a:avLst/>
              <a:gdLst/>
              <a:ahLst/>
              <a:rect l="l" t="t" r="r" b="b"/>
              <a:pathLst>
                <a:path w="1381" h="1248">
                  <a:moveTo>
                    <a:pt x="1344" y="0"/>
                  </a:moveTo>
                  <a:cubicBezTo>
                    <a:pt x="1356" y="62"/>
                    <a:pt x="1381" y="108"/>
                    <a:pt x="1308" y="132"/>
                  </a:cubicBezTo>
                  <a:cubicBezTo>
                    <a:pt x="1261" y="116"/>
                    <a:pt x="1195" y="127"/>
                    <a:pt x="1152" y="156"/>
                  </a:cubicBezTo>
                  <a:cubicBezTo>
                    <a:pt x="1128" y="172"/>
                    <a:pt x="1080" y="204"/>
                    <a:pt x="1080" y="204"/>
                  </a:cubicBezTo>
                  <a:cubicBezTo>
                    <a:pt x="1076" y="216"/>
                    <a:pt x="1077" y="231"/>
                    <a:pt x="1068" y="240"/>
                  </a:cubicBezTo>
                  <a:cubicBezTo>
                    <a:pt x="1059" y="249"/>
                    <a:pt x="1043" y="246"/>
                    <a:pt x="1032" y="252"/>
                  </a:cubicBezTo>
                  <a:cubicBezTo>
                    <a:pt x="967" y="288"/>
                    <a:pt x="968" y="292"/>
                    <a:pt x="924" y="336"/>
                  </a:cubicBezTo>
                  <a:cubicBezTo>
                    <a:pt x="920" y="348"/>
                    <a:pt x="921" y="363"/>
                    <a:pt x="912" y="372"/>
                  </a:cubicBezTo>
                  <a:cubicBezTo>
                    <a:pt x="870" y="414"/>
                    <a:pt x="874" y="366"/>
                    <a:pt x="852" y="348"/>
                  </a:cubicBezTo>
                  <a:cubicBezTo>
                    <a:pt x="842" y="340"/>
                    <a:pt x="828" y="340"/>
                    <a:pt x="816" y="336"/>
                  </a:cubicBezTo>
                  <a:cubicBezTo>
                    <a:pt x="766" y="353"/>
                    <a:pt x="765" y="378"/>
                    <a:pt x="720" y="408"/>
                  </a:cubicBezTo>
                  <a:cubicBezTo>
                    <a:pt x="650" y="513"/>
                    <a:pt x="669" y="451"/>
                    <a:pt x="684" y="600"/>
                  </a:cubicBezTo>
                  <a:cubicBezTo>
                    <a:pt x="668" y="709"/>
                    <a:pt x="681" y="657"/>
                    <a:pt x="648" y="756"/>
                  </a:cubicBezTo>
                  <a:cubicBezTo>
                    <a:pt x="640" y="780"/>
                    <a:pt x="600" y="772"/>
                    <a:pt x="576" y="780"/>
                  </a:cubicBezTo>
                  <a:cubicBezTo>
                    <a:pt x="514" y="801"/>
                    <a:pt x="451" y="815"/>
                    <a:pt x="396" y="852"/>
                  </a:cubicBezTo>
                  <a:cubicBezTo>
                    <a:pt x="356" y="912"/>
                    <a:pt x="384" y="880"/>
                    <a:pt x="300" y="936"/>
                  </a:cubicBezTo>
                  <a:cubicBezTo>
                    <a:pt x="273" y="954"/>
                    <a:pt x="204" y="960"/>
                    <a:pt x="204" y="960"/>
                  </a:cubicBezTo>
                  <a:cubicBezTo>
                    <a:pt x="192" y="972"/>
                    <a:pt x="176" y="981"/>
                    <a:pt x="168" y="996"/>
                  </a:cubicBezTo>
                  <a:cubicBezTo>
                    <a:pt x="150" y="1029"/>
                    <a:pt x="153" y="1072"/>
                    <a:pt x="132" y="1104"/>
                  </a:cubicBezTo>
                  <a:cubicBezTo>
                    <a:pt x="116" y="1128"/>
                    <a:pt x="100" y="1152"/>
                    <a:pt x="84" y="1176"/>
                  </a:cubicBezTo>
                  <a:cubicBezTo>
                    <a:pt x="77" y="1187"/>
                    <a:pt x="59" y="1182"/>
                    <a:pt x="48" y="1188"/>
                  </a:cubicBezTo>
                  <a:cubicBezTo>
                    <a:pt x="35" y="1194"/>
                    <a:pt x="24" y="1204"/>
                    <a:pt x="12" y="1212"/>
                  </a:cubicBezTo>
                  <a:cubicBezTo>
                    <a:pt x="8" y="1224"/>
                    <a:pt x="0" y="1248"/>
                    <a:pt x="0" y="1248"/>
                  </a:cubicBezTo>
                </a:path>
              </a:pathLst>
            </a:custGeom>
            <a:noFill/>
            <a:ln w="1494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5392800" y="404640"/>
              <a:ext cx="3257640" cy="2057400"/>
            </a:xfrm>
            <a:custGeom>
              <a:avLst/>
              <a:gdLst/>
              <a:ahLst/>
              <a:rect l="l" t="t" r="r" b="b"/>
              <a:pathLst>
                <a:path w="2052" h="1296">
                  <a:moveTo>
                    <a:pt x="2052" y="552"/>
                  </a:moveTo>
                  <a:cubicBezTo>
                    <a:pt x="1994" y="545"/>
                    <a:pt x="1903" y="546"/>
                    <a:pt x="1848" y="516"/>
                  </a:cubicBezTo>
                  <a:cubicBezTo>
                    <a:pt x="1724" y="447"/>
                    <a:pt x="1821" y="483"/>
                    <a:pt x="1740" y="456"/>
                  </a:cubicBezTo>
                  <a:cubicBezTo>
                    <a:pt x="1723" y="404"/>
                    <a:pt x="1690" y="361"/>
                    <a:pt x="1668" y="312"/>
                  </a:cubicBezTo>
                  <a:cubicBezTo>
                    <a:pt x="1643" y="255"/>
                    <a:pt x="1633" y="192"/>
                    <a:pt x="1620" y="132"/>
                  </a:cubicBezTo>
                  <a:cubicBezTo>
                    <a:pt x="1612" y="97"/>
                    <a:pt x="1603" y="37"/>
                    <a:pt x="1572" y="12"/>
                  </a:cubicBezTo>
                  <a:cubicBezTo>
                    <a:pt x="1562" y="4"/>
                    <a:pt x="1548" y="4"/>
                    <a:pt x="1536" y="0"/>
                  </a:cubicBezTo>
                  <a:cubicBezTo>
                    <a:pt x="1516" y="4"/>
                    <a:pt x="1493" y="1"/>
                    <a:pt x="1476" y="12"/>
                  </a:cubicBezTo>
                  <a:cubicBezTo>
                    <a:pt x="1465" y="19"/>
                    <a:pt x="1470" y="37"/>
                    <a:pt x="1464" y="48"/>
                  </a:cubicBezTo>
                  <a:cubicBezTo>
                    <a:pt x="1458" y="61"/>
                    <a:pt x="1449" y="73"/>
                    <a:pt x="1440" y="84"/>
                  </a:cubicBezTo>
                  <a:cubicBezTo>
                    <a:pt x="1409" y="121"/>
                    <a:pt x="1377" y="141"/>
                    <a:pt x="1332" y="156"/>
                  </a:cubicBezTo>
                  <a:cubicBezTo>
                    <a:pt x="1258" y="107"/>
                    <a:pt x="1245" y="122"/>
                    <a:pt x="1140" y="132"/>
                  </a:cubicBezTo>
                  <a:cubicBezTo>
                    <a:pt x="986" y="123"/>
                    <a:pt x="904" y="110"/>
                    <a:pt x="756" y="132"/>
                  </a:cubicBezTo>
                  <a:cubicBezTo>
                    <a:pt x="688" y="142"/>
                    <a:pt x="631" y="187"/>
                    <a:pt x="564" y="204"/>
                  </a:cubicBezTo>
                  <a:cubicBezTo>
                    <a:pt x="519" y="234"/>
                    <a:pt x="518" y="259"/>
                    <a:pt x="468" y="276"/>
                  </a:cubicBezTo>
                  <a:cubicBezTo>
                    <a:pt x="451" y="328"/>
                    <a:pt x="450" y="342"/>
                    <a:pt x="396" y="360"/>
                  </a:cubicBezTo>
                  <a:cubicBezTo>
                    <a:pt x="380" y="384"/>
                    <a:pt x="357" y="405"/>
                    <a:pt x="348" y="432"/>
                  </a:cubicBezTo>
                  <a:cubicBezTo>
                    <a:pt x="340" y="456"/>
                    <a:pt x="342" y="486"/>
                    <a:pt x="324" y="504"/>
                  </a:cubicBezTo>
                  <a:cubicBezTo>
                    <a:pt x="293" y="535"/>
                    <a:pt x="221" y="611"/>
                    <a:pt x="204" y="648"/>
                  </a:cubicBezTo>
                  <a:cubicBezTo>
                    <a:pt x="172" y="720"/>
                    <a:pt x="164" y="798"/>
                    <a:pt x="120" y="864"/>
                  </a:cubicBezTo>
                  <a:cubicBezTo>
                    <a:pt x="95" y="1011"/>
                    <a:pt x="0" y="1145"/>
                    <a:pt x="0" y="1296"/>
                  </a:cubicBezTo>
                </a:path>
              </a:pathLst>
            </a:custGeom>
            <a:noFill/>
            <a:ln w="200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未知"/>
          <p:cNvSpPr/>
          <p:nvPr/>
        </p:nvSpPr>
        <p:spPr>
          <a:xfrm>
            <a:off x="1258920" y="4292640"/>
            <a:ext cx="2038320" cy="1636560"/>
          </a:xfrm>
          <a:custGeom>
            <a:avLst/>
            <a:gdLst/>
            <a:ahLst/>
            <a:rect l="l" t="t" r="r" b="b"/>
            <a:pathLst>
              <a:path w="1284" h="1008">
                <a:moveTo>
                  <a:pt x="0" y="1008"/>
                </a:moveTo>
                <a:cubicBezTo>
                  <a:pt x="8" y="984"/>
                  <a:pt x="3" y="950"/>
                  <a:pt x="24" y="936"/>
                </a:cubicBezTo>
                <a:cubicBezTo>
                  <a:pt x="60" y="912"/>
                  <a:pt x="96" y="900"/>
                  <a:pt x="132" y="876"/>
                </a:cubicBezTo>
                <a:cubicBezTo>
                  <a:pt x="175" y="890"/>
                  <a:pt x="223" y="892"/>
                  <a:pt x="264" y="912"/>
                </a:cubicBezTo>
                <a:cubicBezTo>
                  <a:pt x="357" y="959"/>
                  <a:pt x="246" y="918"/>
                  <a:pt x="336" y="948"/>
                </a:cubicBezTo>
                <a:cubicBezTo>
                  <a:pt x="360" y="940"/>
                  <a:pt x="391" y="933"/>
                  <a:pt x="408" y="912"/>
                </a:cubicBezTo>
                <a:cubicBezTo>
                  <a:pt x="455" y="854"/>
                  <a:pt x="377" y="890"/>
                  <a:pt x="456" y="864"/>
                </a:cubicBezTo>
                <a:cubicBezTo>
                  <a:pt x="520" y="767"/>
                  <a:pt x="704" y="691"/>
                  <a:pt x="804" y="624"/>
                </a:cubicBezTo>
                <a:cubicBezTo>
                  <a:pt x="833" y="605"/>
                  <a:pt x="911" y="518"/>
                  <a:pt x="924" y="480"/>
                </a:cubicBezTo>
                <a:cubicBezTo>
                  <a:pt x="928" y="468"/>
                  <a:pt x="927" y="453"/>
                  <a:pt x="936" y="444"/>
                </a:cubicBezTo>
                <a:cubicBezTo>
                  <a:pt x="956" y="424"/>
                  <a:pt x="1008" y="396"/>
                  <a:pt x="1008" y="396"/>
                </a:cubicBezTo>
                <a:cubicBezTo>
                  <a:pt x="1054" y="327"/>
                  <a:pt x="1046" y="307"/>
                  <a:pt x="1020" y="228"/>
                </a:cubicBezTo>
                <a:cubicBezTo>
                  <a:pt x="1033" y="161"/>
                  <a:pt x="1024" y="145"/>
                  <a:pt x="1080" y="108"/>
                </a:cubicBezTo>
                <a:cubicBezTo>
                  <a:pt x="1107" y="27"/>
                  <a:pt x="1069" y="104"/>
                  <a:pt x="1200" y="60"/>
                </a:cubicBezTo>
                <a:cubicBezTo>
                  <a:pt x="1238" y="47"/>
                  <a:pt x="1259" y="25"/>
                  <a:pt x="1284" y="0"/>
                </a:cubicBezTo>
              </a:path>
            </a:pathLst>
          </a:custGeom>
          <a:noFill/>
          <a:ln w="203040">
            <a:solidFill>
              <a:srgbClr val="54b1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3276720" y="2349360"/>
            <a:ext cx="2192040" cy="1981440"/>
          </a:xfrm>
          <a:custGeom>
            <a:avLst/>
            <a:gdLst/>
            <a:ahLst/>
            <a:rect l="l" t="t" r="r" b="b"/>
            <a:pathLst>
              <a:path w="1381" h="1248">
                <a:moveTo>
                  <a:pt x="1344" y="0"/>
                </a:moveTo>
                <a:cubicBezTo>
                  <a:pt x="1356" y="62"/>
                  <a:pt x="1381" y="108"/>
                  <a:pt x="1308" y="132"/>
                </a:cubicBezTo>
                <a:cubicBezTo>
                  <a:pt x="1261" y="116"/>
                  <a:pt x="1195" y="127"/>
                  <a:pt x="1152" y="156"/>
                </a:cubicBezTo>
                <a:cubicBezTo>
                  <a:pt x="1128" y="172"/>
                  <a:pt x="1080" y="204"/>
                  <a:pt x="1080" y="204"/>
                </a:cubicBezTo>
                <a:cubicBezTo>
                  <a:pt x="1076" y="216"/>
                  <a:pt x="1077" y="231"/>
                  <a:pt x="1068" y="240"/>
                </a:cubicBezTo>
                <a:cubicBezTo>
                  <a:pt x="1059" y="249"/>
                  <a:pt x="1043" y="246"/>
                  <a:pt x="1032" y="252"/>
                </a:cubicBezTo>
                <a:cubicBezTo>
                  <a:pt x="967" y="288"/>
                  <a:pt x="968" y="292"/>
                  <a:pt x="924" y="336"/>
                </a:cubicBezTo>
                <a:cubicBezTo>
                  <a:pt x="920" y="348"/>
                  <a:pt x="921" y="363"/>
                  <a:pt x="912" y="372"/>
                </a:cubicBezTo>
                <a:cubicBezTo>
                  <a:pt x="870" y="414"/>
                  <a:pt x="874" y="366"/>
                  <a:pt x="852" y="348"/>
                </a:cubicBezTo>
                <a:cubicBezTo>
                  <a:pt x="842" y="340"/>
                  <a:pt x="828" y="340"/>
                  <a:pt x="816" y="336"/>
                </a:cubicBezTo>
                <a:cubicBezTo>
                  <a:pt x="766" y="353"/>
                  <a:pt x="765" y="378"/>
                  <a:pt x="720" y="408"/>
                </a:cubicBezTo>
                <a:cubicBezTo>
                  <a:pt x="650" y="513"/>
                  <a:pt x="669" y="451"/>
                  <a:pt x="684" y="600"/>
                </a:cubicBezTo>
                <a:cubicBezTo>
                  <a:pt x="668" y="709"/>
                  <a:pt x="681" y="657"/>
                  <a:pt x="648" y="756"/>
                </a:cubicBezTo>
                <a:cubicBezTo>
                  <a:pt x="640" y="780"/>
                  <a:pt x="600" y="772"/>
                  <a:pt x="576" y="780"/>
                </a:cubicBezTo>
                <a:cubicBezTo>
                  <a:pt x="514" y="801"/>
                  <a:pt x="451" y="815"/>
                  <a:pt x="396" y="852"/>
                </a:cubicBezTo>
                <a:cubicBezTo>
                  <a:pt x="356" y="912"/>
                  <a:pt x="384" y="880"/>
                  <a:pt x="300" y="936"/>
                </a:cubicBezTo>
                <a:cubicBezTo>
                  <a:pt x="273" y="954"/>
                  <a:pt x="204" y="960"/>
                  <a:pt x="204" y="960"/>
                </a:cubicBezTo>
                <a:cubicBezTo>
                  <a:pt x="192" y="972"/>
                  <a:pt x="176" y="981"/>
                  <a:pt x="168" y="996"/>
                </a:cubicBezTo>
                <a:cubicBezTo>
                  <a:pt x="150" y="1029"/>
                  <a:pt x="153" y="1072"/>
                  <a:pt x="132" y="1104"/>
                </a:cubicBezTo>
                <a:cubicBezTo>
                  <a:pt x="116" y="1128"/>
                  <a:pt x="100" y="1152"/>
                  <a:pt x="84" y="1176"/>
                </a:cubicBezTo>
                <a:cubicBezTo>
                  <a:pt x="77" y="1187"/>
                  <a:pt x="59" y="1182"/>
                  <a:pt x="48" y="1188"/>
                </a:cubicBezTo>
                <a:cubicBezTo>
                  <a:pt x="35" y="1194"/>
                  <a:pt x="24" y="1204"/>
                  <a:pt x="12" y="1212"/>
                </a:cubicBezTo>
                <a:cubicBezTo>
                  <a:pt x="8" y="1224"/>
                  <a:pt x="0" y="1248"/>
                  <a:pt x="0" y="1248"/>
                </a:cubicBezTo>
              </a:path>
            </a:pathLst>
          </a:custGeom>
          <a:noFill/>
          <a:ln w="2030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5364000" y="404640"/>
            <a:ext cx="3257640" cy="2057400"/>
          </a:xfrm>
          <a:custGeom>
            <a:avLst/>
            <a:gdLst/>
            <a:ahLst/>
            <a:rect l="l" t="t" r="r" b="b"/>
            <a:pathLst>
              <a:path w="2052" h="1296">
                <a:moveTo>
                  <a:pt x="2052" y="552"/>
                </a:moveTo>
                <a:cubicBezTo>
                  <a:pt x="1994" y="545"/>
                  <a:pt x="1903" y="546"/>
                  <a:pt x="1848" y="516"/>
                </a:cubicBezTo>
                <a:cubicBezTo>
                  <a:pt x="1724" y="447"/>
                  <a:pt x="1821" y="483"/>
                  <a:pt x="1740" y="456"/>
                </a:cubicBezTo>
                <a:cubicBezTo>
                  <a:pt x="1723" y="404"/>
                  <a:pt x="1690" y="361"/>
                  <a:pt x="1668" y="312"/>
                </a:cubicBezTo>
                <a:cubicBezTo>
                  <a:pt x="1643" y="255"/>
                  <a:pt x="1633" y="192"/>
                  <a:pt x="1620" y="132"/>
                </a:cubicBezTo>
                <a:cubicBezTo>
                  <a:pt x="1612" y="97"/>
                  <a:pt x="1603" y="37"/>
                  <a:pt x="1572" y="12"/>
                </a:cubicBezTo>
                <a:cubicBezTo>
                  <a:pt x="1562" y="4"/>
                  <a:pt x="1548" y="4"/>
                  <a:pt x="1536" y="0"/>
                </a:cubicBezTo>
                <a:cubicBezTo>
                  <a:pt x="1516" y="4"/>
                  <a:pt x="1493" y="1"/>
                  <a:pt x="1476" y="12"/>
                </a:cubicBezTo>
                <a:cubicBezTo>
                  <a:pt x="1465" y="19"/>
                  <a:pt x="1470" y="37"/>
                  <a:pt x="1464" y="48"/>
                </a:cubicBezTo>
                <a:cubicBezTo>
                  <a:pt x="1458" y="61"/>
                  <a:pt x="1449" y="73"/>
                  <a:pt x="1440" y="84"/>
                </a:cubicBezTo>
                <a:cubicBezTo>
                  <a:pt x="1409" y="121"/>
                  <a:pt x="1377" y="141"/>
                  <a:pt x="1332" y="156"/>
                </a:cubicBezTo>
                <a:cubicBezTo>
                  <a:pt x="1258" y="107"/>
                  <a:pt x="1245" y="122"/>
                  <a:pt x="1140" y="132"/>
                </a:cubicBezTo>
                <a:cubicBezTo>
                  <a:pt x="986" y="123"/>
                  <a:pt x="904" y="110"/>
                  <a:pt x="756" y="132"/>
                </a:cubicBezTo>
                <a:cubicBezTo>
                  <a:pt x="688" y="142"/>
                  <a:pt x="631" y="187"/>
                  <a:pt x="564" y="204"/>
                </a:cubicBezTo>
                <a:cubicBezTo>
                  <a:pt x="519" y="234"/>
                  <a:pt x="518" y="259"/>
                  <a:pt x="468" y="276"/>
                </a:cubicBezTo>
                <a:cubicBezTo>
                  <a:pt x="451" y="328"/>
                  <a:pt x="450" y="342"/>
                  <a:pt x="396" y="360"/>
                </a:cubicBezTo>
                <a:cubicBezTo>
                  <a:pt x="380" y="384"/>
                  <a:pt x="357" y="405"/>
                  <a:pt x="348" y="432"/>
                </a:cubicBezTo>
                <a:cubicBezTo>
                  <a:pt x="340" y="456"/>
                  <a:pt x="342" y="486"/>
                  <a:pt x="324" y="504"/>
                </a:cubicBezTo>
                <a:cubicBezTo>
                  <a:pt x="293" y="535"/>
                  <a:pt x="221" y="611"/>
                  <a:pt x="204" y="648"/>
                </a:cubicBezTo>
                <a:cubicBezTo>
                  <a:pt x="172" y="720"/>
                  <a:pt x="164" y="798"/>
                  <a:pt x="120" y="864"/>
                </a:cubicBezTo>
                <a:cubicBezTo>
                  <a:pt x="95" y="1011"/>
                  <a:pt x="0" y="1145"/>
                  <a:pt x="0" y="1296"/>
                </a:cubicBezTo>
              </a:path>
            </a:pathLst>
          </a:custGeom>
          <a:noFill/>
          <a:ln w="200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7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87280" y="2637000"/>
            <a:ext cx="33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700a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、新闻的记叙要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17440" y="2924280"/>
            <a:ext cx="280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件的起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件的经过和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4730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㈡新闻的有关知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10526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700a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、广义新闻泛指消息、通讯、报告文学等；狭义新闻，专指消息。消息，是报纸常用的一种文章样式。</a:t>
            </a:r>
            <a:r>
              <a:rPr b="1" lang="en-US" sz="2400" spc="-1" strike="noStrike">
                <a:solidFill>
                  <a:srgbClr val="20700a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人民解放军百万大军横渡长江</a:t>
            </a:r>
            <a:r>
              <a:rPr b="1" lang="en-US" sz="2400" spc="-1" strike="noStrike">
                <a:solidFill>
                  <a:srgbClr val="20700a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是狭义新闻，即消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5651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试分析本文的新闻六要素（小组讨论解决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29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人民解放军百万大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3321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1949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日夜起止</a:t>
            </a: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1128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西起九江（不含）东至江阴一千余华里战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7640" y="4005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反动派拒签和平协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4437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中路军首先突破</a:t>
            </a: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万人全渡过，西路军</a:t>
            </a: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万已渡三分之二 ，东路军</a:t>
            </a: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万大部渡过，占领、控制广大南岸阵地及要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时代背景：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一九四九年初，淮海、辽沈、平津三大战役结束， 我人民解放军在全国取得胜利已成定局。但国民党反动派依然负隅顽抗， 在对长江防线经过三个月的苦心经营后，于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4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月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20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日悍然拒绝签订国内和平协定。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4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月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21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日， 毛泽东和朱德立即发布了《向全国进军的命令》，于该日凌晨发起了渡江战役。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22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日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时， 新华社播发了毛泽东撰写的消息《 我三十万大军胜利渡过长江》，报道了中路军战况。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22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日夜，毛泽东又写了这则全面报道前线最新战况的新闻稿——《人民解放军百万大军横渡长江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阅读课文，思考问题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6264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bde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161bde"/>
                </a:solidFill>
                <a:latin typeface="Times New Roman"/>
              </a:rPr>
              <a:t>、在课文中圈出记叙的六要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162864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1bde"/>
                </a:solidFill>
                <a:latin typeface="Arial"/>
              </a:rPr>
              <a:t>人物</a:t>
            </a:r>
            <a:r>
              <a:rPr b="0" lang="en-US" sz="2000" spc="-1" strike="noStrike">
                <a:solidFill>
                  <a:srgbClr val="161bde"/>
                </a:solidFill>
                <a:latin typeface="Arial"/>
              </a:rPr>
              <a:t>: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人民解放军百万大军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2060640"/>
            <a:ext cx="62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1bde"/>
                </a:solidFill>
                <a:latin typeface="Arial"/>
              </a:rPr>
              <a:t>时间</a:t>
            </a:r>
            <a:r>
              <a:rPr b="0" lang="en-US" sz="2000" spc="-1" strike="noStrike">
                <a:solidFill>
                  <a:srgbClr val="161bde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(1949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日夜起止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22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日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22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时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2421000"/>
            <a:ext cx="63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1bde"/>
                </a:solidFill>
                <a:latin typeface="Arial"/>
              </a:rPr>
              <a:t>地点</a:t>
            </a:r>
            <a:r>
              <a:rPr b="0" lang="en-US" sz="2000" spc="-1" strike="noStrike">
                <a:solidFill>
                  <a:srgbClr val="161bde"/>
                </a:solidFill>
                <a:latin typeface="Arial"/>
              </a:rPr>
              <a:t>: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（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1000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余华里的战线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27813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1bde"/>
                </a:solidFill>
                <a:latin typeface="Arial"/>
              </a:rPr>
              <a:t>事情的起因</a:t>
            </a:r>
            <a:r>
              <a:rPr b="0" lang="en-US" sz="2000" spc="-1" strike="noStrike">
                <a:solidFill>
                  <a:srgbClr val="161bde"/>
                </a:solidFill>
                <a:latin typeface="Arial"/>
              </a:rPr>
              <a:t>: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人民解放军要横渡长江，进而解放全中国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14172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1bde"/>
                </a:solidFill>
                <a:latin typeface="Arial"/>
              </a:rPr>
              <a:t>事情的经过</a:t>
            </a:r>
            <a:r>
              <a:rPr b="0" lang="en-US" sz="2000" spc="-1" strike="noStrike">
                <a:solidFill>
                  <a:srgbClr val="161bde"/>
                </a:solidFill>
                <a:latin typeface="Arial"/>
              </a:rPr>
              <a:t>: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分三路大军横渡长江，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23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日可全部渡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350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1bde"/>
                </a:solidFill>
                <a:latin typeface="Arial"/>
              </a:rPr>
              <a:t>事情的结果</a:t>
            </a:r>
            <a:r>
              <a:rPr b="0" lang="en-US" sz="2000" spc="-1" strike="noStrike">
                <a:solidFill>
                  <a:srgbClr val="161b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人民解放军全线告捷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3860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bde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161bde"/>
                </a:solidFill>
                <a:latin typeface="宋体"/>
              </a:rPr>
              <a:t>、用简洁的语言概括课文的主要内容。说说表达了作者怎样的思想感情。</a:t>
            </a:r>
            <a:r>
              <a:rPr b="0" lang="zh-CN" sz="2800" spc="-1" strike="noStrike">
                <a:solidFill>
                  <a:srgbClr val="161bde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458136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Arial"/>
              </a:rPr>
              <a:t>本文通过全面报道震惊中外的渡江战役的概况，赞扬了中国人民解放军的司令部和各路军指挥部运筹于帷幄之中，决胜于千里之外的指挥才能．表明了全党全军团结一心，同仇敌忾，所向无敌的大无畏的革命精神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 rot="10800000">
            <a:off x="394920" y="566064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bde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161bde"/>
                </a:solidFill>
                <a:latin typeface="Arial"/>
              </a:rPr>
              <a:t>、找出本文的标题、电头及其作用、导语、主体，给主体部分分层，找出主体中的议论句子并说说它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-16992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11280" y="189000"/>
            <a:ext cx="799308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人民解放军百万大军横渡长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新华社长江前线</a:t>
            </a:r>
            <a:r>
              <a:rPr b="1" lang="en-US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2</a:t>
            </a: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日</a:t>
            </a:r>
            <a:r>
              <a:rPr b="1" lang="en-US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2</a:t>
            </a: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时电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1800" spc="-1" strike="noStrike">
                <a:solidFill>
                  <a:srgbClr val="a50021"/>
                </a:solidFill>
                <a:latin typeface="Tahoma"/>
              </a:rPr>
              <a:t>人民解放军百万大军，</a:t>
            </a:r>
            <a:r>
              <a:rPr b="1" lang="zh-CN" sz="1800" spc="-1" strike="noStrike">
                <a:solidFill>
                  <a:srgbClr val="7ba600"/>
                </a:solidFill>
                <a:latin typeface="Tahoma"/>
              </a:rPr>
              <a:t>从</a:t>
            </a:r>
            <a:r>
              <a:rPr b="1" lang="en-US" sz="1800" spc="-1" strike="noStrike">
                <a:solidFill>
                  <a:srgbClr val="7ba600"/>
                </a:solidFill>
                <a:latin typeface="Tahoma"/>
              </a:rPr>
              <a:t>1000</a:t>
            </a:r>
            <a:r>
              <a:rPr b="1" lang="zh-CN" sz="1800" spc="-1" strike="noStrike">
                <a:solidFill>
                  <a:srgbClr val="7ba600"/>
                </a:solidFill>
                <a:latin typeface="Tahoma"/>
              </a:rPr>
              <a:t>余华里的战线上，冲破敌阵，横渡长江 。西起九江（不含），东至江阴，均是人民解放军的渡江区域。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日夜起，长江北岸人民解放军</a:t>
            </a: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中路军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首先突破安庆、芜湖线 ， 渡至繁昌、铜陵、青阳、荻港、鲁港地区 ，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小时内即已渡过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万人。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日下午五时起，我</a:t>
            </a: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西路军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开始渡江，地点在九江、安庆段。至发电时止，该路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5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万人民解放军已渡过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/3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，余部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日可渡完。这一路现已占领贵池、殷家汇、东流、至德、彭泽之线的广大南岸阵地，正向南扩展中。 和中路军所遇敌情一样，我西路军当面之敌亦纷纷溃退，毫无斗志 ，我军所遇之抵抗，甚为微弱。</a:t>
            </a: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此种情况，一方面由于人民解放军英勇善战 ，锐不可当 ；另一方面，这和国民党反动派拒绝签订和平协定，有很大关系。国民党的广大官兵一致希望和平，不想再打了，听见南京拒绝和平，都很泄气。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战犯汤恩伯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日到芜湖督战，不起丝毫作用。汤恩伯认为南京江阴段防线是很巩固的，弱点只存在于南京九江一线。不料正是汤恩伯到芜湖的那一天，东面防线又被我军突破了。我</a:t>
            </a: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东路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35</a:t>
            </a: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万大军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与西路同日同时发起渡江作战。所有预定计划，都已实现。至发电时止，我东路各军已大部渡过南岸，余部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日可以渡完。此处敌军抵抗较为顽强，然在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日下午至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日下午的整天激战中，我已歼灭及击溃一切抵抗之敌，占领扬中、镇江、江阴诸县的广大地区，并控制江阴要塞，封锁长江。我军前锋，业已切断镇江无锡段铁路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84360" y="1700280"/>
            <a:ext cx="0" cy="36180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2349360"/>
            <a:ext cx="0" cy="28764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2349360"/>
            <a:ext cx="0" cy="28764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40360" y="4437000"/>
            <a:ext cx="0" cy="28728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11640" y="4437000"/>
            <a:ext cx="0" cy="28728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80360" y="404640"/>
            <a:ext cx="914400" cy="503280"/>
          </a:xfrm>
          <a:prstGeom prst="wedgeRectCallout">
            <a:avLst>
              <a:gd name="adj1" fmla="val -323958"/>
              <a:gd name="adj2" fmla="val 1831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导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4869000"/>
            <a:ext cx="914400" cy="503280"/>
          </a:xfrm>
          <a:prstGeom prst="wedgeRectCallout">
            <a:avLst>
              <a:gd name="adj1" fmla="val 376041"/>
              <a:gd name="adj2" fmla="val -1938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59640" y="1916280"/>
            <a:ext cx="144720" cy="4537080"/>
          </a:xfrm>
          <a:custGeom>
            <a:avLst/>
            <a:gdLst>
              <a:gd name="textAreaLeft" fmla="*/ 0 w 144720"/>
              <a:gd name="textAreaRight" fmla="*/ 52200 w 144720"/>
              <a:gd name="textAreaTop" fmla="*/ 118080 h 4537080"/>
              <a:gd name="textAreaBottom" fmla="*/ 441900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258920" y="836640"/>
            <a:ext cx="367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96078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重点研讨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96078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22096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标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4000" y="2247840"/>
            <a:ext cx="6659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简洁、概括 。其中 “百万”、“横渡” 二词气势磅礴，胜利豪情跃然纸上。表现了人民解放军无坚不摧的力量和压倒一切敌人的气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35434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电头：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新华社长江前线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日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时电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40273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交代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通讯社名称、发电地点和发电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564660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电头的作用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楷体_GB2312"/>
              </a:rPr>
              <a:t>表明材料真实，报道及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16000" y="4581360"/>
            <a:ext cx="770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著名通讯社名称：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新华社（中国）   美联社（美国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路透社（法国）   塔斯社（俄罗斯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共同社（日本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39640" y="1125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导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2520" y="1628640"/>
            <a:ext cx="869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ba600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人民解放军百万大军，从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1000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余华里的战线上，冲破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阵，横渡长江 。西起九江（不含），东至江阴，均是人民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放军的渡江区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9920" y="1171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简述渡江战役胜利成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31760" y="2781360"/>
            <a:ext cx="77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从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渡江人数、战线及渡江区域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三个方面总领全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322092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不含”，是“不包括”的意思。用在表明地点的句子内，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意明确，不发生歧义。（因为当时“九江”还没有解放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4013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西起九江，东至江阴”为什么不宜改为“东起江阴，西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九江”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472140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答：这样才与主体部分介绍西、东两路大军渡江情况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顺序相吻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9640" y="1268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主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47840" y="1312920"/>
            <a:ext cx="66452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详述三路大军渡江战斗经过，并指出我军渡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胜利的重要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76360" y="2178000"/>
            <a:ext cx="51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一层：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写中路军渡江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76360" y="261000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二层：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写西路军渡江情况并加以评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76360" y="3041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三层：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写东路军渡江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00000" y="36306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找出主体中的议论句子，并说说它的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411624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此种情况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都很泄气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”    （“此种情况”指代什么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8360" y="4549680"/>
            <a:ext cx="8675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答：揭露了敌军溃败的原因，突出了我军的英勇善战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大长了我军士气，灭掉了敌人的威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找出文章的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主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部分，可分为几个层次？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30600" y="1700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一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0360" y="1700280"/>
            <a:ext cx="41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从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日夜起”到“即已渡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万人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09000" y="2421000"/>
            <a:ext cx="37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（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中路军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渡江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时间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、突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地点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、渡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人数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1480" y="314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二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89280" y="3141720"/>
            <a:ext cx="44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从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日下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时起”到“不起丝毫作用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68480" y="38606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（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西路军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渡江情况并加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评论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1480" y="450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三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83800" y="458136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从“汤恩伯认为”到篇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11000" y="5229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（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东路军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的渡江情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4000" y="2565360"/>
            <a:ext cx="7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课文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76360" y="162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标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00000" y="1773360"/>
            <a:ext cx="576360" cy="4103640"/>
          </a:xfrm>
          <a:custGeom>
            <a:avLst/>
            <a:gdLst>
              <a:gd name="textAreaLeft" fmla="*/ 368280 w 576360"/>
              <a:gd name="textAreaRight" fmla="*/ 576720 w 57636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0920" y="2852640"/>
            <a:ext cx="21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（第</a:t>
            </a: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两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90400" y="4797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（剩余部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72280" y="407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中路军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72280" y="472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西路军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27920" y="5589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东路军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6000" y="479736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主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16000" y="2852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导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68720" y="436572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12b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35280" y="2637000"/>
            <a:ext cx="32418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渡江概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（从四个方面概括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8800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冲破敌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88000" y="3429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横渡长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64000" y="407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路军首战告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62560" y="472428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西路军所向无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66200" y="407664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（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69080" y="4724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（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29800" y="551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（重点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92720" y="558972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东路军战绩辉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24000" y="162864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民解放军百万大军横渡长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72360" y="2276640"/>
            <a:ext cx="71280" cy="1512720"/>
          </a:xfrm>
          <a:custGeom>
            <a:avLst/>
            <a:gdLst>
              <a:gd name="textAreaLeft" fmla="*/ 45720 w 71280"/>
              <a:gd name="textAreaRight" fmla="*/ 71640 w 712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12b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9640" y="260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0e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2f20ec"/>
                </a:solidFill>
                <a:latin typeface="Times New Roman"/>
              </a:rPr>
              <a:t>试找出本文的标题、导语、主体，并划分主体的层次和慨括导语、主体的层意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（小组讨论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88000" y="20462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渡江区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88000" y="24782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战役全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速读课文，填写表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96720" y="1125360"/>
            <a:ext cx="8496360" cy="5040360"/>
            <a:chOff x="396720" y="1125360"/>
            <a:chExt cx="8496360" cy="5040360"/>
          </a:xfrm>
        </p:grpSpPr>
        <p:sp>
          <p:nvSpPr>
            <p:cNvPr id="298" name=""/>
            <p:cNvSpPr/>
            <p:nvPr/>
          </p:nvSpPr>
          <p:spPr>
            <a:xfrm>
              <a:off x="396720" y="1125360"/>
              <a:ext cx="8496360" cy="50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6720" y="1773000"/>
              <a:ext cx="849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720" y="3141360"/>
              <a:ext cx="849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6720" y="4654440"/>
              <a:ext cx="849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63640" y="1125360"/>
              <a:ext cx="0" cy="50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03280" y="1125360"/>
              <a:ext cx="0" cy="50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59280" y="1125360"/>
              <a:ext cx="0" cy="50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04000" y="1125360"/>
              <a:ext cx="0" cy="50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09160" y="11966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00ff"/>
                  </a:solidFill>
                  <a:latin typeface="Arial"/>
                  <a:ea typeface="华文中宋"/>
                </a:rPr>
                <a:t>渡江区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51040" y="1196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时    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85600" y="119664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00ff"/>
                  </a:solidFill>
                  <a:latin typeface="Arial"/>
                  <a:ea typeface="华文中宋"/>
                </a:rPr>
                <a:t>兵   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74960" y="11966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渡过兵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2920" y="2205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中路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2920" y="3630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西路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2920" y="5157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东路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17440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安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2205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74400" y="2540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芜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26200" y="1846440"/>
            <a:ext cx="9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日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日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62280" y="2278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78280" y="2278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74400" y="3286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九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11280" y="3718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74400" y="405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安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91840" y="3286080"/>
            <a:ext cx="14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62280" y="3718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01520" y="350208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万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三分之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7440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南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1128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74400" y="5564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江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91840" y="4797360"/>
            <a:ext cx="14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62280" y="52052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11840" y="5205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大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868760" y="692280"/>
            <a:ext cx="518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本文的主体部分，着重报道人民解放军渡江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战斗情况，是按照什么顺序来安排材料的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7040" y="1916280"/>
            <a:ext cx="84376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从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结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来看，它是按照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事件发生的先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以及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各路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进展情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来安排结构顺序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19040" y="3309840"/>
            <a:ext cx="5039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6600ff"/>
                </a:solidFill>
                <a:latin typeface="华文中宋"/>
                <a:ea typeface="华文中宋"/>
              </a:rPr>
              <a:t>中路军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</a:t>
            </a:r>
            <a:r>
              <a:rPr b="0" lang="zh-CN" sz="2400" spc="-1" strike="noStrike">
                <a:solidFill>
                  <a:srgbClr val="6600ff"/>
                </a:solidFill>
                <a:latin typeface="华文中宋"/>
                <a:ea typeface="华文中宋"/>
              </a:rPr>
              <a:t>西路军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所遇到的</a:t>
            </a:r>
            <a:r>
              <a:rPr b="0" lang="zh-CN" sz="2400" spc="-1" strike="noStrike">
                <a:solidFill>
                  <a:srgbClr val="6600ff"/>
                </a:solidFill>
                <a:latin typeface="华文中宋"/>
                <a:ea typeface="华文中宋"/>
              </a:rPr>
              <a:t>敌军的抵抗，都比较小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东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军所遇之</a:t>
            </a: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抵抗较为顽固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所以中路军、西路军放在一起写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东路军后写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5051520"/>
            <a:ext cx="7848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而中路军渡长江行动在前，西路军在后，因此，先写中路军，再写西路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682360" y="90792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哪是详写的？哪是略写的？为什么要这样安排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4360" y="1844640"/>
            <a:ext cx="8280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中路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写得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简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西路大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写得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稍详，东路大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写得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97960" y="321300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此处敌人的防线比较巩固，敌人的抵抗较顽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3933720"/>
            <a:ext cx="8137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而且这一地区有包围敌军、解放南京的关键的战略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要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6121440" cy="2879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380360" y="260280"/>
            <a:ext cx="89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12bb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12bba"/>
                </a:solidFill>
                <a:latin typeface="Times New Roman"/>
              </a:rPr>
              <a:t>人民解放军占领南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6048360" cy="25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camera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251280" y="47592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本文的语言特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68760" y="1341360"/>
            <a:ext cx="518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从文中找出例子来进行分析，自由讨论，概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出本文语言方面的特点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67440" y="249228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准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71440" y="52992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（“不含”在这个表明地点的句子里，准确反映了当时的情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因为九江尚未解放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20960" y="306864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、题目是“百万大军横渡长江”。这“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百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”是实数，还是虚数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5280" y="36450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（是实数。中路军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万人；西路军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华文中宋"/>
              </a:rPr>
              <a:t>35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万人；东路军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华文中宋"/>
              </a:rPr>
              <a:t>35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万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人数的确切，更体现了报道的真实、准确、严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508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、“西起九江（不含），东至江阴，均是人民解放军的渡江区域。”其中“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不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”有什么作用？去掉它，行不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132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本文的语言特点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486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字里行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洋溢着胜利的豪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0760" y="1316160"/>
            <a:ext cx="3397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简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而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有气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5640" y="1989000"/>
            <a:ext cx="795672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如导语中“百万大军”“冲破敌阵”“横渡长江”，再比如“英勇善战，锐不可当”，“敌军则纷纷溃退，毫无斗志”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21520" y="6206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本文的语言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11415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突破”“渡至”能否换成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越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到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 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23960" y="692280"/>
            <a:ext cx="595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二十日夜起，长江北岸人民解放军中路军首先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安庆、芜湖线，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渡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繁昌、铜陵、青阳、荻港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鲁港地区，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二十四小时内即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渡过三十万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突破”“渡至”能否换成“越过”“到达” ？去掉“二十四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时即已”，换成“共”好不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91960" y="2852640"/>
            <a:ext cx="4988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①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句中“突破”表明有敌军防守，我军歼灭或击溃守敌，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破敌阵。用“越过”表现不出经过战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36160" y="4005360"/>
            <a:ext cx="5216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渡至”比“到达”含义丰富，有横渡与到达两层意思，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文字简洁有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82600" y="5013360"/>
            <a:ext cx="5207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      “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二十四小时内即已”，时间明确，且含渡江迅疾，作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顺利之意。用“共”字不能表达这些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11415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划线的句子换成“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结果就在二十日那一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好不好？</a:t>
            </a:r>
            <a:br>
              <a:rPr sz="40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61280" y="474840"/>
            <a:ext cx="3421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②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不料正是汤恩伯到芜湖的那一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东面防线又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我军突破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加划线的句子换成“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结果就在二十日那一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”好不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97080" y="2851200"/>
            <a:ext cx="3252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可从语句的感情色彩入手。“不料正是汤恩伯到芜湖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那一天”，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嘲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意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4360" y="3860640"/>
            <a:ext cx="792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嘲讽汤恩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过高估计东面防线的巩固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过低估计人民解放军的战斗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如果换成“结果就在二十一日那天”，毫无感情色彩，且与上一句“二十一日”重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241280" y="2708280"/>
            <a:ext cx="68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主体部分先写西路军后写东路军的主要原因是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68680" y="3357720"/>
            <a:ext cx="21272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长江是自西向东流的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西路军在东路军之前渡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为了详写东路军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西路军和中路军所遇敌情一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05040" y="27082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51480" y="404640"/>
            <a:ext cx="55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最能反映国民党广大官兵厌战情绪的句子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66000" y="1262160"/>
            <a:ext cx="539712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答：“国民党的广大官兵一致希望和平，不想再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                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了，听 见南京拒绝和平，都很泄气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中路、西路大军的渡江情况，哪是详写的？哪是略写的？为什么要这样安排？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541000" cy="42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　　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中路军写得简略，是因为新华社在此前已经有关于中路军的详细报道（见《我三十万大军胜利渡过长江》）。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　　西路大军写得稍详，是因为渡江正在进行中，有些事情需要交待，如“至发电时止，该路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35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万人民解放军已渡过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2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／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3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，余部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23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日可渡完”。已渡过的“正向南扩展中”，预示了战役的前景。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6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920" y="-11415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“横渡”的“渡”有关的词语有哪些？</a:t>
            </a:r>
            <a:br>
              <a:rPr sz="40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47080" y="692280"/>
            <a:ext cx="4868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思考：文章是抓住“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横渡长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”来写的，与“横渡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的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”有关的词语有哪些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48480" y="190188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渡完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等均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19018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冲破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47880" y="19018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渡至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19320" y="19018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渡过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9640" y="2852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在课文中勾画表现我军英勇的词语和敌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溃不成军的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00360" y="515772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纷纷溃退” “毫无斗志” “抵抗微弱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 “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泄气” “毫无作用” 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97120" y="398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我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的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7280" y="3916440"/>
            <a:ext cx="5905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英勇善战”“锐不可当” “歼灭” “击溃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 “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控制” “封锁” “切断”等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97120" y="5113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写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敌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的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908000" y="836640"/>
            <a:ext cx="25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96078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作业处理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96078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81" name=""/>
          <p:cNvSpPr/>
          <p:nvPr/>
        </p:nvSpPr>
        <p:spPr>
          <a:xfrm>
            <a:off x="3452400" y="1700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ahoma"/>
                <a:ea typeface="楷体_GB2312"/>
              </a:rPr>
              <a:t>一、试理清这篇消息的六要素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30920" y="1844640"/>
            <a:ext cx="820800" cy="38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人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时间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地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原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经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40000" y="2421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民解放军百万大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40000" y="2924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日夜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40000" y="3573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余华里的战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8360" y="407664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民解放军要横渡长江，进而解放全中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40000" y="4724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三路大军横渡长江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日可全部渡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11280" y="530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民解放军全线告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908000" y="836640"/>
            <a:ext cx="25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96078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作业处理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96078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90" name=""/>
          <p:cNvSpPr/>
          <p:nvPr/>
        </p:nvSpPr>
        <p:spPr>
          <a:xfrm>
            <a:off x="4549320" y="1700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  <a:ea typeface="楷体_GB2312"/>
              </a:rPr>
              <a:t>二、主体部分分为三个层次，是怎样衔接在一起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87280" y="2205000"/>
            <a:ext cx="7417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、时间上的衔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20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日夜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—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21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日下午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点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—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21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日下午至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22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日下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58920" y="32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、渡江部队的衔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中路军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—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西路军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—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东路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87280" y="3933720"/>
            <a:ext cx="7417080" cy="21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、内容上的衔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Tahoma"/>
              </a:rPr>
              <a:t>第二层有“和东路军所遇敌情一样”与第一层衔接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Tahoma"/>
              </a:rPr>
              <a:t>第三层有“与西路同日同时发起渡江作战”与第二层衔接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Tahoma"/>
              </a:rPr>
              <a:t>第三层有“正是汤恩伯到芜湖的那一天”与第二层的“汤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Tahoma"/>
              </a:rPr>
              <a:t>伯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21</a:t>
            </a:r>
            <a:r>
              <a:rPr b="1" lang="zh-CN" sz="2000" spc="-1" strike="noStrike">
                <a:solidFill>
                  <a:srgbClr val="003366"/>
                </a:solidFill>
                <a:latin typeface="Tahoma"/>
              </a:rPr>
              <a:t>日到芜湖”衔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908000" y="836640"/>
            <a:ext cx="25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96078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作业处理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96078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773360"/>
            <a:ext cx="89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  <a:ea typeface="楷体_GB2312"/>
              </a:rPr>
              <a:t>三、分别比较下列每组中的两个句子，说说哪一句好，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2205000"/>
            <a:ext cx="907416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第一组：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第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句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 “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越过”只写出了经过；“突破”则表现了经过战斗所取得的进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“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到达”只表示一般的到了、抵达之意；“渡至”则表现的是从水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进军，来到了。“共”只表示一般的总结性的统计；“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24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小时内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已”则强调了时间之短，进军之神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508640"/>
            <a:ext cx="9468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第二组：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第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句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句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只是一般的交代了时间；句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则充满了嘲讽。敌军的“不料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，正显示出我军的神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572000" cy="2755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4500720" cy="312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495680" y="3505320"/>
            <a:ext cx="4648320" cy="3147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572000" y="45720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camera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908000" y="836640"/>
            <a:ext cx="25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96078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作业处理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96078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99" name=""/>
          <p:cNvSpPr/>
          <p:nvPr/>
        </p:nvSpPr>
        <p:spPr>
          <a:xfrm>
            <a:off x="425520" y="1557360"/>
            <a:ext cx="90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ahoma"/>
                <a:ea typeface="楷体_GB2312"/>
              </a:rPr>
              <a:t>三、分别比较下列每组中的两个句子，说说哪一句好，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1916280"/>
            <a:ext cx="982836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第三组：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第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句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句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只交代了我军取得胜利并占领了哪些地区，没有讲敌军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情况和取胜的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句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用“整天激战”概述了战斗的艰巨，  表现我军的英勇无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“ 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歼灭及击溃”表现敌军失败之大；（“歼灭” 指全部被消灭；“击溃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指敌军已完全丧失战斗力。）“占领</a:t>
            </a:r>
            <a:r>
              <a:rPr b="1" lang="en-US" sz="2400" spc="-1" strike="noStrike">
                <a:solidFill>
                  <a:srgbClr val="a50021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a50021"/>
                </a:solidFill>
                <a:latin typeface="宋体"/>
              </a:rPr>
              <a:t>广大地区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”所指并非全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但大势已成定居局；“控制江阴要塞”，指关键的军事设施已在我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握之中。     可见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句语言具体详明，事实确凿可信，具有震撼人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的力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826920" y="11592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0ec"/>
                </a:solidFill>
                <a:latin typeface="Times New Roman"/>
              </a:rPr>
              <a:t>㈣、你能概括这则新闻的中心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2720" y="620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这篇新闻，气势磅礴，全面地报道了人民解放军的渡江战役，这是中国解放战争战略进攻阶段具有关键意义的胜利。这一历史，让我们看到正义战争的威力，认识到中国革命的胜利来之不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92360" y="227664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问题探究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小组讨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71640" y="285264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本文主体部分的三个层次是怎样衔接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49417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找出本文的议论句，看看它属新闻结构的哪个部分，有什么表达效果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7640" y="328464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</a:rPr>
              <a:t>第二层开头“二十日下午五时起”与第一层开头“二十日夜起”紧相衔接；第三层开头“不料正是汤恩伯到芜湖的那一天</a:t>
            </a:r>
            <a:r>
              <a:rPr b="1" lang="en-US" sz="2800" spc="-1" strike="noStrike">
                <a:solidFill>
                  <a:srgbClr val="1d6709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</a:rPr>
              <a:t>我军突破了”一句起了承上启下的作用，把第二层与第三层衔接起来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4360" y="587700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</a:rPr>
              <a:t>此种情况</a:t>
            </a:r>
            <a:r>
              <a:rPr b="1" lang="en-US" sz="2800" spc="-1" strike="noStrike">
                <a:solidFill>
                  <a:srgbClr val="1d6709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</a:rPr>
              <a:t>都很泄气”。属“背景”部分。分析了敌溃我胜的原因，突出了文章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中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2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3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4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0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2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95280" y="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揣摩语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5640" y="476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请比较下面每组中的句子，看哪句好，说说理由。（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提示：第一组注意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红色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词语的不同表达效果；第二组注意比较语句的感情色彩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6920" y="170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二十日夜起，长江北岸人民解放军中路军首先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越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庆、芜湖线，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到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繁昌、铜陵、青阳、荻港、鲁港地区，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渡过三十万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5640" y="2997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二十日夜起，长江北岸人民解放军中路军首先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突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庆、芜湖线，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渡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繁昌、铜陵、青阳、荻港、鲁港地区，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二十四小时内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渡过三十万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1844640"/>
            <a:ext cx="144360" cy="165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12b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0920" y="242100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0ec"/>
                </a:solidFill>
                <a:latin typeface="Times New Roman"/>
              </a:rPr>
              <a:t>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55640" y="4437000"/>
            <a:ext cx="792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20700a"/>
                </a:solidFill>
                <a:latin typeface="Times New Roman"/>
              </a:rPr>
              <a:t>Ⅰ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组的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②句好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突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表明我军歼灭或击溃守敌冲破敌阵。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越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表现不出经过战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“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渡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到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含义丰富，有横渡与到达两层意思，且文字简洁有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“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二十四小时内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，时间明确，且含渡江迅速，作战顺利之意。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字不能表达这些意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4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5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45480" y="69228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0ec"/>
                </a:solidFill>
                <a:latin typeface="Times New Roman"/>
              </a:rPr>
              <a:t>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3280" y="2602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结果就在二十日那一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东面防线又被我军突破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76360" y="1197000"/>
            <a:ext cx="691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不料正是汤恩伯到芜湖的那一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东面防线又被我军突破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04640"/>
            <a:ext cx="71280" cy="1152720"/>
          </a:xfrm>
          <a:custGeom>
            <a:avLst/>
            <a:gdLst>
              <a:gd name="textAreaLeft" fmla="*/ 45720 w 71280"/>
              <a:gd name="textAreaRight" fmla="*/ 71640 w 71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12b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00000" y="213372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20700a"/>
                </a:solidFill>
                <a:latin typeface="Times New Roman"/>
              </a:rPr>
              <a:t>Ⅱ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组的②句好。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不料正是汤恩伯到芜湖的那一天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”，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有嘲讽意味，嘲讽汤恩伯过高估计东面防线的巩固性，过低估计人民解放军的战斗力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倘说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“结果就在二十日那一天”，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毫无感情色彩，且与上句“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二十一日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”重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01800" y="4292640"/>
            <a:ext cx="7846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2f20ec"/>
                </a:solidFill>
                <a:latin typeface="华文隶书"/>
                <a:ea typeface="华文隶书"/>
              </a:rPr>
              <a:t> </a:t>
            </a:r>
            <a:r>
              <a:rPr b="1" lang="zh-CN" sz="3600" spc="-1" strike="noStrike">
                <a:solidFill>
                  <a:srgbClr val="2f20ec"/>
                </a:solidFill>
                <a:latin typeface="华文隶书"/>
                <a:ea typeface="华文隶书"/>
              </a:rPr>
              <a:t>小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可见这则新闻的</a:t>
            </a:r>
            <a:r>
              <a:rPr b="1" lang="zh-CN" sz="2800" spc="-1" strike="noStrike">
                <a:solidFill>
                  <a:srgbClr val="e933c6"/>
                </a:solidFill>
                <a:latin typeface="Times New Roman"/>
              </a:rPr>
              <a:t>语言用词准确精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e933c6"/>
                </a:solidFill>
                <a:latin typeface="Times New Roman"/>
              </a:rPr>
              <a:t>铿锵有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另外还有</a:t>
            </a:r>
            <a:r>
              <a:rPr b="1" lang="zh-CN" sz="2800" spc="-1" strike="noStrike">
                <a:solidFill>
                  <a:srgbClr val="e933c6"/>
                </a:solidFill>
                <a:latin typeface="Times New Roman"/>
              </a:rPr>
              <a:t>书面语和口头语相穿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相益得彰（如“敌亦纷纷溃退，毫无斗志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气十足；“不想再打了”“都很泄气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常口语化），各有妙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3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4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5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33c6"/>
                </a:solidFill>
                <a:latin typeface="Times New Roman"/>
                <a:ea typeface="华文新魏"/>
              </a:rPr>
              <a:t>质疑析疑</a:t>
            </a:r>
            <a:r>
              <a:rPr b="1" lang="en-US" sz="4000" spc="-1" strike="noStrike">
                <a:solidFill>
                  <a:srgbClr val="e933c6"/>
                </a:solidFill>
                <a:latin typeface="Times New Roman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549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、为什么按中、西、东的顺序叙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5120" y="98100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路军首先发起渡江作战，所以先说。西路军和中路军所遇敌情一样，敌军抵抗甚为微弱，而东线敌军抵抗较为顽强，所以西路接着中路说，合在一起，可以议一议。最后说东路激战，文势也涌起高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5640" y="2708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、东路与西路是同时发起渡江作战的，为什么先说西路军，再说东路军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4360" y="3645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新闻的主体里，中路军和西路军都从时间说起，中路一层开头是“二十日夜起”，西路一层开头是“二十一日下午五时起”，层次分明而又紧相衔接。说了西路战况之后，又合起来有所议论，议论最后一句是“汤恩伯认为南京江阴段防线是很巩固的，弱点只存在于南京九江一线。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不料正是汤恩伯到芜湖的那一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东面防线又被我军突破了”。话题巧妙而自然地从“西面”转到“东面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826920" y="189000"/>
            <a:ext cx="77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、主体分述三路情况，为什么又能一气呵成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00000" y="6159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体分述三路情况，三路三个层次，从上题的分析中可看到作者是很注意一层与一层之间的衔接的，所以全文流转顺畅，一气呵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000" y="1844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33c6"/>
                </a:solidFill>
                <a:latin typeface="Times New Roman"/>
                <a:ea typeface="华文隶书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16000" y="233352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请找出下面这则新闻的标题、导语和主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8360" y="2722680"/>
            <a:ext cx="8354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温家宝强调加强应急管理工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国务院于</a:t>
            </a:r>
            <a:r>
              <a:rPr b="1" lang="en-US" sz="2800" spc="-1" strike="noStrike">
                <a:solidFill>
                  <a:srgbClr val="20700a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20700a"/>
                </a:solidFill>
                <a:latin typeface="Times New Roman"/>
              </a:rPr>
              <a:t>23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日在京召开全国应急管理工作会议。中共中央政治局常委、国务院总理温家宝强调，加强全国应急体系建设和应急管理工作，必须做好健全组织体系、运行机制、保障制度等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4000" y="270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0920" y="5084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导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42920" y="51418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国务院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在京召开全国应急管理工作会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566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主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32000" y="57229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中共中央政治局常委、国务院总理温家宝强调，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障制度等工作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87280" y="2924280"/>
            <a:ext cx="505080" cy="144360"/>
          </a:xfrm>
          <a:prstGeom prst="rightArrow">
            <a:avLst>
              <a:gd name="adj1" fmla="val 50000"/>
              <a:gd name="adj2" fmla="val 87469"/>
            </a:avLst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2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3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0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2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916360" y="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33c6"/>
                </a:solidFill>
                <a:latin typeface="Times New Roman"/>
                <a:ea typeface="华文隶书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6920" y="83664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文是一篇消息（狭义新闻），它真实、及时、简要地报道人民解放军百万大军横渡长江的情况。全面介绍了渡江三路军的进军的时间、地点、战线、战况，使人对震惊中外的渡江战役之概貌有所了解。这则新闻的标题、导语和主体部分的结构安排等都颇有讲究，值得细心体味。文中的语言准确精练，铿锵有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916360" y="3789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33c6"/>
                </a:solidFill>
                <a:latin typeface="Times New Roman"/>
                <a:ea typeface="华文隶书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71640" y="4437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完成课后练习三的第三组句子的比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71640" y="501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预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原我军解放南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则新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71640" y="5589720"/>
            <a:ext cx="75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写一则新闻报道学校或班上某人、某事或某项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7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8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9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课文阅读分析题　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2040" y="1125360"/>
            <a:ext cx="837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华社长江前线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人民解放军百万大军，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余华里的战线上，冲破敌阵，横渡长江。西起九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不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东至江阴，均是人民解放军的渡江区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．这部分内容从结构上看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_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在文中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作用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．“新华社长江前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时电”是电头，交代了通讯社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名称、地点和时间，能否删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为什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?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____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　　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．概括写出人民军队所向无敌、战绩辉煌的两个短语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29640" y="24922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导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89240" y="2924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简述渡江战役胜利成功，引起下文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21200" y="4365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不能。这样写表明材料真实准确，报道及时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80040" y="5492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冲破敌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12040" y="5492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横渡长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920" y="-17028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课文阅读分析题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907920"/>
            <a:ext cx="8532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华社长江前线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人民解放军百万大军，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余华里的战线上，冲破敌阵，横渡长江。西起九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不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东至江阴，均是人民解放军的渡江区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04080" y="2349360"/>
            <a:ext cx="561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百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是夸张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为什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．“西起九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不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东至江阴，均是人民解放军的渡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区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一句中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"(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不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)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"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有何表达作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63040" y="2852640"/>
            <a:ext cx="78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不是，因三路大军加起来正好一百万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57760" y="4292640"/>
            <a:ext cx="51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      “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不含”是不包括，当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九江尚未解放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，体现了本文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确凿无误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的特点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51080" y="5300640"/>
            <a:ext cx="48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“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均”是</a:t>
            </a: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全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意思。突出了</a:t>
            </a: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战线之长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胜利之大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洋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着</a:t>
            </a: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自豪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812" dur="indefinite" restart="never" nodeType="tmRoot">
          <p:childTnLst>
            <p:seq>
              <p:cTn id="1813" dur="indefinite" nodeType="mainSeq">
                <p:childTnLst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8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1415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七律•人民解放军占领南京》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14555" t="3125" r="14555" b="4163"/>
          <a:stretch/>
        </p:blipFill>
        <p:spPr>
          <a:xfrm>
            <a:off x="395280" y="1268280"/>
            <a:ext cx="4608360" cy="46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6150600" y="1989000"/>
            <a:ext cx="188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钟山风雨起苍黄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百万雄师过大江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虎踞龙盘今胜昔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天翻地覆慨而慷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宜将剩勇追穷寇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不可沽名学霸王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天若有情天亦老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人间正道是沧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83840" y="1052640"/>
            <a:ext cx="24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人民解放军占领南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342160" y="234936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人民解放军百万大军横渡长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40680" y="3068640"/>
            <a:ext cx="20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毛泽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67480" y="5589720"/>
            <a:ext cx="34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盐城市新世纪学校  邹德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46360" cy="2205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378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伟大的革命家、军事家、思想家；中国的缔造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4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人民解放军百万大军横渡长江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600200" y="1752480"/>
            <a:ext cx="6172200" cy="3505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zoom dir="out"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476360" y="692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210b5"/>
                </a:solidFill>
                <a:latin typeface="Times New Roman"/>
              </a:rPr>
              <a:t>人民解放军百万大军横渡长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8137800" cy="5365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32600" y="5493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人民解放军百万大军横渡长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19:10:13Z</dcterms:created>
  <dc:creator>www.DearEDU.com</dc:creator>
  <dc:description>www.DearEDU.com</dc:description>
  <cp:keywords>www.DearEDU.com</cp:keywords>
  <dc:language>en-US</dc:language>
  <cp:lastModifiedBy>user</cp:lastModifiedBy>
  <dcterms:modified xsi:type="dcterms:W3CDTF">2011-05-16T07:58:19Z</dcterms:modified>
  <cp:revision>40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