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0FC3-68A6-40B6-8D73-97DA3C4E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7D9-D21C-4C96-8FB9-679BF77C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513CE-4288-4B2A-82B5-D2A37B25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22F1E-D828-4A75-A5C3-A1257835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F70EC-753B-483A-9507-98F8420D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CEDA8-724C-432C-B825-B79A74BA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E2D58-BB55-4CDE-A394-597CD2EC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DDD40-7888-486D-9B97-6390178A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9BC9B-DD2C-4789-AB24-20AF70CF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89DA3-1877-43B3-AB6D-8972E464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95F20-B539-467B-8B1F-8FB52FB8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30D85-9EDA-4E34-8DAA-1377F01D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710-5223-4CF5-8A1E-87EC34CE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EA845-0178-474F-BD62-1D906C70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77BF8-4AA8-4E53-9279-32F58784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BE9F6-44A2-4A29-B04A-7C9B556E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F4B46-7F1B-4261-80F1-7A60A26C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402C4-48BC-4BF4-A097-05D5D9C1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94D68-F2E9-49F8-A9C6-0DE9AA9E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9F8D6-0533-4F1F-A849-EBECE01D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3E0DE-ED53-4732-B002-FF3AFD73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CF483-E2FF-41C7-BFB5-FA979A88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CAA9A-1626-4AB6-9C4B-B8D42AB7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3773-134E-433C-8B32-EAAA6495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34290-8BAE-433F-9161-4D2B5754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151ED-6A24-4E59-B587-9D6E6DB0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A7D8A-63E1-4FB4-91E6-B7220F18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4AC44-616F-4AAA-8B7B-04D7158D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83D2D-9646-4C14-A50C-3CF24767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61F80-5B0C-4A73-9CEF-FA61FA7B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3D463-FD29-4960-AAAE-982F3440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1055D-D765-4944-8088-89ADD2A4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2651E-61CE-401D-AE87-E2ED8ABE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03ECD-7DDF-441F-AEA5-49EB89E5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A856-BBA4-4829-B235-7A2971F0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07DD8-8326-417E-A1B5-43BF4AB5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36D29-5C1F-443F-A06A-91100E67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40754-A9A7-4667-9D74-7C13F0C0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13A4C-B397-4FF7-97E8-B2CE9602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72A19-C3E8-46B7-BB39-40D3B779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BAF50-C174-437A-A2EF-F22A91F3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8FDE9-8C2F-4ADC-8BA1-EE9FBDED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CD747-AA15-473D-B99C-1786CA4C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8BECE-28FE-4AFD-801B-F93AD811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4930B-818F-4489-B679-A8D2F433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6538-8272-47ED-AB37-32439614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413DD-9523-47A5-8686-4AE4BE06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4F62B-1F2E-4F65-AB2F-8FE00BB9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1F8F3-7005-4F7C-B355-A422F45F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1372C-4220-4885-B04D-16E472D0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2A3EB-F59A-452B-840E-9206C956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28CE-EF3C-407F-A98E-6B5B73C4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0B96-3BB3-42E7-B96B-35BD5FDF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39A7-E41E-4470-8C1F-C7E34022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D4A7-BE52-44BE-B275-BDA2225C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1401-272F-45C1-89AC-E21580F3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67E-707B-49E1-A4FF-D0AFEEDA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1551-1CEA-4A7B-AC18-CD08A3CC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C4E2-308E-4C0B-B738-8041D29E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510C-364D-4D2C-B82F-0F78C440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9FA8-A72D-4A23-9432-CF3D8A83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9C9D-26AA-43E6-ADD1-E2A19C02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A1505-7F2A-47F2-9468-01C2E266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B5B89-7CF8-43D8-A8C3-A493A709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0665A-982A-4A3F-A0C6-2297087F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C57C9-A37A-43E9-BEC3-44CB3E73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FDDA2-BC5B-41F8-BE19-0810324A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909-70A0-4F22-A2AE-7230A1CD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1B865-143E-424E-BFAD-2D58F0EB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A832C-2CBD-4511-8ABC-4842E7D1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DBD49-D9C3-49F7-BE15-F4F921B8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692DB-935E-45B2-9A8F-3A7323D9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5B231-DA27-413F-9275-AAE2CEE8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1B347-83B8-435A-BDEC-172EBC2F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8ABCF-46F2-45EA-8191-29C9A14A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8DA45-C425-4E53-9E28-AB706CBE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07A52-0F42-418E-B676-FDEB3DD4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BD074-732E-4C05-B24A-B095C8FE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754-7216-4D0C-8929-33CE7817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6932A-64AE-40C9-8600-E3F376FC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19A28-EC3A-41E7-8306-419D1BD1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1C48B-B756-4B6F-A216-B7295AE6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E514D-AFAD-4720-83EB-E76B9BA7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F498B-FC82-4EFB-99DE-F30A4207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5F10A-9365-4B62-885C-C42CBD8E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90C31-CD25-4BFA-A344-B7F1DD05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389FF-8D4C-4B04-B71B-39ACFA6D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A1EDE-B0E3-449C-B6C2-636ACB2F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023B1-297C-4229-A85E-5A9E9455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DE2-6257-4005-BCB8-5E512F44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29D96-153E-423A-8B1B-056C061D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C10AF-9D2B-4A0A-859C-3ECB880F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54513-314C-4F00-84D8-A8BB5C6A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3D958-1ACE-40AF-8D37-C9D7BD0E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4F0F4-9BD5-40DE-A316-61596A14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82609-5DD8-404D-B028-25C92589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B63F2-040E-4DEF-AB43-4B80E9E1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8C45B-6ADC-4D87-AE16-045B3ECF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2B031-ACC8-4136-ADBA-C84BA86C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F2FD1-7FBE-457F-A58E-1FC01A7B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3D1-A369-4199-AA06-7F609C30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EC816-0C2C-41BC-8AE4-FDB45467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AD636-7CB8-4CB6-977D-67DAB74F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90684-B317-4030-A060-C5231455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71DB8-B693-439A-9F7C-003654A6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82D6B-E924-4C45-88DD-8EA22747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F3414-8D5A-4F64-903D-CCAF8D37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D493C-4056-4DA0-BDC2-86B706AE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5B95A-1466-4B3D-82B1-9A79F55C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B583D-5E1D-4782-979D-DAF85070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4ED1E-E970-430C-B2E8-40EF351E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90A-BE09-49AD-B6D9-630FB2F7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7BE2E-D753-4425-A83D-C243C3C1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C1F3F-5223-484D-9B59-1DE13E72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3D3C1-BE50-4C13-A382-AADD30E2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98520-BB36-4EEC-843B-E03DDA16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DD8A0-4195-4DA4-AE46-EB2D6C4A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9D51F-AFE0-49C2-8892-23317E03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E292C-2106-41C7-BFBA-070DC3B9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0D7F1-74A0-4512-B96A-66A5EB91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F08FB-FA50-4D5E-ABB9-05DDE36E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BED29-8832-4994-BD73-7BAE71D4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7CF-CC2D-459B-B5BF-AA7A6357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8211E-37CD-4EF8-A0C1-7F97FD67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72351-C86C-4933-A95C-8415EAE3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A2573-12A3-4F0D-AA87-58D6CF0E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CB81E-A3AD-4B11-A969-4D4283BC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8ADB1-6EEF-4EF8-BE7B-D734941C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7E934-4E4B-40A0-8728-9FC4F332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597FF-BC3C-42EE-AECE-B1D87B32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701B4-8221-42EB-B7C2-07497F6E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F23C9-4169-4673-82BC-E65A82B5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3EB35-9B9C-49D7-B2F0-6D456A7B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343-9A0B-4D4A-8703-0CFD66ED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B593B-A383-42E3-963C-207CD582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C8DE9-4D78-4AF4-A788-90BC8B1A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38525-10FE-4623-90D1-29B16B8E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0F6CB-AB71-4EE6-82BB-567E7823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EEC20-A87F-417C-8D73-19DD2518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C4CD0-043D-4EDF-9983-FCD78132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4DE47-FC9D-4D16-96EF-396A6109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3399C-97C2-446F-B7D0-5CCEB772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F2514-0A02-477D-978E-9480D193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43C60-0F2B-431D-8E3E-4FEBC35A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6D4E-12EC-42CC-863C-F436F4EC7DC3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EB50-20D2-45F1-BCB2-BECEEFC3D53F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E76F-D40B-4781-B1EC-E28C2C9A96AD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1182-40E7-43C1-ABC7-2E7E460EB4F2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0CDC-2CA0-46C3-81CE-505646B380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7301-8622-493B-976F-8A0B26366C34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2DEC-C323-495E-90F7-BC5C7FADDFB9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DBCD-BFD3-451E-929E-53B29306848E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550C-30EC-4645-8EA0-904AE7FD65A3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43A1-7157-4E29-9C08-A71046A71FF3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4121-EB37-4738-B1D2-C22043F387C4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506E-DCE2-4118-A0CF-D2BEF75C21CB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8"/>
          <p:cNvSpPr/>
          <p:nvPr/>
        </p:nvSpPr>
        <p:spPr>
          <a:xfrm>
            <a:off x="7740720" y="609300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.glzy8.com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海量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免费下载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0"/>
          <p:cNvSpPr/>
          <p:nvPr/>
        </p:nvSpPr>
        <p:spPr>
          <a:xfrm>
            <a:off x="0" y="3213000"/>
            <a:ext cx="9144000" cy="3645000"/>
          </a:xfrm>
          <a:prstGeom prst="rect">
            <a:avLst/>
          </a:prstGeom>
          <a:solidFill>
            <a:srgbClr val="fa2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3" descr="C:\Users\Nir\Desktop\未vv标题-1.png"/>
          <p:cNvPicPr/>
          <p:nvPr/>
        </p:nvPicPr>
        <p:blipFill>
          <a:blip r:embed="rId1"/>
          <a:srcRect l="0" t="7576" r="0" b="0"/>
          <a:stretch/>
        </p:blipFill>
        <p:spPr>
          <a:xfrm>
            <a:off x="2135160" y="1258920"/>
            <a:ext cx="5389560" cy="49784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矢量图目录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179280" y="1052640"/>
            <a:ext cx="1284480" cy="10396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7"/>
          <p:cNvSpPr/>
          <p:nvPr/>
        </p:nvSpPr>
        <p:spPr>
          <a:xfrm>
            <a:off x="272880" y="20923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e643a"/>
                </a:solidFill>
                <a:latin typeface="微软雅黑"/>
                <a:ea typeface="微软雅黑"/>
              </a:rPr>
              <a:t>艺术</a:t>
            </a:r>
            <a:r>
              <a:rPr b="0" lang="en-US" sz="2000" spc="-1" strike="noStrike">
                <a:solidFill>
                  <a:srgbClr val="8e643a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8e643a"/>
                </a:solidFill>
                <a:latin typeface="微软雅黑"/>
                <a:ea typeface="微软雅黑"/>
              </a:rPr>
              <a:t>模板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555480" y="25113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艺术展示幻灯片演示模板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1676520" y="5713560"/>
            <a:ext cx="3110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12600" y="0"/>
            <a:ext cx="9180720" cy="688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34"/>
          <p:cNvSpPr/>
          <p:nvPr/>
        </p:nvSpPr>
        <p:spPr>
          <a:xfrm rot="3153000">
            <a:off x="664560" y="4190760"/>
            <a:ext cx="3146400" cy="126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 anchorCtr="1" vert="eaVer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椭圆 3"/>
          <p:cNvSpPr/>
          <p:nvPr/>
        </p:nvSpPr>
        <p:spPr>
          <a:xfrm rot="3153000">
            <a:off x="851400" y="4040640"/>
            <a:ext cx="2955960" cy="192240"/>
          </a:xfrm>
          <a:custGeom>
            <a:avLst/>
            <a:gdLst/>
            <a:ahLst/>
            <a:rect l="l" t="t" r="r" b="b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solidFill>
            <a:srgbClr val="fa2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6"/>
          <p:cNvSpPr/>
          <p:nvPr/>
        </p:nvSpPr>
        <p:spPr>
          <a:xfrm rot="3153000">
            <a:off x="1879200" y="3095640"/>
            <a:ext cx="1621080" cy="1274760"/>
          </a:xfrm>
          <a:custGeom>
            <a:avLst/>
            <a:gdLst/>
            <a:ahLst/>
            <a:rect l="l" t="t" r="r" b="b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椭圆 6"/>
          <p:cNvSpPr/>
          <p:nvPr/>
        </p:nvSpPr>
        <p:spPr>
          <a:xfrm rot="3153000">
            <a:off x="1899000" y="3153240"/>
            <a:ext cx="1528560" cy="1203480"/>
          </a:xfrm>
          <a:custGeom>
            <a:avLst/>
            <a:gdLst/>
            <a:ahLst/>
            <a:rect l="l" t="t" r="r" b="b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a6a6a6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2289240" y="3333600"/>
            <a:ext cx="17280" cy="743040"/>
            <a:chOff x="2289240" y="3333600"/>
            <a:chExt cx="17280" cy="743040"/>
          </a:xfrm>
        </p:grpSpPr>
        <p:pic>
          <p:nvPicPr>
            <p:cNvPr id="505" name="矩形 48" descr=""/>
            <p:cNvPicPr/>
            <p:nvPr/>
          </p:nvPicPr>
          <p:blipFill>
            <a:blip r:embed="rId2"/>
            <a:stretch/>
          </p:blipFill>
          <p:spPr>
            <a:xfrm>
              <a:off x="2289240" y="3333600"/>
              <a:ext cx="172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10"/>
            <p:cNvSpPr/>
            <p:nvPr/>
          </p:nvSpPr>
          <p:spPr>
            <a:xfrm rot="5400000">
              <a:off x="1926720" y="3698640"/>
              <a:ext cx="740160" cy="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 anchorCtr="1" vert="eaVert" rot="10800000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TextBox 49"/>
          <p:cNvSpPr/>
          <p:nvPr/>
        </p:nvSpPr>
        <p:spPr>
          <a:xfrm>
            <a:off x="2266920" y="335124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aaa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50"/>
          <p:cNvSpPr/>
          <p:nvPr/>
        </p:nvSpPr>
        <p:spPr>
          <a:xfrm>
            <a:off x="1484280" y="4040280"/>
            <a:ext cx="8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auhaus 93"/>
                <a:ea typeface="微软雅黑"/>
              </a:rPr>
              <a:t>0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65"/>
          <p:cNvSpPr/>
          <p:nvPr/>
        </p:nvSpPr>
        <p:spPr>
          <a:xfrm>
            <a:off x="1967040" y="3446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39"/>
          <p:cNvSpPr/>
          <p:nvPr/>
        </p:nvSpPr>
        <p:spPr>
          <a:xfrm rot="3153000">
            <a:off x="2896560" y="4190760"/>
            <a:ext cx="3146400" cy="126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 anchorCtr="1" vert="eaVer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椭圆 3"/>
          <p:cNvSpPr/>
          <p:nvPr/>
        </p:nvSpPr>
        <p:spPr>
          <a:xfrm rot="3153000">
            <a:off x="3071520" y="4039920"/>
            <a:ext cx="2955960" cy="193680"/>
          </a:xfrm>
          <a:custGeom>
            <a:avLst/>
            <a:gdLst/>
            <a:ahLst/>
            <a:rect l="l" t="t" r="r" b="b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solidFill>
            <a:srgbClr val="fa2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椭圆 6"/>
          <p:cNvSpPr/>
          <p:nvPr/>
        </p:nvSpPr>
        <p:spPr>
          <a:xfrm rot="3153000">
            <a:off x="4111200" y="3095640"/>
            <a:ext cx="1621080" cy="1274760"/>
          </a:xfrm>
          <a:custGeom>
            <a:avLst/>
            <a:gdLst/>
            <a:ahLst/>
            <a:rect l="l" t="t" r="r" b="b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椭圆 6"/>
          <p:cNvSpPr/>
          <p:nvPr/>
        </p:nvSpPr>
        <p:spPr>
          <a:xfrm rot="3153000">
            <a:off x="4131000" y="3153240"/>
            <a:ext cx="1528560" cy="1203480"/>
          </a:xfrm>
          <a:custGeom>
            <a:avLst/>
            <a:gdLst/>
            <a:ahLst/>
            <a:rect l="l" t="t" r="r" b="b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60"/>
          <p:cNvSpPr/>
          <p:nvPr/>
        </p:nvSpPr>
        <p:spPr>
          <a:xfrm>
            <a:off x="4491000" y="3340080"/>
            <a:ext cx="95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bbbbbbb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495680" y="3321000"/>
            <a:ext cx="17640" cy="743040"/>
            <a:chOff x="4495680" y="3321000"/>
            <a:chExt cx="17640" cy="743040"/>
          </a:xfrm>
        </p:grpSpPr>
        <p:pic>
          <p:nvPicPr>
            <p:cNvPr id="516" name="矩形 66" descr=""/>
            <p:cNvPicPr/>
            <p:nvPr/>
          </p:nvPicPr>
          <p:blipFill>
            <a:blip r:embed="rId3"/>
            <a:stretch/>
          </p:blipFill>
          <p:spPr>
            <a:xfrm>
              <a:off x="4495680" y="3321000"/>
              <a:ext cx="176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Text Box 22"/>
            <p:cNvSpPr/>
            <p:nvPr/>
          </p:nvSpPr>
          <p:spPr>
            <a:xfrm rot="5400000">
              <a:off x="4134240" y="3685680"/>
              <a:ext cx="740160" cy="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 anchorCtr="1" vert="eaVert" rot="10800000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Box 67"/>
          <p:cNvSpPr/>
          <p:nvPr/>
        </p:nvSpPr>
        <p:spPr>
          <a:xfrm>
            <a:off x="4173480" y="3433680"/>
            <a:ext cx="4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0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72"/>
          <p:cNvSpPr/>
          <p:nvPr/>
        </p:nvSpPr>
        <p:spPr>
          <a:xfrm>
            <a:off x="3681360" y="4040280"/>
            <a:ext cx="8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auhaus 93"/>
                <a:ea typeface="微软雅黑"/>
              </a:rPr>
              <a:t>0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44"/>
          <p:cNvSpPr/>
          <p:nvPr/>
        </p:nvSpPr>
        <p:spPr>
          <a:xfrm rot="3153000">
            <a:off x="5040000" y="4190400"/>
            <a:ext cx="3146400" cy="1296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 anchorCtr="1" vert="eaVer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椭圆 3"/>
          <p:cNvSpPr/>
          <p:nvPr/>
        </p:nvSpPr>
        <p:spPr>
          <a:xfrm rot="3153000">
            <a:off x="5214600" y="4039920"/>
            <a:ext cx="2955960" cy="193680"/>
          </a:xfrm>
          <a:custGeom>
            <a:avLst/>
            <a:gdLst/>
            <a:ahLst/>
            <a:rect l="l" t="t" r="r" b="b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solidFill>
            <a:srgbClr val="fa2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椭圆 6"/>
          <p:cNvSpPr/>
          <p:nvPr/>
        </p:nvSpPr>
        <p:spPr>
          <a:xfrm rot="3153000">
            <a:off x="6254280" y="3095640"/>
            <a:ext cx="1621080" cy="1274760"/>
          </a:xfrm>
          <a:custGeom>
            <a:avLst/>
            <a:gdLst/>
            <a:ahLst/>
            <a:rect l="l" t="t" r="r" b="b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椭圆 6"/>
          <p:cNvSpPr/>
          <p:nvPr/>
        </p:nvSpPr>
        <p:spPr>
          <a:xfrm rot="3153000">
            <a:off x="6274080" y="3153240"/>
            <a:ext cx="1528560" cy="1203480"/>
          </a:xfrm>
          <a:custGeom>
            <a:avLst/>
            <a:gdLst/>
            <a:ahLst/>
            <a:rect l="l" t="t" r="r" b="b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61"/>
          <p:cNvSpPr/>
          <p:nvPr/>
        </p:nvSpPr>
        <p:spPr>
          <a:xfrm>
            <a:off x="6696000" y="3362400"/>
            <a:ext cx="95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ccccccccc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6738840" y="3344760"/>
            <a:ext cx="10800" cy="738360"/>
            <a:chOff x="6738840" y="3344760"/>
            <a:chExt cx="10800" cy="738360"/>
          </a:xfrm>
        </p:grpSpPr>
        <p:pic>
          <p:nvPicPr>
            <p:cNvPr id="526" name="矩形 68" descr=""/>
            <p:cNvPicPr/>
            <p:nvPr/>
          </p:nvPicPr>
          <p:blipFill>
            <a:blip r:embed="rId4"/>
            <a:stretch/>
          </p:blipFill>
          <p:spPr>
            <a:xfrm>
              <a:off x="6738840" y="3347280"/>
              <a:ext cx="9720" cy="7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Text Box 33"/>
            <p:cNvSpPr/>
            <p:nvPr/>
          </p:nvSpPr>
          <p:spPr>
            <a:xfrm rot="5400000">
              <a:off x="6375240" y="3708720"/>
              <a:ext cx="738360" cy="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 anchorCtr="1" vert="eaVert" rot="10800000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TextBox 69"/>
          <p:cNvSpPr/>
          <p:nvPr/>
        </p:nvSpPr>
        <p:spPr>
          <a:xfrm>
            <a:off x="6415200" y="344160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73"/>
          <p:cNvSpPr/>
          <p:nvPr/>
        </p:nvSpPr>
        <p:spPr>
          <a:xfrm>
            <a:off x="5913360" y="4040280"/>
            <a:ext cx="8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auhaus 93"/>
                <a:ea typeface="微软雅黑"/>
              </a:rPr>
              <a:t>0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64512"/>
          <p:cNvSpPr/>
          <p:nvPr/>
        </p:nvSpPr>
        <p:spPr>
          <a:xfrm>
            <a:off x="655560" y="2565360"/>
            <a:ext cx="8097840" cy="3146400"/>
          </a:xfrm>
          <a:prstGeom prst="rect">
            <a:avLst/>
          </a:prstGeom>
          <a:noFill/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占位符 3"/>
          <p:cNvSpPr/>
          <p:nvPr/>
        </p:nvSpPr>
        <p:spPr>
          <a:xfrm>
            <a:off x="539640" y="2060640"/>
            <a:ext cx="3395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目录文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38"/>
          <p:cNvSpPr/>
          <p:nvPr/>
        </p:nvSpPr>
        <p:spPr>
          <a:xfrm>
            <a:off x="468360" y="601560"/>
            <a:ext cx="1262160" cy="1279800"/>
          </a:xfrm>
          <a:prstGeom prst="wedgeEllipseCallout">
            <a:avLst>
              <a:gd name="adj1" fmla="val 43333"/>
              <a:gd name="adj2" fmla="val 47148"/>
            </a:avLst>
          </a:prstGeom>
          <a:solidFill>
            <a:srgbClr val="d01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9"/>
          <p:cNvSpPr/>
          <p:nvPr/>
        </p:nvSpPr>
        <p:spPr>
          <a:xfrm>
            <a:off x="630360" y="87804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12600" y="0"/>
            <a:ext cx="9180720" cy="688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9"/>
          <p:cNvSpPr/>
          <p:nvPr/>
        </p:nvSpPr>
        <p:spPr>
          <a:xfrm>
            <a:off x="430200" y="601560"/>
            <a:ext cx="1262160" cy="1279800"/>
          </a:xfrm>
          <a:prstGeom prst="wedgeEllipseCallout">
            <a:avLst>
              <a:gd name="adj1" fmla="val 43333"/>
              <a:gd name="adj2" fmla="val 47148"/>
            </a:avLst>
          </a:prstGeom>
          <a:solidFill>
            <a:srgbClr val="d01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0"/>
          <p:cNvSpPr/>
          <p:nvPr/>
        </p:nvSpPr>
        <p:spPr>
          <a:xfrm>
            <a:off x="592200" y="8780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文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2"/>
          <p:cNvSpPr/>
          <p:nvPr/>
        </p:nvSpPr>
        <p:spPr>
          <a:xfrm>
            <a:off x="539640" y="239868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12600" y="0"/>
            <a:ext cx="9180720" cy="688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0" y="4119480"/>
            <a:ext cx="9191520" cy="2782800"/>
          </a:xfrm>
          <a:prstGeom prst="rect">
            <a:avLst/>
          </a:prstGeom>
          <a:solidFill>
            <a:srgbClr val="d01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114800" y="234936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/>
  <dc:description/>
  <dc:language>en-US</dc:language>
  <cp:lastModifiedBy>ABC</cp:lastModifiedBy>
  <cp:lastPrinted>1899-12-30T00:00:00Z</cp:lastPrinted>
  <dcterms:modified xsi:type="dcterms:W3CDTF">2016-03-02T08:13:50Z</dcterms:modified>
  <cp:revision>45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