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0.jpeg" ContentType="image/jpeg"/>
  <Override PartName="/ppt/media/image15.jpeg" ContentType="image/jpeg"/>
  <Override PartName="/ppt/media/image4.png" ContentType="image/png"/>
  <Override PartName="/ppt/media/image1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6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5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180D-D74E-427C-B857-6839BC6DA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BE2E-25E6-4C7C-AECE-F1E312226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E547-37C9-4791-A5B4-E2D063C02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3F04-0303-41F5-8448-78F4A7E83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3EFD-CF39-45EB-B13D-2B587A0E9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66F4-40DF-4E3D-8E3B-737D93C17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E5F5-7044-459A-A1A5-4B3443969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34DF-BBF7-44E7-BF04-A7F63E50E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ED37-8247-4BF4-978B-966C43EA4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70C4-7BAF-4582-ABCE-F121BD93F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3433-D28A-4368-B2AE-72A0BCE1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769F-692B-47DD-ABBB-FD433987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F27AF-4927-4DC1-8A8D-491C4A8A81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cc00cc"/>
                </a:solidFill>
                <a:latin typeface="Arial"/>
              </a:rPr>
              <a:t>学校办公系统使用说明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 flipV="1" rot="10800000">
            <a:off x="1142640" y="3929040"/>
            <a:ext cx="749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会减轻工作量，节省您们的资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1214280" y="5214960"/>
            <a:ext cx="70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一般老师使用很简单，所见即所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 flipV="1" rot="10800000">
            <a:off x="1116000" y="2781360"/>
            <a:ext cx="749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欢迎您们使用本学校办公系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8"/>
          <p:cNvSpPr/>
          <p:nvPr/>
        </p:nvSpPr>
        <p:spPr>
          <a:xfrm>
            <a:off x="533520" y="0"/>
            <a:ext cx="4752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cc00cc"/>
                </a:solidFill>
                <a:latin typeface="Arial"/>
              </a:rPr>
              <a:t>四、个人事务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http://demo.yfidea.com/Help/img/richenganpai.JPG"/>
          <p:cNvPicPr/>
          <p:nvPr/>
        </p:nvPicPr>
        <p:blipFill>
          <a:blip r:embed="rId1"/>
          <a:stretch/>
        </p:blipFill>
        <p:spPr>
          <a:xfrm>
            <a:off x="225360" y="2643120"/>
            <a:ext cx="8847360" cy="4076640"/>
          </a:xfrm>
          <a:prstGeom prst="rect">
            <a:avLst/>
          </a:prstGeom>
          <a:ln w="0">
            <a:noFill/>
          </a:ln>
        </p:spPr>
      </p:pic>
      <p:sp>
        <p:nvSpPr>
          <p:cNvPr id="84" name="矩形 6"/>
          <p:cNvSpPr/>
          <p:nvPr/>
        </p:nvSpPr>
        <p:spPr>
          <a:xfrm>
            <a:off x="428760" y="714240"/>
            <a:ext cx="84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点击日程上面的日期数字，就进入管理日程窗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7"/>
          <p:cNvSpPr/>
          <p:nvPr/>
        </p:nvSpPr>
        <p:spPr>
          <a:xfrm>
            <a:off x="571680" y="1285920"/>
            <a:ext cx="814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点击“新建事务”，新增一个事务，注意提醒时间，本系统在提醒时间 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分钟，和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分钟分别文字声音提醒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9"/>
          <p:cNvSpPr/>
          <p:nvPr/>
        </p:nvSpPr>
        <p:spPr>
          <a:xfrm>
            <a:off x="520560" y="0"/>
            <a:ext cx="6480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cc00cc"/>
                </a:solidFill>
                <a:latin typeface="Arial"/>
              </a:rPr>
              <a:t>五、发内部短信</a:t>
            </a:r>
            <a:r>
              <a:rPr b="0" lang="en-US" sz="3800" spc="-1" strike="noStrike">
                <a:solidFill>
                  <a:srgbClr val="cc00cc"/>
                </a:solidFill>
                <a:latin typeface="Arial"/>
              </a:rPr>
              <a:t>\</a:t>
            </a:r>
            <a:r>
              <a:rPr b="0" lang="zh-CN" sz="3800" spc="-1" strike="noStrike">
                <a:solidFill>
                  <a:srgbClr val="cc00cc"/>
                </a:solidFill>
                <a:latin typeface="Arial"/>
              </a:rPr>
              <a:t>邮件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1" descr="http://demo.yfidea.com/Help/img/xinduanxin.JPG"/>
          <p:cNvPicPr/>
          <p:nvPr/>
        </p:nvPicPr>
        <p:blipFill>
          <a:blip r:embed="rId1"/>
          <a:stretch/>
        </p:blipFill>
        <p:spPr>
          <a:xfrm>
            <a:off x="928800" y="5643720"/>
            <a:ext cx="7500960" cy="1071360"/>
          </a:xfrm>
          <a:prstGeom prst="rect">
            <a:avLst/>
          </a:prstGeom>
          <a:ln w="0">
            <a:noFill/>
          </a:ln>
        </p:spPr>
      </p:pic>
      <p:sp>
        <p:nvSpPr>
          <p:cNvPr id="88" name="矩形 8"/>
          <p:cNvSpPr/>
          <p:nvPr/>
        </p:nvSpPr>
        <p:spPr>
          <a:xfrm>
            <a:off x="500040" y="4976640"/>
            <a:ext cx="842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请及时查看，让发信人知道你已经查阅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28760" y="857160"/>
          <a:ext cx="8215200" cy="854280"/>
        </p:xfrm>
        <a:graphic>
          <a:graphicData uri="http://schemas.openxmlformats.org/drawingml/2006/table">
            <a:tbl>
              <a:tblPr/>
              <a:tblGrid>
                <a:gridCol w="8215200"/>
              </a:tblGrid>
              <a:tr h="854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、发送邮件：选择要发送的名单。写标题，内容，可以添加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个附件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0" name="Picture 23" descr="http://demo.yfidea.com/Help/img/faEmail.JPG"/>
          <p:cNvPicPr/>
          <p:nvPr/>
        </p:nvPicPr>
        <p:blipFill>
          <a:blip r:embed="rId2"/>
          <a:stretch/>
        </p:blipFill>
        <p:spPr>
          <a:xfrm>
            <a:off x="1000080" y="1747800"/>
            <a:ext cx="700092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4"/>
          <p:cNvSpPr/>
          <p:nvPr/>
        </p:nvSpPr>
        <p:spPr>
          <a:xfrm>
            <a:off x="517680" y="0"/>
            <a:ext cx="6912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cc00cc"/>
                </a:solidFill>
                <a:latin typeface="Arial"/>
              </a:rPr>
              <a:t>六、部门文件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http://demo.yfidea.com/Help/img/bumen/bumenwenjianadd.JPG"/>
          <p:cNvPicPr/>
          <p:nvPr/>
        </p:nvPicPr>
        <p:blipFill>
          <a:blip r:embed="rId1"/>
          <a:stretch/>
        </p:blipFill>
        <p:spPr>
          <a:xfrm>
            <a:off x="1619280" y="3789360"/>
            <a:ext cx="5438880" cy="2523960"/>
          </a:xfrm>
          <a:prstGeom prst="rect">
            <a:avLst/>
          </a:prstGeom>
          <a:ln w="0">
            <a:noFill/>
          </a:ln>
        </p:spPr>
      </p:pic>
      <p:sp>
        <p:nvSpPr>
          <p:cNvPr id="93" name="矩形 6"/>
          <p:cNvSpPr/>
          <p:nvPr/>
        </p:nvSpPr>
        <p:spPr>
          <a:xfrm>
            <a:off x="500040" y="903240"/>
            <a:ext cx="82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设置学校部门，请根据学校需要设置，认真考虑，最好不要经常修改。在系统设置里面看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http://demo.yfidea.com/Help/img/bumen/shebumen.JPG"/>
          <p:cNvPicPr/>
          <p:nvPr/>
        </p:nvPicPr>
        <p:blipFill>
          <a:blip r:embed="rId2"/>
          <a:stretch/>
        </p:blipFill>
        <p:spPr>
          <a:xfrm>
            <a:off x="928800" y="1928880"/>
            <a:ext cx="1817640" cy="662040"/>
          </a:xfrm>
          <a:prstGeom prst="rect">
            <a:avLst/>
          </a:prstGeom>
          <a:ln w="0">
            <a:noFill/>
          </a:ln>
        </p:spPr>
      </p:pic>
      <p:sp>
        <p:nvSpPr>
          <p:cNvPr id="95" name="矩形 8"/>
          <p:cNvSpPr/>
          <p:nvPr/>
        </p:nvSpPr>
        <p:spPr>
          <a:xfrm>
            <a:off x="2946600" y="2708280"/>
            <a:ext cx="5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填好相应内容，就可以上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己上传的资料。自己可以删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642960" y="1071720"/>
          <a:ext cx="7572240" cy="853920"/>
        </p:xfrm>
        <a:graphic>
          <a:graphicData uri="http://schemas.openxmlformats.org/drawingml/2006/table">
            <a:tbl>
              <a:tblPr/>
              <a:tblGrid>
                <a:gridCol w="7572240"/>
              </a:tblGrid>
              <a:tr h="853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、系统管理员先要设置好文档任务，教师才能安预先设置好的任务去上传文档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7" name="Picture 2" descr="http://demo.yfidea.com/Help/img/jiaoshiwjRenwu1.JPG"/>
          <p:cNvPicPr/>
          <p:nvPr/>
        </p:nvPicPr>
        <p:blipFill>
          <a:blip r:embed="rId1"/>
          <a:stretch/>
        </p:blipFill>
        <p:spPr>
          <a:xfrm>
            <a:off x="428760" y="2143080"/>
            <a:ext cx="8286480" cy="40719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3"/>
          <p:cNvSpPr/>
          <p:nvPr/>
        </p:nvSpPr>
        <p:spPr>
          <a:xfrm>
            <a:off x="468360" y="0"/>
            <a:ext cx="67690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cc00cc"/>
                </a:solidFill>
                <a:latin typeface="Arial"/>
              </a:rPr>
              <a:t>七、教师文件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42960" y="642960"/>
            <a:ext cx="407340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点击以下，就可以看到自己需要上传的文件，就可以上传。每个人可以上传，删除自己的文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http://demo.yfidea.com/Help/img/jiaoshiwenjsc.JPG"/>
          <p:cNvPicPr/>
          <p:nvPr/>
        </p:nvPicPr>
        <p:blipFill>
          <a:blip r:embed="rId1"/>
          <a:stretch/>
        </p:blipFill>
        <p:spPr>
          <a:xfrm>
            <a:off x="347760" y="3929040"/>
            <a:ext cx="8510400" cy="25718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932360" y="620640"/>
            <a:ext cx="367200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3"/>
          <p:cNvSpPr/>
          <p:nvPr/>
        </p:nvSpPr>
        <p:spPr>
          <a:xfrm>
            <a:off x="539640" y="0"/>
            <a:ext cx="6769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cc00cc"/>
                </a:solidFill>
                <a:latin typeface="Arial"/>
              </a:rPr>
              <a:t>八、网上备课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5"/>
          <p:cNvSpPr/>
          <p:nvPr/>
        </p:nvSpPr>
        <p:spPr>
          <a:xfrm>
            <a:off x="571680" y="1000080"/>
            <a:ext cx="78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点击科组，级别，就可以查看本学期的这个科组的备课资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http://demo.yfidea.com/Help/img/beike.JPG"/>
          <p:cNvPicPr/>
          <p:nvPr/>
        </p:nvPicPr>
        <p:blipFill>
          <a:blip r:embed="rId1"/>
          <a:stretch/>
        </p:blipFill>
        <p:spPr>
          <a:xfrm>
            <a:off x="642960" y="2143080"/>
            <a:ext cx="821520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1914480" y="3240"/>
            <a:ext cx="4017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cc00cc"/>
                </a:solidFill>
                <a:latin typeface="Arial"/>
              </a:rPr>
              <a:t>九、公物报修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7"/>
          <p:cNvSpPr/>
          <p:nvPr/>
        </p:nvSpPr>
        <p:spPr>
          <a:xfrm>
            <a:off x="857160" y="5715000"/>
            <a:ext cx="592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点击报修处理，可以看到自己的报修历史记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9"/>
          <p:cNvSpPr/>
          <p:nvPr/>
        </p:nvSpPr>
        <p:spPr>
          <a:xfrm>
            <a:off x="2487960" y="1285920"/>
            <a:ext cx="68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点击我要保修。填写保修具体事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116000" y="1700280"/>
            <a:ext cx="6624720" cy="3960720"/>
          </a:xfrm>
          <a:prstGeom prst="rect">
            <a:avLst/>
          </a:prstGeom>
          <a:ln w="0">
            <a:noFill/>
          </a:ln>
        </p:spPr>
      </p:pic>
      <p:grpSp>
        <p:nvGrpSpPr>
          <p:cNvPr id="109" name="Group 8"/>
          <p:cNvGrpSpPr/>
          <p:nvPr/>
        </p:nvGrpSpPr>
        <p:grpSpPr>
          <a:xfrm>
            <a:off x="4939560" y="2070360"/>
            <a:ext cx="2511720" cy="1886760"/>
            <a:chOff x="4939560" y="2070360"/>
            <a:chExt cx="2511720" cy="1886760"/>
          </a:xfrm>
        </p:grpSpPr>
        <p:sp>
          <p:nvSpPr>
            <p:cNvPr id="110" name="AutoShape 6"/>
            <p:cNvSpPr/>
            <p:nvPr/>
          </p:nvSpPr>
          <p:spPr>
            <a:xfrm rot="20589000">
              <a:off x="5079240" y="2365920"/>
              <a:ext cx="2232000" cy="1295640"/>
            </a:xfrm>
            <a:prstGeom prst="wedgeRoundRectCallout">
              <a:avLst>
                <a:gd name="adj1" fmla="val -105050"/>
                <a:gd name="adj2" fmla="val 13481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7"/>
            <p:cNvSpPr/>
            <p:nvPr/>
          </p:nvSpPr>
          <p:spPr>
            <a:xfrm rot="20589000">
              <a:off x="5408280" y="2409840"/>
              <a:ext cx="194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内容要详细点，包括地址，保修设备名称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矩形 3"/>
          <p:cNvSpPr/>
          <p:nvPr/>
        </p:nvSpPr>
        <p:spPr>
          <a:xfrm>
            <a:off x="785880" y="785880"/>
            <a:ext cx="814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成绩录入用成绩录入插件，图标如下，可以另存到本地运行，用户密码都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系统的用户密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"/>
          <p:cNvSpPr/>
          <p:nvPr/>
        </p:nvSpPr>
        <p:spPr>
          <a:xfrm>
            <a:off x="1914480" y="5760"/>
            <a:ext cx="40176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cc00cc"/>
                </a:solidFill>
                <a:latin typeface="Arial"/>
              </a:rPr>
              <a:t>十、学生成绩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5"/>
          <p:cNvSpPr/>
          <p:nvPr/>
        </p:nvSpPr>
        <p:spPr>
          <a:xfrm>
            <a:off x="900000" y="4365720"/>
            <a:ext cx="785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成绩按班别录入。选择好班别科目等信息。可以随机录入。也可以按学号顺序在中间分数中录入，录入完要按回车保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录入有误，可以在中间分数处直接修改，修改完毕按回车就保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720864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矩形 3"/>
          <p:cNvSpPr/>
          <p:nvPr/>
        </p:nvSpPr>
        <p:spPr>
          <a:xfrm>
            <a:off x="642960" y="642960"/>
            <a:ext cx="814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成绩统计，成绩统计实时，可以按多种方式进行统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http://demo.yfidea.com/Help/img/chengjitongji.JPG"/>
          <p:cNvPicPr/>
          <p:nvPr/>
        </p:nvPicPr>
        <p:blipFill>
          <a:blip r:embed="rId1"/>
          <a:stretch/>
        </p:blipFill>
        <p:spPr>
          <a:xfrm>
            <a:off x="428760" y="1785960"/>
            <a:ext cx="842940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矩形 3"/>
          <p:cNvSpPr/>
          <p:nvPr/>
        </p:nvSpPr>
        <p:spPr>
          <a:xfrm>
            <a:off x="785880" y="785880"/>
            <a:ext cx="814392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、德育量化系统分三部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班级自治（也是操行评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。里面可以录入学生平时上课违法纪律，班内加扣分等的项目。是仅仅用了记录学生的操行情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作为班任和科任记录学生平时操行情况。其扣分仅仅是班内使用。不作为学校的对比。就是过去班内使用的德育积分表，只是用于班任和科任管理考核学生的手段。不作为全校的德育档案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1237680" y="5760"/>
            <a:ext cx="220752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cc00cc"/>
                </a:solidFill>
                <a:latin typeface="Arial"/>
              </a:rPr>
              <a:t>十一、德育量化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5"/>
          <p:cNvSpPr/>
          <p:nvPr/>
        </p:nvSpPr>
        <p:spPr>
          <a:xfrm>
            <a:off x="826920" y="3213000"/>
            <a:ext cx="785844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班务常规，学校管理项目，班级间加扣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记录班级情况，或风纪值日或学校领导日常检查的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学校层面的记录。其扣分列入学校班与班之间的评比， 例如文明班等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如学校风纪员发现某班同学不佩戴校卡，进出校门违纪骑车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5"/>
          <p:cNvSpPr/>
          <p:nvPr/>
        </p:nvSpPr>
        <p:spPr>
          <a:xfrm>
            <a:off x="971640" y="4941720"/>
            <a:ext cx="7858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班务评比，学校固定项目的同级各班横向对比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如早操评比，卫生评比等等。就是一次评完整个年级，然后统一录入数据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cc00cc"/>
                </a:solidFill>
                <a:latin typeface="Arial"/>
              </a:rPr>
              <a:t>首先记住学校办公系统</a:t>
            </a:r>
            <a:r>
              <a:rPr b="0" lang="en-US" sz="3800" spc="-1" strike="noStrike">
                <a:solidFill>
                  <a:srgbClr val="cc00cc"/>
                </a:solidFill>
                <a:latin typeface="Arial"/>
              </a:rPr>
              <a:t>IP</a:t>
            </a:r>
            <a:r>
              <a:rPr b="0" lang="zh-CN" sz="3800" spc="-1" strike="noStrike">
                <a:solidFill>
                  <a:srgbClr val="cc00cc"/>
                </a:solidFill>
                <a:latin typeface="Arial"/>
              </a:rPr>
              <a:t>地址：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714240" y="26431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把办公系统添加到收藏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714240" y="2001960"/>
            <a:ext cx="77724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把办公系统设为首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8" descr=""/>
          <p:cNvPicPr/>
          <p:nvPr/>
        </p:nvPicPr>
        <p:blipFill>
          <a:blip r:embed="rId1"/>
          <a:stretch/>
        </p:blipFill>
        <p:spPr>
          <a:xfrm>
            <a:off x="2143080" y="3929040"/>
            <a:ext cx="4805280" cy="2449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29080" y="1387440"/>
            <a:ext cx="225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Arial"/>
              </a:rPr>
              <a:t>192.168.XXX.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矩形 3"/>
          <p:cNvSpPr/>
          <p:nvPr/>
        </p:nvSpPr>
        <p:spPr>
          <a:xfrm>
            <a:off x="785880" y="785880"/>
            <a:ext cx="814392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、德育量化系统使用注意事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班级自治（操行评定），班务常规要注意分开记录。例如某老师上课，发现学生违纪，是记录在班级自治的操行评定当中的。不要记录到版务常规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5"/>
          <p:cNvSpPr/>
          <p:nvPr/>
        </p:nvSpPr>
        <p:spPr>
          <a:xfrm>
            <a:off x="826920" y="2205000"/>
            <a:ext cx="7858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平时有学生帮忙搞卫生，或者做好事，是为该班争分的。就记录到班务常规里面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5"/>
          <p:cNvSpPr/>
          <p:nvPr/>
        </p:nvSpPr>
        <p:spPr>
          <a:xfrm>
            <a:off x="826920" y="3213000"/>
            <a:ext cx="785844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设置好班级自治和班务常规权限，权限一共分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添加操行评定记录 ：只能添加和修改自己添加的记录（普通老师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修改操行评定记录 ：可以添加和修改别人添加的记录（级长、值日领导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添加学生常规记录： 只能添加和修改自己添加的记录（普通老师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修改学生常规记录： 可以添加和修改别人添加的记录（级长、值日领导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管理班务评比记录： 可以添加和修改的记录（级长、值日领导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5"/>
          <p:cNvSpPr/>
          <p:nvPr/>
        </p:nvSpPr>
        <p:spPr>
          <a:xfrm>
            <a:off x="900000" y="5516640"/>
            <a:ext cx="78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班评分期设置：方便学校按月或时段进行文明班评比统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4"/>
          <p:cNvSpPr/>
          <p:nvPr/>
        </p:nvSpPr>
        <p:spPr>
          <a:xfrm>
            <a:off x="5357880" y="5643720"/>
            <a:ext cx="635796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谢谢大家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90880" y="2209680"/>
            <a:ext cx="4962240" cy="2438640"/>
          </a:xfrm>
          <a:prstGeom prst="rect">
            <a:avLst/>
          </a:prstGeom>
          <a:ln w="0">
            <a:noFill/>
          </a:ln>
        </p:spPr>
      </p:pic>
      <p:sp>
        <p:nvSpPr>
          <p:cNvPr id="128" name="TextBox 4"/>
          <p:cNvSpPr/>
          <p:nvPr/>
        </p:nvSpPr>
        <p:spPr>
          <a:xfrm>
            <a:off x="900000" y="836640"/>
            <a:ext cx="635796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更多更详细使用说明请看：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1"/>
          <p:cNvSpPr/>
          <p:nvPr/>
        </p:nvSpPr>
        <p:spPr>
          <a:xfrm>
            <a:off x="2287440" y="741240"/>
            <a:ext cx="66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通用详细功能列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2244600" y="16956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发新通知，通知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2244600" y="269568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个人事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2244600" y="319572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发内部短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发内部邮件。附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5"/>
          <p:cNvSpPr/>
          <p:nvPr/>
        </p:nvSpPr>
        <p:spPr>
          <a:xfrm>
            <a:off x="2244600" y="419580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教师文件，上传文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2287440" y="469584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网上备课，上传资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8"/>
          <p:cNvSpPr/>
          <p:nvPr/>
        </p:nvSpPr>
        <p:spPr>
          <a:xfrm>
            <a:off x="2244600" y="369576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部门文件，上传部门文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2"/>
          <p:cNvSpPr/>
          <p:nvPr/>
        </p:nvSpPr>
        <p:spPr>
          <a:xfrm>
            <a:off x="2244600" y="21956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校行事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3"/>
          <p:cNvSpPr/>
          <p:nvPr/>
        </p:nvSpPr>
        <p:spPr>
          <a:xfrm>
            <a:off x="2244600" y="126684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用户分组，密码设置，肤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5"/>
          <p:cNvSpPr/>
          <p:nvPr/>
        </p:nvSpPr>
        <p:spPr>
          <a:xfrm>
            <a:off x="2316240" y="51958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公物报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6"/>
          <p:cNvSpPr/>
          <p:nvPr/>
        </p:nvSpPr>
        <p:spPr>
          <a:xfrm>
            <a:off x="2287440" y="576756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学生成绩、班务日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cc00cc"/>
                </a:solidFill>
                <a:latin typeface="Arial"/>
              </a:rPr>
              <a:t>一、登陆办公系统：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714240" y="4500720"/>
            <a:ext cx="50101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直接浏览器登陆学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每次上班至少登陆看看有什么信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611280" y="1052640"/>
            <a:ext cx="5040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使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A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精灵登陆，从实用工具里面下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精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684360" y="4005360"/>
            <a:ext cx="46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可以记住密码，自动登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"/>
          <p:cNvPicPr/>
          <p:nvPr/>
        </p:nvPicPr>
        <p:blipFill>
          <a:blip r:embed="rId1"/>
          <a:stretch/>
        </p:blipFill>
        <p:spPr>
          <a:xfrm>
            <a:off x="826920" y="2133720"/>
            <a:ext cx="2880000" cy="18777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940360" y="692280"/>
            <a:ext cx="2648160" cy="54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7164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第一次登陆办公系统：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971640" y="3211560"/>
            <a:ext cx="77724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密码不可以使用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8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并且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位以上，不能是纯数字，一定要含有字母。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1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971640" y="2060640"/>
            <a:ext cx="7772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初始密码 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88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必须修改密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1042920" y="4437000"/>
            <a:ext cx="7772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请记住您的密码，忘记密码请联系学校的系统管理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5"/>
          <p:cNvSpPr/>
          <p:nvPr/>
        </p:nvSpPr>
        <p:spPr>
          <a:xfrm>
            <a:off x="642960" y="571680"/>
            <a:ext cx="8001000" cy="36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用户分组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m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用户分的组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全部人可以使用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并且出现在发通知、邮件、短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等等里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其他用户分的组自己使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不出现在发通知里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2"/>
          <p:cNvSpPr/>
          <p:nvPr/>
        </p:nvSpPr>
        <p:spPr>
          <a:xfrm>
            <a:off x="3019680" y="4000680"/>
            <a:ext cx="8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密码设置：更改自己的密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3"/>
          <p:cNvSpPr/>
          <p:nvPr/>
        </p:nvSpPr>
        <p:spPr>
          <a:xfrm>
            <a:off x="3825000" y="5191200"/>
            <a:ext cx="6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肤色：多种肤色，选择自己喜欢的肤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357200" y="5857920"/>
            <a:ext cx="4929480" cy="6429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2152440" cy="43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09080" cy="48355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-316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A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首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8"/>
          <p:cNvGrpSpPr/>
          <p:nvPr/>
        </p:nvGrpSpPr>
        <p:grpSpPr>
          <a:xfrm>
            <a:off x="3840120" y="2826000"/>
            <a:ext cx="2624400" cy="2024640"/>
            <a:chOff x="3840120" y="2826000"/>
            <a:chExt cx="2624400" cy="2024640"/>
          </a:xfrm>
        </p:grpSpPr>
        <p:sp>
          <p:nvSpPr>
            <p:cNvPr id="68" name="AutoShape 6"/>
            <p:cNvSpPr/>
            <p:nvPr/>
          </p:nvSpPr>
          <p:spPr>
            <a:xfrm rot="1292400">
              <a:off x="3999600" y="3190320"/>
              <a:ext cx="2232000" cy="1295640"/>
            </a:xfrm>
            <a:prstGeom prst="wedgeRoundRectCallout">
              <a:avLst>
                <a:gd name="adj1" fmla="val -105050"/>
                <a:gd name="adj2" fmla="val 13481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7"/>
            <p:cNvSpPr/>
            <p:nvPr/>
          </p:nvSpPr>
          <p:spPr>
            <a:xfrm rot="1292400">
              <a:off x="4520160" y="3423600"/>
              <a:ext cx="194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新通知一定要看，不看也要点一点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9"/>
          <p:cNvGrpSpPr/>
          <p:nvPr/>
        </p:nvGrpSpPr>
        <p:grpSpPr>
          <a:xfrm>
            <a:off x="6360120" y="1821960"/>
            <a:ext cx="2300760" cy="2169360"/>
            <a:chOff x="6360120" y="1821960"/>
            <a:chExt cx="2300760" cy="2169360"/>
          </a:xfrm>
        </p:grpSpPr>
        <p:sp>
          <p:nvSpPr>
            <p:cNvPr id="71" name="AutoShape 10"/>
            <p:cNvSpPr/>
            <p:nvPr/>
          </p:nvSpPr>
          <p:spPr>
            <a:xfrm rot="1960200">
              <a:off x="6592680" y="2206440"/>
              <a:ext cx="1835280" cy="1400400"/>
            </a:xfrm>
            <a:prstGeom prst="wedgeRoundRectCallout">
              <a:avLst>
                <a:gd name="adj1" fmla="val -105050"/>
                <a:gd name="adj2" fmla="val 13481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11"/>
            <p:cNvSpPr/>
            <p:nvPr/>
          </p:nvSpPr>
          <p:spPr>
            <a:xfrm rot="1960200">
              <a:off x="6859080" y="247572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新短信、邮件也要看、点，让发件人知道你查看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 rot="19431600">
            <a:off x="8062920" y="4292640"/>
            <a:ext cx="1081080" cy="936720"/>
          </a:xfrm>
          <a:prstGeom prst="wedgeEllipseCallout">
            <a:avLst>
              <a:gd name="adj1" fmla="val -40601"/>
              <a:gd name="adj2" fmla="val 44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244000" y="4335480"/>
            <a:ext cx="90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重要的文件标星，方便自己处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7"/>
          <p:cNvSpPr/>
          <p:nvPr/>
        </p:nvSpPr>
        <p:spPr>
          <a:xfrm>
            <a:off x="611280" y="189000"/>
            <a:ext cx="7858080" cy="47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cc"/>
                </a:solidFill>
                <a:latin typeface="Arial"/>
              </a:rPr>
              <a:t>二、发新通知，通知管理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部门，就是接收通知对象，全部部门为全体人员，可以多选部门（部门设置为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m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分组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发送人可以根据需要更改，例如改“教导处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可以编辑字体。建议选用醒目的字体，颜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附件可以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文件，但是注意不要发送过大的文件（系统默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M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内）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例如：选择发布通知，就会出现以下的发布窗口，然后输入或粘贴发布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8351640" cy="5904000"/>
          </a:xfrm>
          <a:prstGeom prst="rect">
            <a:avLst/>
          </a:prstGeom>
          <a:ln w="0">
            <a:noFill/>
          </a:ln>
        </p:spPr>
      </p:pic>
      <p:grpSp>
        <p:nvGrpSpPr>
          <p:cNvPr id="77" name="Group 8"/>
          <p:cNvGrpSpPr/>
          <p:nvPr/>
        </p:nvGrpSpPr>
        <p:grpSpPr>
          <a:xfrm>
            <a:off x="3839400" y="2825280"/>
            <a:ext cx="2622240" cy="2024280"/>
            <a:chOff x="3839400" y="2825280"/>
            <a:chExt cx="2622240" cy="2024280"/>
          </a:xfrm>
        </p:grpSpPr>
        <p:sp>
          <p:nvSpPr>
            <p:cNvPr id="78" name="AutoShape 6"/>
            <p:cNvSpPr/>
            <p:nvPr/>
          </p:nvSpPr>
          <p:spPr>
            <a:xfrm rot="1292400">
              <a:off x="3998880" y="3189600"/>
              <a:ext cx="2232000" cy="1295280"/>
            </a:xfrm>
            <a:prstGeom prst="wedgeRoundRectCallout">
              <a:avLst>
                <a:gd name="adj1" fmla="val -105050"/>
                <a:gd name="adj2" fmla="val 13481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7"/>
            <p:cNvSpPr/>
            <p:nvPr/>
          </p:nvSpPr>
          <p:spPr>
            <a:xfrm rot="1292400">
              <a:off x="4416120" y="3401280"/>
              <a:ext cx="1944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内容如果太长的话，建议在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ORD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编辑好复制到这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8"/>
          <p:cNvSpPr/>
          <p:nvPr/>
        </p:nvSpPr>
        <p:spPr>
          <a:xfrm>
            <a:off x="571680" y="0"/>
            <a:ext cx="77864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cc00cc"/>
                </a:solidFill>
                <a:latin typeface="Arial"/>
              </a:rPr>
              <a:t>三、学校行事历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每周开始时把学校的本周的行事历详细添加进去，方便全校教师领导清楚自己的工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只有设置了权限的人员有权添加学校行事历，全校老师查看，星号提示当天工作数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428760" y="3143160"/>
            <a:ext cx="83772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7T12:44:45Z</dcterms:created>
  <dc:creator>zx</dc:creator>
  <dc:description/>
  <dc:language>en-US</dc:language>
  <cp:lastModifiedBy>Windows 用户</cp:lastModifiedBy>
  <dcterms:modified xsi:type="dcterms:W3CDTF">2014-09-09T03:32:10Z</dcterms:modified>
  <cp:revision>122</cp:revision>
  <dc:subject/>
  <dc:title>学校办公系统使用说明</dc:title>
</cp:coreProperties>
</file>