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799763" cy="15181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971964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000" y="8150760"/>
            <a:ext cx="971964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6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0000" y="815076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520600" y="815076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26440" y="355212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12520" y="355212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0000" y="815076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26440" y="815076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112520" y="815076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40000" y="3552120"/>
            <a:ext cx="971964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971964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474300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520600" y="3552120"/>
            <a:ext cx="474300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40000" y="605520"/>
            <a:ext cx="9719640" cy="117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20600" y="3552120"/>
            <a:ext cx="474300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40000" y="815076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474300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06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20600" y="815076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06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0000" y="8150760"/>
            <a:ext cx="971964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>
            <a:off x="23760" y="1109520"/>
            <a:ext cx="1080144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1" descr="封面头0604 拷贝"/>
          <p:cNvPicPr/>
          <p:nvPr/>
        </p:nvPicPr>
        <p:blipFill>
          <a:blip r:embed="rId3"/>
          <a:stretch/>
        </p:blipFill>
        <p:spPr>
          <a:xfrm>
            <a:off x="500040" y="115920"/>
            <a:ext cx="324000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4105440" y="1973160"/>
            <a:ext cx="5903640" cy="1216980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AutoShape 4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863640" y="1685880"/>
            <a:ext cx="7561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一、安装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200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200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库。注意一下三幅图的选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9" descr="1"/>
          <p:cNvPicPr/>
          <p:nvPr/>
        </p:nvPicPr>
        <p:blipFill>
          <a:blip r:embed="rId1"/>
          <a:stretch/>
        </p:blipFill>
        <p:spPr>
          <a:xfrm>
            <a:off x="1297080" y="2620800"/>
            <a:ext cx="6192720" cy="4745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0" descr="2"/>
          <p:cNvPicPr/>
          <p:nvPr/>
        </p:nvPicPr>
        <p:blipFill>
          <a:blip r:embed="rId2"/>
          <a:stretch/>
        </p:blipFill>
        <p:spPr>
          <a:xfrm>
            <a:off x="3672000" y="6365880"/>
            <a:ext cx="6119640" cy="429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3"/>
          <p:cNvPicPr/>
          <p:nvPr/>
        </p:nvPicPr>
        <p:blipFill>
          <a:blip r:embed="rId3"/>
          <a:stretch/>
        </p:blipFill>
        <p:spPr>
          <a:xfrm>
            <a:off x="1079640" y="9499680"/>
            <a:ext cx="5760720" cy="451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4"/>
          <p:cNvSpPr/>
          <p:nvPr/>
        </p:nvSpPr>
        <p:spPr>
          <a:xfrm>
            <a:off x="7201080" y="11982600"/>
            <a:ext cx="31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择第二项“混合模式”，在“输入密码”栏输入数据库管理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密码，要记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25"/>
          <p:cNvSpPr/>
          <p:nvPr/>
        </p:nvSpPr>
        <p:spPr>
          <a:xfrm rot="16200000">
            <a:off x="7558920" y="12113280"/>
            <a:ext cx="214200" cy="145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105440" y="1973160"/>
            <a:ext cx="5903640" cy="1216980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3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863640" y="1685880"/>
            <a:ext cx="7561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三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附加数据库上去。打开企业管理器，然后点击数据库右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" descr="未命名"/>
          <p:cNvPicPr/>
          <p:nvPr/>
        </p:nvPicPr>
        <p:blipFill>
          <a:blip r:embed="rId1"/>
          <a:stretch/>
        </p:blipFill>
        <p:spPr>
          <a:xfrm>
            <a:off x="1655640" y="2549520"/>
            <a:ext cx="7561440" cy="532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2232000" y="8669160"/>
            <a:ext cx="6769080" cy="444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105440" y="1973160"/>
            <a:ext cx="5903640" cy="1216980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63640" y="1685880"/>
            <a:ext cx="842472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四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个用户。在企业管理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登陆  右键  新建用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/>
          <p:cNvSpPr/>
          <p:nvPr/>
        </p:nvSpPr>
        <p:spPr>
          <a:xfrm rot="16200000">
            <a:off x="7558920" y="12113280"/>
            <a:ext cx="214200" cy="145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5" descr="2"/>
          <p:cNvPicPr/>
          <p:nvPr/>
        </p:nvPicPr>
        <p:blipFill>
          <a:blip r:embed="rId1"/>
          <a:stretch/>
        </p:blipFill>
        <p:spPr>
          <a:xfrm>
            <a:off x="1152360" y="2476440"/>
            <a:ext cx="4811760" cy="489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3"/>
          <p:cNvPicPr/>
          <p:nvPr/>
        </p:nvPicPr>
        <p:blipFill>
          <a:blip r:embed="rId2"/>
          <a:stretch/>
        </p:blipFill>
        <p:spPr>
          <a:xfrm>
            <a:off x="5184720" y="2476440"/>
            <a:ext cx="4678560" cy="504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4"/>
          <p:cNvPicPr/>
          <p:nvPr/>
        </p:nvPicPr>
        <p:blipFill>
          <a:blip r:embed="rId3"/>
          <a:stretch/>
        </p:blipFill>
        <p:spPr>
          <a:xfrm>
            <a:off x="1008000" y="8166240"/>
            <a:ext cx="5276880" cy="568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5"/>
          <p:cNvPicPr/>
          <p:nvPr/>
        </p:nvPicPr>
        <p:blipFill>
          <a:blip r:embed="rId4"/>
          <a:stretch/>
        </p:blipFill>
        <p:spPr>
          <a:xfrm>
            <a:off x="4753080" y="8166240"/>
            <a:ext cx="5278320" cy="568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936720" y="4205160"/>
            <a:ext cx="50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5256360" y="4060800"/>
            <a:ext cx="50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1224000" y="10685520"/>
            <a:ext cx="43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4896000" y="10615680"/>
            <a:ext cx="50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3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63640" y="1685880"/>
            <a:ext cx="7561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九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导入你学校的教师名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079640" y="485316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：打开这个页面，从里面下载并运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936720" y="6758280"/>
            <a:ext cx="388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教师名单已经做了一个版在学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目录下的  导入数据模板文件夹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要把姓名改为贵校的教师姓名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导入成功后，所有老师第一次登录要更改密码，并且不能再用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8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为其密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816360" y="13638240"/>
            <a:ext cx="662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113440" y="1443024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微软公司版权所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1079640" y="5357880"/>
            <a:ext cx="54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系统管理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密码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f88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3" descr="daorujiaoshi"/>
          <p:cNvPicPr/>
          <p:nvPr/>
        </p:nvPicPr>
        <p:blipFill>
          <a:blip r:embed="rId1"/>
          <a:stretch/>
        </p:blipFill>
        <p:spPr>
          <a:xfrm>
            <a:off x="5040360" y="5573880"/>
            <a:ext cx="4933800" cy="3981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4"/>
          <p:cNvSpPr/>
          <p:nvPr/>
        </p:nvSpPr>
        <p:spPr>
          <a:xfrm>
            <a:off x="936720" y="9909360"/>
            <a:ext cx="90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此为止。贵校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已经安装配置完毕了。再给老师做一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中使用演示讲解，您就可以正常启动学校ＯＡ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后慢慢去导入学生名单，更改一些具体配置，就形成了个性化的学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，希望您能满意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7" descr=""/>
          <p:cNvPicPr/>
          <p:nvPr/>
        </p:nvPicPr>
        <p:blipFill>
          <a:blip r:embed="rId2"/>
          <a:stretch/>
        </p:blipFill>
        <p:spPr>
          <a:xfrm>
            <a:off x="1224000" y="2476440"/>
            <a:ext cx="2600280" cy="156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/>
          <p:cNvPicPr/>
          <p:nvPr/>
        </p:nvPicPr>
        <p:blipFill>
          <a:blip r:embed="rId3"/>
          <a:stretch/>
        </p:blipFill>
        <p:spPr>
          <a:xfrm>
            <a:off x="4321080" y="2117880"/>
            <a:ext cx="5886720" cy="191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"/>
          <p:cNvPicPr/>
          <p:nvPr/>
        </p:nvPicPr>
        <p:blipFill>
          <a:blip r:embed="rId4"/>
          <a:stretch/>
        </p:blipFill>
        <p:spPr>
          <a:xfrm>
            <a:off x="5832360" y="4637160"/>
            <a:ext cx="704880" cy="82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8:05:17Z</dcterms:created>
  <dc:creator>zhang</dc:creator>
  <dc:description/>
  <dc:language>en-US</dc:language>
  <cp:lastModifiedBy>Windows 用户</cp:lastModifiedBy>
  <dcterms:modified xsi:type="dcterms:W3CDTF">2015-04-01T11:41:48Z</dcterms:modified>
  <cp:revision>2331</cp:revision>
  <dc:subject/>
  <dc:title>PowerPoint 演示文稿</dc:title>
</cp:coreProperties>
</file>