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8FC-95FA-4067-A395-88771B4E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BB8-D801-42EE-B046-C32D9E86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84F-16DE-4B5C-9072-C0509DE6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0B7-DB8F-4366-A0E8-BB19BEC2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B08D-7EA2-4FBD-AE71-A5D8E752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1E4-7A02-4989-AF71-7060BCC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315F-BAA7-4860-A2CE-2455C1AF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92D-57A3-41C8-BBAA-33F966B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881-0E5B-47E1-B69F-0AB3F28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162-CB89-41BB-A5B6-D61683C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A56-D832-4041-8DD9-DC41AF9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147-3F32-496B-BEC6-350D2FA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BFD4-748A-4AFC-8B7E-7554910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096-4B81-4327-A3FC-40D62CB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814-75C5-446C-83E2-C5D34D9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338A-CA79-476A-AF61-4D73759E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8B30-27B4-4FC6-8559-B6EA016C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C6E8-7654-4705-8DE2-8E997039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9341-4BCC-4757-B8FE-315E1D6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EE64-2C65-41F7-80FB-2503770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522E-086E-48B7-8DFB-C02EEA1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6AC5-DC15-4128-9F5E-EC24848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37D-5678-4466-9F8A-4DC9B95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3FDC-1AE6-4A46-AD67-911D102D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B41E-6B91-4C57-951F-A8D6D39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D62C-15AF-4A54-BABE-5886803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3714-30DC-417B-94BC-1B8A8F0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98C3-3906-46F4-84B7-06122A0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852A-EFC7-4E1C-9186-FDFF95AB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CAD1-ED75-4C10-B46A-6DA7C709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5341-690E-4D3B-98CB-D05E9AC1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8C8FD-D039-4325-AD22-4343E93D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AB79-5897-41C1-A360-659498D9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E60-FCB8-44FA-A701-F98C9A7D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11F6-9D0A-4241-B066-C300DAEE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3469-2F84-4847-A85F-5D3E909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2010-AB25-4466-9527-5582EEE9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6453-E927-4162-A823-FEA7CCD9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5F11-A2DC-4919-9791-410DFE2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9F75-656E-4F73-BBDA-6532530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3278-A795-4C4E-A29F-7867A9C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CD9F-79E5-489E-BCAF-20D6BB00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193B-6BDF-4E4F-8201-1A28CBBA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2F8-B93C-49E4-A0C0-4E2C9A1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7DB-96DB-4725-9B54-777F308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CEE-E549-4E64-8F0E-2630215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1D4-3FAC-467D-AFBB-A2A19FB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5F0-2C1F-4873-A599-85961D2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696-0251-4AD5-B639-10A9F268A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AF4C-7232-42DB-AFB4-9CADA60CF1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073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矩形 3074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组合 3075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矩形 3076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380880" y="1494000"/>
                <a:ext cx="8305920" cy="360"/>
                <a:chOff x="380880" y="1494000"/>
                <a:chExt cx="8305920" cy="360"/>
              </a:xfrm>
            </p:grpSpPr>
            <p:sp>
              <p:nvSpPr>
                <p:cNvPr id="87" name="直接连接符 3077"/>
                <p:cNvSpPr/>
                <p:nvPr/>
              </p:nvSpPr>
              <p:spPr>
                <a:xfrm>
                  <a:off x="380880" y="1494000"/>
                  <a:ext cx="8305920" cy="0"/>
                </a:xfrm>
                <a:prstGeom prst="line">
                  <a:avLst/>
                </a:prstGeom>
                <a:ln w="190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380880" y="1494000"/>
                  <a:ext cx="8305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8C6-9186-4F5D-A75A-4672E5E4736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B25-9441-40CE-ACFD-7B0CDE127B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4876920"/>
            <a:ext cx="609480" cy="360"/>
            <a:chOff x="0" y="4876920"/>
            <a:chExt cx="609480" cy="360"/>
          </a:xfrm>
        </p:grpSpPr>
        <p:sp>
          <p:nvSpPr>
            <p:cNvPr id="95" name="直接连接符 3083"/>
            <p:cNvSpPr/>
            <p:nvPr/>
          </p:nvSpPr>
          <p:spPr>
            <a:xfrm>
              <a:off x="0" y="4876920"/>
              <a:ext cx="609480" cy="0"/>
            </a:xfrm>
            <a:prstGeom prst="line">
              <a:avLst/>
            </a:prstGeom>
            <a:ln w="4428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0" y="48769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4097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4" name="矩形 4098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5" name="组合 4099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6" name="矩形 4100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矩形 4101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0" y="4876920"/>
                <a:ext cx="990720" cy="360"/>
                <a:chOff x="0" y="4876920"/>
                <a:chExt cx="990720" cy="360"/>
              </a:xfrm>
            </p:grpSpPr>
            <p:sp>
              <p:nvSpPr>
                <p:cNvPr id="139" name="直接连接符 4102"/>
                <p:cNvSpPr/>
                <p:nvPr/>
              </p:nvSpPr>
              <p:spPr>
                <a:xfrm>
                  <a:off x="0" y="4876920"/>
                  <a:ext cx="990720" cy="0"/>
                </a:xfrm>
                <a:prstGeom prst="line">
                  <a:avLst/>
                </a:prstGeom>
                <a:ln w="5076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0" y="487692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组合 4103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2" name="矩形 4104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635040" y="685440"/>
                <a:ext cx="8077320" cy="360"/>
                <a:chOff x="635040" y="685440"/>
                <a:chExt cx="8077320" cy="360"/>
              </a:xfrm>
            </p:grpSpPr>
            <p:sp>
              <p:nvSpPr>
                <p:cNvPr id="144" name="直接连接符 4105"/>
                <p:cNvSpPr/>
                <p:nvPr/>
              </p:nvSpPr>
              <p:spPr>
                <a:xfrm>
                  <a:off x="635040" y="685440"/>
                  <a:ext cx="8077320" cy="0"/>
                </a:xfrm>
                <a:prstGeom prst="line">
                  <a:avLst/>
                </a:prstGeom>
                <a:ln w="442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635040" y="685440"/>
                  <a:ext cx="8077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EEEE-54E9-48BF-A5C6-B3FFF542C13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E2F7-3234-43BD-AB23-53EF313A8D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西西软件园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8193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矩形 8194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54273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54274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文本框 54275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文本框 54276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3" name="矩形 7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矩形 60419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矩形 61443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矩形 62467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矩形 63491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dc:language>en-US</dc:language>
  <cp:lastModifiedBy>Administrator</cp:lastModifiedBy>
  <dcterms:modified xsi:type="dcterms:W3CDTF">2016-03-21T07:42:32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