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858B-8480-487B-93C2-B79B941D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AB41-8B7E-4408-B770-AE341297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915B-E041-4A2D-9D1B-6D9F4239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ADA9-89D3-4727-A893-130EE64B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CF36-E778-41CB-8226-4DEC2CC3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4DAB-CC73-45E0-9BCC-BCF5B059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AC62-8D6A-4697-A991-2D826F55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13B8-F3B3-45A2-8720-94D2D2D2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7066-AACD-4419-9B9C-3AD6BA4A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3F5CA-68E6-4209-B9BA-BE55B083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7E260-2B57-4D76-8E16-248F8BFA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66930-F981-4303-AF25-FFAA310B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06D7B-78AC-44CE-9BEA-BF6D74F6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873F-7B56-426B-87FE-7EF11007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0BC3-4630-41CF-A2B5-7DEBD4D4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AFAEE-50B7-461A-9456-ACF32AE6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C2B36-1CF2-4605-926C-C3043E4E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125AF-D5D8-4D6B-9B06-D6BEF063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B8563-2620-455F-A28F-DEC869BD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05839-B5B7-48CA-944D-CA4EFE8A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01E5-4FD4-4D2A-8118-7D7EC176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7C10F-4FEA-4708-848D-3A840BC9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0CD67-E804-46EC-9697-3AF4E7FA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A4B50-5162-46E6-AAF7-8005DE74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C9D05-A725-4262-B429-E9E38036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4FB58-B71D-4E22-A919-007756FD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EB61B-129D-4F2B-A6E7-1850EA19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3B4C1-A3A0-4798-8478-60F09D35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D8F57-7B12-4D11-A870-51339CA5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26BEC-9FD0-4ECA-BF0D-031E93EF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C8A93-DF4C-4FD6-A45D-C9C8DC1A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A1CD1-8D19-4842-988F-B877DACC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CA568-0D90-4BBA-AB65-AC84EAFF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0381A-56FE-49AB-A1A0-B5DDD844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34831-F18C-4CC8-97E5-1DC5638B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986CC-D79B-4B97-8BDC-0EE9B448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87318-FF89-492D-88FD-E0667669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526D6-DEBB-478B-948D-31C50F8C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8779E-0FBE-432E-9253-7C1B4706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097D7-C6F1-4C0A-AAE2-4B43E7A2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161D5-CCE9-46E4-815C-A308D632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3AE0D-8C23-4963-BF3B-90CF127B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98ABC-ABE8-4AA1-A533-ADEABA6C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6C7D3-4077-49EB-BD42-9BEB88DA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C00B8-FAE0-4069-A539-571335CD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8E21E-19B9-404E-9B96-641FFC80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E52A2-6FF1-494A-8B06-27AC4374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D3E42-23C4-4E96-921A-1CD44CE0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A5877-5B94-4039-8E93-7B348D38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FFF64-14F0-4C33-93C2-4CDCFEC1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8F62F-2094-4CF4-A55B-E04038D0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80B77-0DC4-41D3-ABAE-A317E343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CB69F-30AE-4D46-99DB-8BF8B2F4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EA67E-1D61-450B-9AE1-C54E889A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64AA6-F33C-4A53-A1C5-712B6EFD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A273D-FE51-4B42-ABC0-0E288D12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1A143-E85C-4856-902D-DD2FE341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145E2-4C55-4A62-BDA8-63E975EA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F85B4-E5F1-4C68-8B30-DDE390A5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20875-0703-4DB6-93C5-59979B4C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09600-EC7F-40A8-9B04-0DBF8AC5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87C8A-D8A9-41D5-9EC7-7AE664F8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8AC45-091B-478D-8320-1496560F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5CFBA-0288-4D32-A854-9A2925F7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8D680-AF67-4287-95F5-688D960B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60C2D-A8E3-493D-BED1-BD18DCDE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03876-AC7E-4B3E-9202-B2C9604C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53E49-413B-47A6-9331-BE574C36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402FD-2DC2-4C63-9389-993BCA84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65942-1B92-4BCB-ABB7-301B19FB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0DA38-273C-4BCE-BD74-D61B7AF5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64C32-A907-484F-9294-B418700B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DFD7F-5105-4283-99E7-D4199C18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680F4-A477-411F-953E-EBA24CE3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4DAA2-30D0-422C-80A4-B5F247FD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FDB5D-3379-4BB2-84AF-B9A56052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E9679-56F9-46AF-96AC-DF06BDC2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306FF-CD36-41CD-89EC-8159073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22D7B-3524-4698-B0BC-EA98AD1F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B2869-CE3A-446B-AEC3-57477FB6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756BA-B0CA-4F9B-BD0B-F621A193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4DE-9E23-4B49-B7E3-28965A06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DDA-EFFC-4457-9A42-AD567785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A1A-1C94-4B1D-8BF1-D9FE2223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4E8-3B40-42DA-ACDD-68146B02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E7E-ECD0-4B71-ABEA-0065D6F0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9273-854B-4FBE-AD0F-AA740CE2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A61-443E-4273-A43C-59E72F08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0FD-A9D4-41C0-AC1C-7D0059D3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1EA-B560-41FB-9844-AE9E2A06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D46-6145-4E42-8BC0-893BA70F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F83-B9F0-4F86-9D85-75DF91C7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343-9149-4536-9117-F1C52E32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9A6A-22C5-4D9B-8BD4-5C78E495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47BF-A7A0-4BCD-920D-F599B9C7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D822-EB7C-46A4-A219-B8746DC9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dt" idx="7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ftr" idx="8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9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D2E7672A-8F27-4C69-A166-D1B2A7FA630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dt" idx="10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11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12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9889CA32-3F76-4A63-AE26-2A8038867A7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13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14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5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BEB03E8F-B800-4951-B748-FED75FAA2C0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16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17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8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FC4996B3-DD1A-4DCD-899F-7BB78C521E4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dt" idx="19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20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948789E7-82D2-4C7D-A8C8-E96ABA80802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dt" idx="22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23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24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2B68E8B5-7741-41F8-988A-AB2819FB7D3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0" t="-3174" r="-38" b="73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0" t="-3174" r="-38" b="73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0" t="-3174" r="-38" b="73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0" t="-3174" r="-38" b="73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3935160" y="117360"/>
            <a:ext cx="1802160" cy="414000"/>
          </a:xfrm>
          <a:prstGeom prst="rect">
            <a:avLst/>
          </a:prstGeom>
          <a:solidFill>
            <a:srgbClr val="288f20"/>
          </a:solidFill>
          <a:ln w="9360">
            <a:solidFill>
              <a:srgbClr val="288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70572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936936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0" t="-3174" r="-38" b="73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3900960" y="117360"/>
            <a:ext cx="171684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6740280" y="117360"/>
            <a:ext cx="210996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9366120" y="117360"/>
            <a:ext cx="200016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0" t="-3174" r="-38" b="73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3907440" y="117360"/>
            <a:ext cx="143352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6712560" y="117360"/>
            <a:ext cx="157500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9401760" y="117360"/>
            <a:ext cx="164808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dt" idx="1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3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92DAC962-4BC7-4E37-9E8C-344426FF09E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dt" idx="4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5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6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BBE67CED-3D81-4534-A638-A0AE715C0E1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18"/>
          <p:cNvSpPr/>
          <p:nvPr/>
        </p:nvSpPr>
        <p:spPr>
          <a:xfrm>
            <a:off x="-27000" y="4680"/>
            <a:ext cx="12192120" cy="68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C:\Documents and Settings\Administrator\桌面\PPT配图\公司宣传PPT图片\240490-1306030Q53886.jpg"/>
          <p:cNvPicPr/>
          <p:nvPr/>
        </p:nvPicPr>
        <p:blipFill>
          <a:blip r:embed="rId2"/>
          <a:stretch/>
        </p:blipFill>
        <p:spPr>
          <a:xfrm>
            <a:off x="552600" y="765000"/>
            <a:ext cx="5184720" cy="5185080"/>
          </a:xfrm>
          <a:prstGeom prst="rect">
            <a:avLst/>
          </a:prstGeom>
          <a:ln w="0">
            <a:noFill/>
          </a:ln>
        </p:spPr>
      </p:pic>
      <p:sp>
        <p:nvSpPr>
          <p:cNvPr id="595" name="矩形 19"/>
          <p:cNvSpPr/>
          <p:nvPr/>
        </p:nvSpPr>
        <p:spPr>
          <a:xfrm>
            <a:off x="-122400" y="6149880"/>
            <a:ext cx="12598560" cy="70956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28"/>
          <p:cNvSpPr/>
          <p:nvPr/>
        </p:nvSpPr>
        <p:spPr>
          <a:xfrm>
            <a:off x="6382800" y="38624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通过</a:t>
            </a:r>
            <a:r>
              <a:rPr b="0" lang="en-US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29"/>
          <p:cNvSpPr/>
          <p:nvPr/>
        </p:nvSpPr>
        <p:spPr>
          <a:xfrm>
            <a:off x="7189920" y="4365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达到减少二氧化碳排放的目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30"/>
          <p:cNvSpPr/>
          <p:nvPr/>
        </p:nvSpPr>
        <p:spPr>
          <a:xfrm>
            <a:off x="9164520" y="4870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减缓全球气候变暖，改善人类的生活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10" descr="C:\Documents and Settings\Administrator\桌面\PPT配图\公司宣传PPT图片\235103-13051209221830.jpg"/>
          <p:cNvPicPr/>
          <p:nvPr/>
        </p:nvPicPr>
        <p:blipFill>
          <a:blip r:embed="rId3"/>
          <a:stretch/>
        </p:blipFill>
        <p:spPr>
          <a:xfrm>
            <a:off x="5665680" y="1630440"/>
            <a:ext cx="2808360" cy="2158920"/>
          </a:xfrm>
          <a:prstGeom prst="rect">
            <a:avLst/>
          </a:prstGeom>
          <a:ln w="0">
            <a:noFill/>
          </a:ln>
        </p:spPr>
      </p:pic>
      <p:sp>
        <p:nvSpPr>
          <p:cNvPr id="600" name="TextBox 20"/>
          <p:cNvSpPr/>
          <p:nvPr/>
        </p:nvSpPr>
        <p:spPr>
          <a:xfrm>
            <a:off x="7015680" y="1125360"/>
            <a:ext cx="31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我们为您提供</a:t>
            </a:r>
            <a:r>
              <a:rPr b="1" lang="en-US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</a:t>
            </a: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自多年的积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21"/>
          <p:cNvSpPr/>
          <p:nvPr/>
        </p:nvSpPr>
        <p:spPr>
          <a:xfrm>
            <a:off x="6535800" y="246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2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22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00"/>
                            </p:stCondLst>
                            <p:childTnLst>
                              <p:par>
                                <p:cTn id="3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00"/>
                            </p:stCondLst>
                            <p:childTnLst>
                              <p:par>
                                <p:cTn id="3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7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7"/>
          <p:cNvSpPr/>
          <p:nvPr/>
        </p:nvSpPr>
        <p:spPr>
          <a:xfrm>
            <a:off x="4541760" y="3944880"/>
            <a:ext cx="3168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www.xxxxx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"/>
          <p:cNvSpPr/>
          <p:nvPr/>
        </p:nvSpPr>
        <p:spPr>
          <a:xfrm>
            <a:off x="3952080" y="2965320"/>
            <a:ext cx="55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xxxxxxx</a:t>
            </a:r>
            <a:r>
              <a:rPr b="1" lang="zh-CN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，    我们更专业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75"/>
          <p:cNvSpPr/>
          <p:nvPr/>
        </p:nvSpPr>
        <p:spPr>
          <a:xfrm>
            <a:off x="-136440" y="0"/>
            <a:ext cx="13030200" cy="6859440"/>
          </a:xfrm>
          <a:prstGeom prst="rect">
            <a:avLst/>
          </a:prstGeom>
          <a:solidFill>
            <a:srgbClr val="f2f2f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19"/>
          <p:cNvSpPr/>
          <p:nvPr/>
        </p:nvSpPr>
        <p:spPr>
          <a:xfrm rot="10800000">
            <a:off x="-308160" y="-23760"/>
            <a:ext cx="12598200" cy="8618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23"/>
          <p:cNvSpPr/>
          <p:nvPr/>
        </p:nvSpPr>
        <p:spPr>
          <a:xfrm>
            <a:off x="0" y="1486080"/>
            <a:ext cx="501984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07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10" name="椭圆 34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13" name="椭圆 37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16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19" name="椭圆 32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22" name="椭圆 35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25" name="椭圆 33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28" name="椭圆 36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TextBox 46"/>
          <p:cNvSpPr/>
          <p:nvPr/>
        </p:nvSpPr>
        <p:spPr>
          <a:xfrm>
            <a:off x="1206720" y="90972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sh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直接连接符 2"/>
          <p:cNvSpPr/>
          <p:nvPr/>
        </p:nvSpPr>
        <p:spPr>
          <a:xfrm>
            <a:off x="0" y="1846440"/>
            <a:ext cx="472932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3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38" name="椭圆 5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41" name="椭圆 6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4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47" name="椭圆 8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50" name="椭圆 9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53" name="椭圆 10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56" name="椭圆 11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TextBox 12"/>
          <p:cNvSpPr/>
          <p:nvPr/>
        </p:nvSpPr>
        <p:spPr>
          <a:xfrm>
            <a:off x="1650960" y="11984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节能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实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3"/>
          <p:cNvSpPr/>
          <p:nvPr/>
        </p:nvSpPr>
        <p:spPr>
          <a:xfrm>
            <a:off x="138060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19"/>
          <p:cNvSpPr/>
          <p:nvPr/>
        </p:nvSpPr>
        <p:spPr>
          <a:xfrm rot="10800000">
            <a:off x="-360" y="0"/>
            <a:ext cx="12434760" cy="1054080"/>
          </a:xfrm>
          <a:custGeom>
            <a:avLst/>
            <a:gdLst/>
            <a:ahLst/>
            <a:rect l="l" t="t" r="r" b="b"/>
            <a:pathLst>
              <a:path w="122967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431410" y="-16801"/>
                  <a:pt x="12285863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L -0.12995 -0.00023 C -0.18815 -0.00023 -0.25977 -0.14775 -0.25977 -0.26775 L -0.25977 -0.53457 E">
                                      <p:cBhvr>
                                        <p:cTn id="132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7"/>
          <p:cNvSpPr/>
          <p:nvPr/>
        </p:nvSpPr>
        <p:spPr>
          <a:xfrm>
            <a:off x="888840" y="2916360"/>
            <a:ext cx="5208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公司商业，已删除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7"/>
          <p:cNvSpPr/>
          <p:nvPr/>
        </p:nvSpPr>
        <p:spPr>
          <a:xfrm>
            <a:off x="6145200" y="2916360"/>
            <a:ext cx="5208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删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7081920" y="4678200"/>
            <a:ext cx="2303280" cy="337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精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9"/>
          <p:cNvSpPr/>
          <p:nvPr/>
        </p:nvSpPr>
        <p:spPr>
          <a:xfrm>
            <a:off x="15249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657680" y="1125360"/>
            <a:ext cx="7207200" cy="936720"/>
            <a:chOff x="4657680" y="1125360"/>
            <a:chExt cx="7207200" cy="936720"/>
          </a:xfrm>
        </p:grpSpPr>
        <p:grpSp>
          <p:nvGrpSpPr>
            <p:cNvPr id="669" name=""/>
            <p:cNvGrpSpPr/>
            <p:nvPr/>
          </p:nvGrpSpPr>
          <p:grpSpPr>
            <a:xfrm>
              <a:off x="4657680" y="1125360"/>
              <a:ext cx="2340000" cy="936720"/>
              <a:chOff x="4657680" y="1125360"/>
              <a:chExt cx="2340000" cy="936720"/>
            </a:xfrm>
          </p:grpSpPr>
          <p:pic>
            <p:nvPicPr>
              <p:cNvPr id="670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76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1" name="TextBox 10"/>
              <p:cNvSpPr/>
              <p:nvPr/>
            </p:nvSpPr>
            <p:spPr>
              <a:xfrm>
                <a:off x="5244840" y="1125360"/>
                <a:ext cx="1003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言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行一致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091280" y="1125360"/>
              <a:ext cx="2340000" cy="936720"/>
              <a:chOff x="7091280" y="1125360"/>
              <a:chExt cx="2340000" cy="936720"/>
            </a:xfrm>
          </p:grpSpPr>
          <p:pic>
            <p:nvPicPr>
              <p:cNvPr id="673" name="矩形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912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TextBox 15"/>
              <p:cNvSpPr/>
              <p:nvPr/>
            </p:nvSpPr>
            <p:spPr>
              <a:xfrm>
                <a:off x="749664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厚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德载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9524880" y="1125360"/>
              <a:ext cx="2340000" cy="936720"/>
              <a:chOff x="9524880" y="1125360"/>
              <a:chExt cx="2340000" cy="936720"/>
            </a:xfrm>
          </p:grpSpPr>
          <p:pic>
            <p:nvPicPr>
              <p:cNvPr id="676" name="矩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5248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TextBox 18"/>
              <p:cNvSpPr/>
              <p:nvPr/>
            </p:nvSpPr>
            <p:spPr>
              <a:xfrm>
                <a:off x="993132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自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强不息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78" name="Picture 2" descr="F:\03图片下载\Z自然风景\1253332070679.jpg"/>
          <p:cNvPicPr/>
          <p:nvPr/>
        </p:nvPicPr>
        <p:blipFill>
          <a:blip r:embed="rId5"/>
          <a:srcRect l="0" t="0" r="0" b="-302"/>
          <a:stretch/>
        </p:blipFill>
        <p:spPr>
          <a:xfrm>
            <a:off x="0" y="1106640"/>
            <a:ext cx="1631628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155" dur="5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1991E-006 -1.48148E-006 L -1.55386 -1.48148E-006 E">
                                      <p:cBhvr>
                                        <p:cTn id="172" dur="193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2045160" y="544680"/>
            <a:ext cx="7163640" cy="7956360"/>
            <a:chOff x="2045160" y="544680"/>
            <a:chExt cx="7163640" cy="7956360"/>
          </a:xfrm>
        </p:grpSpPr>
        <p:pic>
          <p:nvPicPr>
            <p:cNvPr id="680" name="Freeform 11" descr=""/>
            <p:cNvPicPr/>
            <p:nvPr/>
          </p:nvPicPr>
          <p:blipFill>
            <a:blip r:embed="rId2"/>
            <a:stretch/>
          </p:blipFill>
          <p:spPr>
            <a:xfrm>
              <a:off x="2174760" y="544680"/>
              <a:ext cx="7034040" cy="79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2045160" y="3260880"/>
              <a:ext cx="6675480" cy="2715840"/>
              <a:chOff x="2045160" y="3260880"/>
              <a:chExt cx="6675480" cy="271584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2045160" y="3260880"/>
                <a:ext cx="6316920" cy="2111040"/>
                <a:chOff x="2045160" y="3260880"/>
                <a:chExt cx="6316920" cy="2111040"/>
              </a:xfrm>
            </p:grpSpPr>
            <p:sp>
              <p:nvSpPr>
                <p:cNvPr id="683" name="直接连接符 143"/>
                <p:cNvSpPr/>
                <p:nvPr/>
              </p:nvSpPr>
              <p:spPr>
                <a:xfrm flipV="1">
                  <a:off x="2045160" y="4525200"/>
                  <a:ext cx="2220480" cy="846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直接连接符 150"/>
                <p:cNvSpPr/>
                <p:nvPr/>
              </p:nvSpPr>
              <p:spPr>
                <a:xfrm>
                  <a:off x="4506480" y="4339800"/>
                  <a:ext cx="813240" cy="30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5" name="直接连接符 151"/>
                <p:cNvSpPr/>
                <p:nvPr/>
              </p:nvSpPr>
              <p:spPr>
                <a:xfrm flipV="1">
                  <a:off x="5536080" y="3797640"/>
                  <a:ext cx="1053360" cy="4017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直接连接符 152"/>
                <p:cNvSpPr/>
                <p:nvPr/>
              </p:nvSpPr>
              <p:spPr>
                <a:xfrm>
                  <a:off x="6923520" y="3650760"/>
                  <a:ext cx="487080" cy="349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7" name="直接连接符 153"/>
                <p:cNvSpPr/>
                <p:nvPr/>
              </p:nvSpPr>
              <p:spPr>
                <a:xfrm flipV="1">
                  <a:off x="7688520" y="3260880"/>
                  <a:ext cx="673560" cy="270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2310840" y="3537360"/>
                <a:ext cx="6409800" cy="2439360"/>
                <a:chOff x="2310840" y="3537360"/>
                <a:chExt cx="6409800" cy="2439360"/>
              </a:xfrm>
            </p:grpSpPr>
            <p:sp>
              <p:nvSpPr>
                <p:cNvPr id="689" name="直接连接符 138"/>
                <p:cNvSpPr/>
                <p:nvPr/>
              </p:nvSpPr>
              <p:spPr>
                <a:xfrm flipV="1">
                  <a:off x="2310840" y="5047560"/>
                  <a:ext cx="2314440" cy="9291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直接连接符 139"/>
                <p:cNvSpPr/>
                <p:nvPr/>
              </p:nvSpPr>
              <p:spPr>
                <a:xfrm flipV="1">
                  <a:off x="4721760" y="4836600"/>
                  <a:ext cx="812160" cy="12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1" name="直接连接符 140"/>
                <p:cNvSpPr/>
                <p:nvPr/>
              </p:nvSpPr>
              <p:spPr>
                <a:xfrm flipV="1">
                  <a:off x="5754240" y="4204080"/>
                  <a:ext cx="1150200" cy="485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2" name="直接连接符 141"/>
                <p:cNvSpPr/>
                <p:nvPr/>
              </p:nvSpPr>
              <p:spPr>
                <a:xfrm>
                  <a:off x="7072920" y="4049640"/>
                  <a:ext cx="584640" cy="219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3" name="直接连接符 142"/>
                <p:cNvSpPr/>
                <p:nvPr/>
              </p:nvSpPr>
              <p:spPr>
                <a:xfrm flipV="1">
                  <a:off x="7806960" y="3537360"/>
                  <a:ext cx="913680" cy="423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4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941480" y="2862360"/>
            <a:ext cx="1090800" cy="2249280"/>
            <a:chOff x="1941480" y="2862360"/>
            <a:chExt cx="1090800" cy="2249280"/>
          </a:xfrm>
        </p:grpSpPr>
        <p:sp>
          <p:nvSpPr>
            <p:cNvPr id="696" name="直接连接符 83"/>
            <p:cNvSpPr/>
            <p:nvPr/>
          </p:nvSpPr>
          <p:spPr>
            <a:xfrm flipV="1">
              <a:off x="2600280" y="4025880"/>
              <a:ext cx="0" cy="108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7"/>
            <p:cNvSpPr/>
            <p:nvPr/>
          </p:nvSpPr>
          <p:spPr>
            <a:xfrm>
              <a:off x="1941480" y="2862360"/>
              <a:ext cx="109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531880" y="3941280"/>
              <a:ext cx="144360" cy="144360"/>
              <a:chOff x="2531880" y="3941280"/>
              <a:chExt cx="144360" cy="144360"/>
            </a:xfrm>
          </p:grpSpPr>
          <p:sp>
            <p:nvSpPr>
              <p:cNvPr id="699" name="椭圆 86"/>
              <p:cNvSpPr/>
              <p:nvPr/>
            </p:nvSpPr>
            <p:spPr>
              <a:xfrm>
                <a:off x="2531880" y="3941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椭圆 87"/>
              <p:cNvSpPr/>
              <p:nvPr/>
            </p:nvSpPr>
            <p:spPr>
              <a:xfrm>
                <a:off x="2557080" y="39664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1" name="直接连接符 22"/>
          <p:cNvSpPr/>
          <p:nvPr/>
        </p:nvSpPr>
        <p:spPr>
          <a:xfrm flipV="1">
            <a:off x="4889520" y="4512960"/>
            <a:ext cx="785880" cy="21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859120" y="2133720"/>
            <a:ext cx="896760" cy="2985480"/>
            <a:chOff x="2859120" y="2133720"/>
            <a:chExt cx="896760" cy="2985480"/>
          </a:xfrm>
        </p:grpSpPr>
        <p:sp>
          <p:nvSpPr>
            <p:cNvPr id="703" name="直接连接符 98"/>
            <p:cNvSpPr/>
            <p:nvPr/>
          </p:nvSpPr>
          <p:spPr>
            <a:xfrm flipV="1">
              <a:off x="3246480" y="340164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TextBox 18"/>
            <p:cNvSpPr/>
            <p:nvPr/>
          </p:nvSpPr>
          <p:spPr>
            <a:xfrm>
              <a:off x="2859120" y="2133720"/>
              <a:ext cx="896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3174840" y="3299040"/>
              <a:ext cx="144360" cy="144360"/>
              <a:chOff x="3174840" y="3299040"/>
              <a:chExt cx="144360" cy="144360"/>
            </a:xfrm>
          </p:grpSpPr>
          <p:sp>
            <p:nvSpPr>
              <p:cNvPr id="706" name="椭圆 101"/>
              <p:cNvSpPr/>
              <p:nvPr/>
            </p:nvSpPr>
            <p:spPr>
              <a:xfrm>
                <a:off x="3174840" y="329904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椭圆 102"/>
              <p:cNvSpPr/>
              <p:nvPr/>
            </p:nvSpPr>
            <p:spPr>
              <a:xfrm>
                <a:off x="3200040" y="332424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3930480" y="2060640"/>
            <a:ext cx="833760" cy="2771280"/>
            <a:chOff x="3930480" y="2060640"/>
            <a:chExt cx="833760" cy="2771280"/>
          </a:xfrm>
        </p:grpSpPr>
        <p:sp>
          <p:nvSpPr>
            <p:cNvPr id="709" name="直接连接符 104"/>
            <p:cNvSpPr/>
            <p:nvPr/>
          </p:nvSpPr>
          <p:spPr>
            <a:xfrm flipV="1">
              <a:off x="4322880" y="3115800"/>
              <a:ext cx="0" cy="171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TextBox 25"/>
            <p:cNvSpPr/>
            <p:nvPr/>
          </p:nvSpPr>
          <p:spPr>
            <a:xfrm>
              <a:off x="3930480" y="206064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4246200" y="3012480"/>
              <a:ext cx="144360" cy="144360"/>
              <a:chOff x="4246200" y="3012480"/>
              <a:chExt cx="144360" cy="144360"/>
            </a:xfrm>
          </p:grpSpPr>
          <p:sp>
            <p:nvSpPr>
              <p:cNvPr id="712" name="椭圆 107"/>
              <p:cNvSpPr/>
              <p:nvPr/>
            </p:nvSpPr>
            <p:spPr>
              <a:xfrm>
                <a:off x="4246200" y="30124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椭圆 108"/>
              <p:cNvSpPr/>
              <p:nvPr/>
            </p:nvSpPr>
            <p:spPr>
              <a:xfrm>
                <a:off x="4271400" y="30376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4748040" y="1773360"/>
            <a:ext cx="947880" cy="2837880"/>
            <a:chOff x="4748040" y="1773360"/>
            <a:chExt cx="947880" cy="2837880"/>
          </a:xfrm>
        </p:grpSpPr>
        <p:sp>
          <p:nvSpPr>
            <p:cNvPr id="715" name="直接连接符 110"/>
            <p:cNvSpPr/>
            <p:nvPr/>
          </p:nvSpPr>
          <p:spPr>
            <a:xfrm flipV="1">
              <a:off x="5175000" y="289368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TextBox 27"/>
            <p:cNvSpPr/>
            <p:nvPr/>
          </p:nvSpPr>
          <p:spPr>
            <a:xfrm>
              <a:off x="4748040" y="1773360"/>
              <a:ext cx="94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5103000" y="2816280"/>
              <a:ext cx="144360" cy="144360"/>
              <a:chOff x="5103000" y="2816280"/>
              <a:chExt cx="144360" cy="144360"/>
            </a:xfrm>
          </p:grpSpPr>
          <p:sp>
            <p:nvSpPr>
              <p:cNvPr id="718" name="椭圆 113"/>
              <p:cNvSpPr/>
              <p:nvPr/>
            </p:nvSpPr>
            <p:spPr>
              <a:xfrm>
                <a:off x="5103000" y="2816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椭圆 114"/>
              <p:cNvSpPr/>
              <p:nvPr/>
            </p:nvSpPr>
            <p:spPr>
              <a:xfrm>
                <a:off x="5137200" y="2841480"/>
                <a:ext cx="7596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5952960" y="1773360"/>
            <a:ext cx="1130400" cy="2412360"/>
            <a:chOff x="5952960" y="1773360"/>
            <a:chExt cx="1130400" cy="2412360"/>
          </a:xfrm>
        </p:grpSpPr>
        <p:sp>
          <p:nvSpPr>
            <p:cNvPr id="721" name="直接连接符 116"/>
            <p:cNvSpPr/>
            <p:nvPr/>
          </p:nvSpPr>
          <p:spPr>
            <a:xfrm flipH="1" flipV="1">
              <a:off x="6529320" y="2538000"/>
              <a:ext cx="17280" cy="164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TextBox 29"/>
            <p:cNvSpPr/>
            <p:nvPr/>
          </p:nvSpPr>
          <p:spPr>
            <a:xfrm>
              <a:off x="5952960" y="1773360"/>
              <a:ext cx="113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6456960" y="2421360"/>
              <a:ext cx="144360" cy="142920"/>
              <a:chOff x="6456960" y="2421360"/>
              <a:chExt cx="144360" cy="142920"/>
            </a:xfrm>
          </p:grpSpPr>
          <p:sp>
            <p:nvSpPr>
              <p:cNvPr id="724" name="椭圆 119"/>
              <p:cNvSpPr/>
              <p:nvPr/>
            </p:nvSpPr>
            <p:spPr>
              <a:xfrm>
                <a:off x="6456960" y="2421360"/>
                <a:ext cx="144360" cy="14292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椭圆 120"/>
              <p:cNvSpPr/>
              <p:nvPr/>
            </p:nvSpPr>
            <p:spPr>
              <a:xfrm>
                <a:off x="6482160" y="2446560"/>
                <a:ext cx="93600" cy="9216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6" name=""/>
          <p:cNvGrpSpPr/>
          <p:nvPr/>
        </p:nvGrpSpPr>
        <p:grpSpPr>
          <a:xfrm>
            <a:off x="9360000" y="1268280"/>
            <a:ext cx="996840" cy="1958760"/>
            <a:chOff x="9360000" y="1268280"/>
            <a:chExt cx="996840" cy="1958760"/>
          </a:xfrm>
        </p:grpSpPr>
        <p:sp>
          <p:nvSpPr>
            <p:cNvPr id="727" name="直接连接符 122"/>
            <p:cNvSpPr/>
            <p:nvPr/>
          </p:nvSpPr>
          <p:spPr>
            <a:xfrm flipV="1">
              <a:off x="9785520" y="2387160"/>
              <a:ext cx="0" cy="839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TextBox 69"/>
            <p:cNvSpPr/>
            <p:nvPr/>
          </p:nvSpPr>
          <p:spPr>
            <a:xfrm>
              <a:off x="9360000" y="1268280"/>
              <a:ext cx="99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9713880" y="2243160"/>
              <a:ext cx="144360" cy="144360"/>
              <a:chOff x="9713880" y="2243160"/>
              <a:chExt cx="144360" cy="144360"/>
            </a:xfrm>
          </p:grpSpPr>
          <p:sp>
            <p:nvSpPr>
              <p:cNvPr id="730" name="椭圆 125"/>
              <p:cNvSpPr/>
              <p:nvPr/>
            </p:nvSpPr>
            <p:spPr>
              <a:xfrm>
                <a:off x="9713880" y="224316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椭圆 126"/>
              <p:cNvSpPr/>
              <p:nvPr/>
            </p:nvSpPr>
            <p:spPr>
              <a:xfrm>
                <a:off x="9739080" y="226836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1247760" y="3632040"/>
            <a:ext cx="1090800" cy="1807920"/>
            <a:chOff x="1247760" y="3632040"/>
            <a:chExt cx="1090800" cy="1807920"/>
          </a:xfrm>
        </p:grpSpPr>
        <p:sp>
          <p:nvSpPr>
            <p:cNvPr id="733" name="直接连接符 130"/>
            <p:cNvSpPr/>
            <p:nvPr/>
          </p:nvSpPr>
          <p:spPr>
            <a:xfrm flipV="1">
              <a:off x="1541520" y="4353840"/>
              <a:ext cx="0" cy="108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TextBox 17"/>
            <p:cNvSpPr/>
            <p:nvPr/>
          </p:nvSpPr>
          <p:spPr>
            <a:xfrm>
              <a:off x="1247760" y="36320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成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1472760" y="4269600"/>
              <a:ext cx="144360" cy="144360"/>
              <a:chOff x="1472760" y="4269600"/>
              <a:chExt cx="144360" cy="144360"/>
            </a:xfrm>
          </p:grpSpPr>
          <p:sp>
            <p:nvSpPr>
              <p:cNvPr id="736" name="椭圆 133"/>
              <p:cNvSpPr/>
              <p:nvPr/>
            </p:nvSpPr>
            <p:spPr>
              <a:xfrm>
                <a:off x="1472760" y="426960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椭圆 134"/>
              <p:cNvSpPr/>
              <p:nvPr/>
            </p:nvSpPr>
            <p:spPr>
              <a:xfrm>
                <a:off x="1497960" y="429480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7031160" y="1297080"/>
            <a:ext cx="1023840" cy="2650680"/>
            <a:chOff x="7031160" y="1297080"/>
            <a:chExt cx="1023840" cy="2650680"/>
          </a:xfrm>
        </p:grpSpPr>
        <p:sp>
          <p:nvSpPr>
            <p:cNvPr id="739" name="直接连接符 145"/>
            <p:cNvSpPr/>
            <p:nvPr/>
          </p:nvSpPr>
          <p:spPr>
            <a:xfrm flipV="1">
              <a:off x="7461360" y="2563560"/>
              <a:ext cx="0" cy="138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TextBox 32"/>
            <p:cNvSpPr/>
            <p:nvPr/>
          </p:nvSpPr>
          <p:spPr>
            <a:xfrm>
              <a:off x="7031160" y="1297080"/>
              <a:ext cx="102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7383960" y="2459880"/>
              <a:ext cx="144360" cy="144360"/>
              <a:chOff x="7383960" y="2459880"/>
              <a:chExt cx="144360" cy="144360"/>
            </a:xfrm>
          </p:grpSpPr>
          <p:sp>
            <p:nvSpPr>
              <p:cNvPr id="742" name="椭圆 148"/>
              <p:cNvSpPr/>
              <p:nvPr/>
            </p:nvSpPr>
            <p:spPr>
              <a:xfrm>
                <a:off x="7383960" y="24598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椭圆 149"/>
              <p:cNvSpPr/>
              <p:nvPr/>
            </p:nvSpPr>
            <p:spPr>
              <a:xfrm>
                <a:off x="7409160" y="24850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44" name="TextBox 154"/>
          <p:cNvSpPr/>
          <p:nvPr/>
        </p:nvSpPr>
        <p:spPr>
          <a:xfrm>
            <a:off x="1247760" y="5576760"/>
            <a:ext cx="8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55"/>
          <p:cNvSpPr/>
          <p:nvPr/>
        </p:nvSpPr>
        <p:spPr>
          <a:xfrm>
            <a:off x="2243160" y="52401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56"/>
          <p:cNvSpPr/>
          <p:nvPr/>
        </p:nvSpPr>
        <p:spPr>
          <a:xfrm>
            <a:off x="4368960" y="44388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8112240" y="1531800"/>
            <a:ext cx="1158840" cy="2136960"/>
            <a:chOff x="8112240" y="1531800"/>
            <a:chExt cx="1158840" cy="2136960"/>
          </a:xfrm>
        </p:grpSpPr>
        <p:sp>
          <p:nvSpPr>
            <p:cNvPr id="748" name="直接连接符 158"/>
            <p:cNvSpPr/>
            <p:nvPr/>
          </p:nvSpPr>
          <p:spPr>
            <a:xfrm flipV="1">
              <a:off x="8767800" y="2492280"/>
              <a:ext cx="0" cy="1176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TextBox 34"/>
            <p:cNvSpPr/>
            <p:nvPr/>
          </p:nvSpPr>
          <p:spPr>
            <a:xfrm>
              <a:off x="8112240" y="153180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国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8695800" y="2326320"/>
              <a:ext cx="144360" cy="144360"/>
              <a:chOff x="8695800" y="2326320"/>
              <a:chExt cx="144360" cy="144360"/>
            </a:xfrm>
          </p:grpSpPr>
          <p:sp>
            <p:nvSpPr>
              <p:cNvPr id="751" name="椭圆 161"/>
              <p:cNvSpPr/>
              <p:nvPr/>
            </p:nvSpPr>
            <p:spPr>
              <a:xfrm>
                <a:off x="8695800" y="232632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椭圆 162"/>
              <p:cNvSpPr/>
              <p:nvPr/>
            </p:nvSpPr>
            <p:spPr>
              <a:xfrm>
                <a:off x="8721000" y="235152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3" name="TextBox 163"/>
          <p:cNvSpPr/>
          <p:nvPr/>
        </p:nvSpPr>
        <p:spPr>
          <a:xfrm>
            <a:off x="6602400" y="37893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66"/>
          <p:cNvSpPr/>
          <p:nvPr/>
        </p:nvSpPr>
        <p:spPr>
          <a:xfrm>
            <a:off x="3391560" y="371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67"/>
          <p:cNvSpPr/>
          <p:nvPr/>
        </p:nvSpPr>
        <p:spPr>
          <a:xfrm>
            <a:off x="670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68"/>
          <p:cNvSpPr/>
          <p:nvPr/>
        </p:nvSpPr>
        <p:spPr>
          <a:xfrm>
            <a:off x="1519200" y="14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69"/>
          <p:cNvSpPr/>
          <p:nvPr/>
        </p:nvSpPr>
        <p:spPr>
          <a:xfrm>
            <a:off x="2959920" y="127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70"/>
          <p:cNvSpPr/>
          <p:nvPr/>
        </p:nvSpPr>
        <p:spPr>
          <a:xfrm>
            <a:off x="1159560" y="242100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71"/>
          <p:cNvSpPr/>
          <p:nvPr/>
        </p:nvSpPr>
        <p:spPr>
          <a:xfrm>
            <a:off x="5058720" y="10238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72"/>
          <p:cNvSpPr/>
          <p:nvPr/>
        </p:nvSpPr>
        <p:spPr>
          <a:xfrm>
            <a:off x="5407920" y="28544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73"/>
          <p:cNvSpPr/>
          <p:nvPr/>
        </p:nvSpPr>
        <p:spPr>
          <a:xfrm>
            <a:off x="7712280" y="4005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74"/>
          <p:cNvSpPr/>
          <p:nvPr/>
        </p:nvSpPr>
        <p:spPr>
          <a:xfrm>
            <a:off x="7856640" y="2709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75"/>
          <p:cNvSpPr/>
          <p:nvPr/>
        </p:nvSpPr>
        <p:spPr>
          <a:xfrm>
            <a:off x="5983920" y="1557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76"/>
          <p:cNvSpPr/>
          <p:nvPr/>
        </p:nvSpPr>
        <p:spPr>
          <a:xfrm>
            <a:off x="8864640" y="2781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77"/>
          <p:cNvSpPr/>
          <p:nvPr/>
        </p:nvSpPr>
        <p:spPr>
          <a:xfrm>
            <a:off x="4399920" y="32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78"/>
          <p:cNvSpPr/>
          <p:nvPr/>
        </p:nvSpPr>
        <p:spPr>
          <a:xfrm>
            <a:off x="814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79"/>
          <p:cNvSpPr/>
          <p:nvPr/>
        </p:nvSpPr>
        <p:spPr>
          <a:xfrm>
            <a:off x="1735200" y="451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80"/>
          <p:cNvSpPr/>
          <p:nvPr/>
        </p:nvSpPr>
        <p:spPr>
          <a:xfrm>
            <a:off x="5552280" y="472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81"/>
          <p:cNvSpPr/>
          <p:nvPr/>
        </p:nvSpPr>
        <p:spPr>
          <a:xfrm>
            <a:off x="6560280" y="3141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88"/>
          <p:cNvSpPr/>
          <p:nvPr/>
        </p:nvSpPr>
        <p:spPr>
          <a:xfrm>
            <a:off x="5335560" y="3573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组合 132" descr=""/>
          <p:cNvPicPr/>
          <p:nvPr/>
        </p:nvPicPr>
        <p:blipFill>
          <a:blip r:embed="rId3"/>
          <a:stretch/>
        </p:blipFill>
        <p:spPr>
          <a:xfrm>
            <a:off x="2425680" y="1768320"/>
            <a:ext cx="324000" cy="322560"/>
          </a:xfrm>
          <a:prstGeom prst="rect">
            <a:avLst/>
          </a:prstGeom>
          <a:ln w="0">
            <a:noFill/>
          </a:ln>
        </p:spPr>
      </p:pic>
      <p:sp>
        <p:nvSpPr>
          <p:cNvPr id="772" name="椭圆 204"/>
          <p:cNvSpPr/>
          <p:nvPr/>
        </p:nvSpPr>
        <p:spPr>
          <a:xfrm>
            <a:off x="1450800" y="541008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344600" y="5302080"/>
            <a:ext cx="324000" cy="325440"/>
            <a:chOff x="1344600" y="5302080"/>
            <a:chExt cx="324000" cy="325440"/>
          </a:xfrm>
        </p:grpSpPr>
        <p:sp>
          <p:nvSpPr>
            <p:cNvPr id="774" name="同心圆 206"/>
            <p:cNvSpPr/>
            <p:nvPr/>
          </p:nvSpPr>
          <p:spPr>
            <a:xfrm>
              <a:off x="1344600" y="530208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同心圆 207"/>
            <p:cNvSpPr/>
            <p:nvPr/>
          </p:nvSpPr>
          <p:spPr>
            <a:xfrm>
              <a:off x="1398600" y="535608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椭圆 208"/>
            <p:cNvSpPr/>
            <p:nvPr/>
          </p:nvSpPr>
          <p:spPr>
            <a:xfrm>
              <a:off x="1452600" y="541008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7" name="Picture 2" descr="坐在飞机上的人图片"/>
          <p:cNvPicPr/>
          <p:nvPr/>
        </p:nvPicPr>
        <p:blipFill>
          <a:blip r:embed="rId4"/>
          <a:srcRect l="0" t="0" r="-67" b="-153"/>
          <a:stretch/>
        </p:blipFill>
        <p:spPr>
          <a:xfrm rot="702000">
            <a:off x="10561680" y="2061720"/>
            <a:ext cx="1336680" cy="892080"/>
          </a:xfrm>
          <a:prstGeom prst="rect">
            <a:avLst/>
          </a:prstGeom>
          <a:ln w="0">
            <a:noFill/>
          </a:ln>
        </p:spPr>
      </p:pic>
      <p:grpSp>
        <p:nvGrpSpPr>
          <p:cNvPr id="778" name=""/>
          <p:cNvGrpSpPr/>
          <p:nvPr/>
        </p:nvGrpSpPr>
        <p:grpSpPr>
          <a:xfrm>
            <a:off x="2425680" y="4941720"/>
            <a:ext cx="324000" cy="325440"/>
            <a:chOff x="2425680" y="4941720"/>
            <a:chExt cx="324000" cy="325440"/>
          </a:xfrm>
        </p:grpSpPr>
        <p:sp>
          <p:nvSpPr>
            <p:cNvPr id="779" name="同心圆 225"/>
            <p:cNvSpPr/>
            <p:nvPr/>
          </p:nvSpPr>
          <p:spPr>
            <a:xfrm>
              <a:off x="2425680" y="494172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同心圆 226"/>
            <p:cNvSpPr/>
            <p:nvPr/>
          </p:nvSpPr>
          <p:spPr>
            <a:xfrm>
              <a:off x="2479680" y="499572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椭圆 227"/>
            <p:cNvSpPr/>
            <p:nvPr/>
          </p:nvSpPr>
          <p:spPr>
            <a:xfrm>
              <a:off x="2533680" y="504972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152960" y="4726080"/>
            <a:ext cx="323640" cy="325440"/>
            <a:chOff x="4152960" y="4726080"/>
            <a:chExt cx="323640" cy="325440"/>
          </a:xfrm>
        </p:grpSpPr>
        <p:sp>
          <p:nvSpPr>
            <p:cNvPr id="783" name="同心圆 229"/>
            <p:cNvSpPr/>
            <p:nvPr/>
          </p:nvSpPr>
          <p:spPr>
            <a:xfrm>
              <a:off x="4152960" y="472608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同心圆 230"/>
            <p:cNvSpPr/>
            <p:nvPr/>
          </p:nvSpPr>
          <p:spPr>
            <a:xfrm>
              <a:off x="4206600" y="478008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椭圆 231"/>
            <p:cNvSpPr/>
            <p:nvPr/>
          </p:nvSpPr>
          <p:spPr>
            <a:xfrm>
              <a:off x="4260600" y="483408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384960" y="4078440"/>
            <a:ext cx="323640" cy="325440"/>
            <a:chOff x="6384960" y="4078440"/>
            <a:chExt cx="323640" cy="325440"/>
          </a:xfrm>
        </p:grpSpPr>
        <p:sp>
          <p:nvSpPr>
            <p:cNvPr id="787" name="同心圆 233"/>
            <p:cNvSpPr/>
            <p:nvPr/>
          </p:nvSpPr>
          <p:spPr>
            <a:xfrm>
              <a:off x="6384960" y="407844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同心圆 234"/>
            <p:cNvSpPr/>
            <p:nvPr/>
          </p:nvSpPr>
          <p:spPr>
            <a:xfrm>
              <a:off x="6438600" y="413244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椭圆 235"/>
            <p:cNvSpPr/>
            <p:nvPr/>
          </p:nvSpPr>
          <p:spPr>
            <a:xfrm>
              <a:off x="6492600" y="418644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1000">
    <p:pull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50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791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794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797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00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03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06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09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金岁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13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4.16185E-006 L -0.18476 -4.16185E-006 C -0.26744 -4.16185E-006 -0.36914 -0.08277 -0.36914 -0.15005 L -0.36914 -0.29896 E">
                                      <p:cBhvr>
                                        <p:cTn id="439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Box 1"/>
          <p:cNvSpPr/>
          <p:nvPr/>
        </p:nvSpPr>
        <p:spPr>
          <a:xfrm>
            <a:off x="1128600" y="3762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资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874800" y="1413000"/>
            <a:ext cx="2374920" cy="2248560"/>
            <a:chOff x="874800" y="1413000"/>
            <a:chExt cx="2374920" cy="2248560"/>
          </a:xfrm>
        </p:grpSpPr>
        <p:pic>
          <p:nvPicPr>
            <p:cNvPr id="817" name="Picture 25" descr=""/>
            <p:cNvPicPr/>
            <p:nvPr/>
          </p:nvPicPr>
          <p:blipFill>
            <a:blip r:embed="rId2"/>
            <a:stretch/>
          </p:blipFill>
          <p:spPr>
            <a:xfrm>
              <a:off x="874800" y="1413000"/>
              <a:ext cx="2374920" cy="16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Box 18"/>
            <p:cNvSpPr/>
            <p:nvPr/>
          </p:nvSpPr>
          <p:spPr>
            <a:xfrm>
              <a:off x="1452240" y="3324240"/>
              <a:ext cx="121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3741840" y="1432080"/>
            <a:ext cx="2322360" cy="2208960"/>
            <a:chOff x="3741840" y="1432080"/>
            <a:chExt cx="2322360" cy="2208960"/>
          </a:xfrm>
        </p:grpSpPr>
        <p:pic>
          <p:nvPicPr>
            <p:cNvPr id="820" name="Picture 24" descr=""/>
            <p:cNvPicPr/>
            <p:nvPr/>
          </p:nvPicPr>
          <p:blipFill>
            <a:blip r:embed="rId3"/>
            <a:stretch/>
          </p:blipFill>
          <p:spPr>
            <a:xfrm>
              <a:off x="3741840" y="1432080"/>
              <a:ext cx="2322360" cy="16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Box 19"/>
            <p:cNvSpPr/>
            <p:nvPr/>
          </p:nvSpPr>
          <p:spPr>
            <a:xfrm>
              <a:off x="4187160" y="3303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可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8190000" y="3776760"/>
            <a:ext cx="2636640" cy="2217600"/>
            <a:chOff x="8190000" y="3776760"/>
            <a:chExt cx="2636640" cy="2217600"/>
          </a:xfrm>
        </p:grpSpPr>
        <p:pic>
          <p:nvPicPr>
            <p:cNvPr id="823" name="Picture 27" descr=""/>
            <p:cNvPicPr/>
            <p:nvPr/>
          </p:nvPicPr>
          <p:blipFill>
            <a:blip r:embed="rId4"/>
            <a:stretch/>
          </p:blipFill>
          <p:spPr>
            <a:xfrm>
              <a:off x="8190000" y="3776760"/>
              <a:ext cx="263664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Box 20"/>
            <p:cNvSpPr/>
            <p:nvPr/>
          </p:nvSpPr>
          <p:spPr>
            <a:xfrm>
              <a:off x="9599760" y="5656320"/>
              <a:ext cx="18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58640" y="4005360"/>
            <a:ext cx="1778040" cy="1721520"/>
            <a:chOff x="458640" y="4005360"/>
            <a:chExt cx="1778040" cy="1721520"/>
          </a:xfrm>
        </p:grpSpPr>
        <p:pic>
          <p:nvPicPr>
            <p:cNvPr id="826" name="Picture 28" descr=""/>
            <p:cNvPicPr/>
            <p:nvPr/>
          </p:nvPicPr>
          <p:blipFill>
            <a:blip r:embed="rId5"/>
            <a:stretch/>
          </p:blipFill>
          <p:spPr>
            <a:xfrm>
              <a:off x="458640" y="4005360"/>
              <a:ext cx="1778040" cy="12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TextBox 21"/>
            <p:cNvSpPr/>
            <p:nvPr/>
          </p:nvSpPr>
          <p:spPr>
            <a:xfrm>
              <a:off x="1080360" y="538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4802040" y="3938760"/>
            <a:ext cx="1962360" cy="1850040"/>
            <a:chOff x="4802040" y="3938760"/>
            <a:chExt cx="1962360" cy="1850040"/>
          </a:xfrm>
        </p:grpSpPr>
        <p:pic>
          <p:nvPicPr>
            <p:cNvPr id="829" name="Picture 30" descr=""/>
            <p:cNvPicPr/>
            <p:nvPr/>
          </p:nvPicPr>
          <p:blipFill>
            <a:blip r:embed="rId6"/>
            <a:stretch/>
          </p:blipFill>
          <p:spPr>
            <a:xfrm>
              <a:off x="4802040" y="3938760"/>
              <a:ext cx="19623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TextBox 23"/>
            <p:cNvSpPr/>
            <p:nvPr/>
          </p:nvSpPr>
          <p:spPr>
            <a:xfrm>
              <a:off x="5528160" y="5451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8475840" y="1843200"/>
            <a:ext cx="1334160" cy="1622880"/>
            <a:chOff x="8475840" y="1843200"/>
            <a:chExt cx="1334160" cy="1622880"/>
          </a:xfrm>
        </p:grpSpPr>
        <p:pic>
          <p:nvPicPr>
            <p:cNvPr id="832" name="Picture 21" descr=""/>
            <p:cNvPicPr/>
            <p:nvPr/>
          </p:nvPicPr>
          <p:blipFill>
            <a:blip r:embed="rId7"/>
            <a:stretch/>
          </p:blipFill>
          <p:spPr>
            <a:xfrm>
              <a:off x="8475840" y="1843200"/>
              <a:ext cx="1201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Box 27"/>
            <p:cNvSpPr/>
            <p:nvPr/>
          </p:nvSpPr>
          <p:spPr>
            <a:xfrm>
              <a:off x="8577360" y="3128760"/>
              <a:ext cx="123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516040" y="3862440"/>
            <a:ext cx="2048040" cy="1932840"/>
            <a:chOff x="2516040" y="3862440"/>
            <a:chExt cx="2048040" cy="1932840"/>
          </a:xfrm>
        </p:grpSpPr>
        <p:sp>
          <p:nvSpPr>
            <p:cNvPr id="835" name="TextBox 22"/>
            <p:cNvSpPr/>
            <p:nvPr/>
          </p:nvSpPr>
          <p:spPr>
            <a:xfrm>
              <a:off x="3280680" y="545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登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6" name="Picture 29" descr=""/>
            <p:cNvPicPr/>
            <p:nvPr/>
          </p:nvPicPr>
          <p:blipFill>
            <a:blip r:embed="rId8"/>
            <a:stretch/>
          </p:blipFill>
          <p:spPr>
            <a:xfrm>
              <a:off x="2516040" y="3862440"/>
              <a:ext cx="2048040" cy="145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7" name="图片 89" descr="16-10.png"/>
          <p:cNvPicPr/>
          <p:nvPr/>
        </p:nvPicPr>
        <p:blipFill>
          <a:blip r:embed="rId9"/>
          <a:stretch/>
        </p:blipFill>
        <p:spPr>
          <a:xfrm>
            <a:off x="7753320" y="256536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90" descr="16-10.png"/>
          <p:cNvPicPr/>
          <p:nvPr/>
        </p:nvPicPr>
        <p:blipFill>
          <a:blip r:embed="rId10"/>
          <a:stretch/>
        </p:blipFill>
        <p:spPr>
          <a:xfrm>
            <a:off x="6086520" y="982800"/>
            <a:ext cx="560520" cy="55872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91" descr="16-10.png"/>
          <p:cNvPicPr/>
          <p:nvPr/>
        </p:nvPicPr>
        <p:blipFill>
          <a:blip r:embed="rId11"/>
          <a:stretch/>
        </p:blipFill>
        <p:spPr>
          <a:xfrm>
            <a:off x="8185320" y="262080"/>
            <a:ext cx="628560" cy="70776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92" descr="16-10.png"/>
          <p:cNvPicPr/>
          <p:nvPr/>
        </p:nvPicPr>
        <p:blipFill>
          <a:blip r:embed="rId12"/>
          <a:stretch/>
        </p:blipFill>
        <p:spPr>
          <a:xfrm>
            <a:off x="6602400" y="2925720"/>
            <a:ext cx="628560" cy="7081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93" descr="16-10.png"/>
          <p:cNvPicPr/>
          <p:nvPr/>
        </p:nvPicPr>
        <p:blipFill>
          <a:blip r:embed="rId13"/>
          <a:stretch/>
        </p:blipFill>
        <p:spPr>
          <a:xfrm>
            <a:off x="3360600" y="335772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94" descr="16-10.png"/>
          <p:cNvPicPr/>
          <p:nvPr/>
        </p:nvPicPr>
        <p:blipFill>
          <a:blip r:embed="rId14"/>
          <a:stretch/>
        </p:blipFill>
        <p:spPr>
          <a:xfrm>
            <a:off x="3218040" y="981000"/>
            <a:ext cx="487080" cy="368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95" descr="16-10.png"/>
          <p:cNvPicPr/>
          <p:nvPr/>
        </p:nvPicPr>
        <p:blipFill>
          <a:blip r:embed="rId15"/>
          <a:stretch/>
        </p:blipFill>
        <p:spPr>
          <a:xfrm>
            <a:off x="3792600" y="5950080"/>
            <a:ext cx="438120" cy="492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xit" presetID="2" presetSubtype="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"/>
                            </p:stCondLst>
                            <p:childTnLst>
                              <p:par>
                                <p:cTn id="48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700"/>
                            </p:stCondLst>
                            <p:childTnLst>
                              <p:par>
                                <p:cTn id="4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00"/>
                            </p:stCondLst>
                            <p:childTnLst>
                              <p:par>
                                <p:cTn id="50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00"/>
                            </p:stCondLst>
                            <p:childTnLst>
                              <p:par>
                                <p:cTn id="5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200"/>
                            </p:stCondLst>
                            <p:childTnLst>
                              <p:par>
                                <p:cTn id="5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700"/>
                            </p:stCondLst>
                            <p:childTnLst>
                              <p:par>
                                <p:cTn id="52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84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848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851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5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57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60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63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67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0.00023 L -0.29414 -0.00023 C -0.42591 -0.00023 -0.58763 -0.10335 -0.58763 -0.18682 L -0.58763 -0.37225 E">
                                      <p:cBhvr>
                                        <p:cTn id="563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空心弧 5" descr=""/>
          <p:cNvPicPr/>
          <p:nvPr/>
        </p:nvPicPr>
        <p:blipFill>
          <a:blip r:embed="rId2"/>
          <a:stretch/>
        </p:blipFill>
        <p:spPr>
          <a:xfrm>
            <a:off x="4035600" y="158436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0" name="空心弧 6" descr=""/>
          <p:cNvPicPr/>
          <p:nvPr/>
        </p:nvPicPr>
        <p:blipFill>
          <a:blip r:embed="rId3"/>
          <a:stretch/>
        </p:blipFill>
        <p:spPr>
          <a:xfrm>
            <a:off x="3743280" y="2639880"/>
            <a:ext cx="468360" cy="2097360"/>
          </a:xfrm>
          <a:prstGeom prst="rect">
            <a:avLst/>
          </a:prstGeom>
          <a:ln w="0">
            <a:noFill/>
          </a:ln>
        </p:spPr>
      </p:pic>
      <p:pic>
        <p:nvPicPr>
          <p:cNvPr id="871" name="空心弧 7" descr=""/>
          <p:cNvPicPr/>
          <p:nvPr/>
        </p:nvPicPr>
        <p:blipFill>
          <a:blip r:embed="rId4"/>
          <a:stretch/>
        </p:blipFill>
        <p:spPr>
          <a:xfrm>
            <a:off x="4035600" y="463248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2" name="空心弧 8" descr=""/>
          <p:cNvPicPr/>
          <p:nvPr/>
        </p:nvPicPr>
        <p:blipFill>
          <a:blip r:embed="rId5"/>
          <a:stretch/>
        </p:blipFill>
        <p:spPr>
          <a:xfrm>
            <a:off x="5851440" y="4632480"/>
            <a:ext cx="1817640" cy="1158840"/>
          </a:xfrm>
          <a:prstGeom prst="rect">
            <a:avLst/>
          </a:prstGeom>
          <a:ln w="0">
            <a:noFill/>
          </a:ln>
        </p:spPr>
      </p:pic>
      <p:pic>
        <p:nvPicPr>
          <p:cNvPr id="873" name="空心弧 9" descr=""/>
          <p:cNvPicPr/>
          <p:nvPr/>
        </p:nvPicPr>
        <p:blipFill>
          <a:blip r:embed="rId6"/>
          <a:stretch/>
        </p:blipFill>
        <p:spPr>
          <a:xfrm>
            <a:off x="7491240" y="2639880"/>
            <a:ext cx="476280" cy="2097360"/>
          </a:xfrm>
          <a:prstGeom prst="rect">
            <a:avLst/>
          </a:prstGeom>
          <a:ln w="0">
            <a:noFill/>
          </a:ln>
        </p:spPr>
      </p:pic>
      <p:pic>
        <p:nvPicPr>
          <p:cNvPr id="874" name="空心弧 10" descr=""/>
          <p:cNvPicPr/>
          <p:nvPr/>
        </p:nvPicPr>
        <p:blipFill>
          <a:blip r:embed="rId7"/>
          <a:stretch/>
        </p:blipFill>
        <p:spPr>
          <a:xfrm>
            <a:off x="5851440" y="1584360"/>
            <a:ext cx="1817640" cy="1158840"/>
          </a:xfrm>
          <a:prstGeom prst="rect">
            <a:avLst/>
          </a:prstGeom>
          <a:ln w="0">
            <a:noFill/>
          </a:ln>
        </p:spPr>
      </p:pic>
      <p:sp>
        <p:nvSpPr>
          <p:cNvPr id="875" name="直接连接符 19"/>
          <p:cNvSpPr/>
          <p:nvPr/>
        </p:nvSpPr>
        <p:spPr>
          <a:xfrm flipV="1">
            <a:off x="5867280" y="2298600"/>
            <a:ext cx="0" cy="426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21"/>
          <p:cNvSpPr/>
          <p:nvPr/>
        </p:nvSpPr>
        <p:spPr>
          <a:xfrm flipV="1">
            <a:off x="6659640" y="3014640"/>
            <a:ext cx="431640" cy="216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24"/>
          <p:cNvSpPr/>
          <p:nvPr/>
        </p:nvSpPr>
        <p:spPr>
          <a:xfrm>
            <a:off x="6659640" y="4167360"/>
            <a:ext cx="43164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直接连接符 26"/>
          <p:cNvSpPr/>
          <p:nvPr/>
        </p:nvSpPr>
        <p:spPr>
          <a:xfrm>
            <a:off x="5867280" y="4599000"/>
            <a:ext cx="0" cy="647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28"/>
          <p:cNvSpPr/>
          <p:nvPr/>
        </p:nvSpPr>
        <p:spPr>
          <a:xfrm flipH="1">
            <a:off x="4570200" y="4022640"/>
            <a:ext cx="433080" cy="287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直接连接符 30"/>
          <p:cNvSpPr/>
          <p:nvPr/>
        </p:nvSpPr>
        <p:spPr>
          <a:xfrm flipH="1" flipV="1">
            <a:off x="4643280" y="2943000"/>
            <a:ext cx="43200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1" name="任意多边形 11" descr=""/>
          <p:cNvPicPr/>
          <p:nvPr/>
        </p:nvPicPr>
        <p:blipFill>
          <a:blip r:embed="rId8"/>
          <a:stretch/>
        </p:blipFill>
        <p:spPr>
          <a:xfrm>
            <a:off x="4870440" y="2724120"/>
            <a:ext cx="1963800" cy="1976400"/>
          </a:xfrm>
          <a:prstGeom prst="rect">
            <a:avLst/>
          </a:prstGeom>
          <a:ln w="0">
            <a:noFill/>
          </a:ln>
        </p:spPr>
      </p:pic>
      <p:pic>
        <p:nvPicPr>
          <p:cNvPr id="882" name="任意多边形 12" descr=""/>
          <p:cNvPicPr/>
          <p:nvPr/>
        </p:nvPicPr>
        <p:blipFill>
          <a:blip r:embed="rId9"/>
          <a:stretch/>
        </p:blipFill>
        <p:spPr>
          <a:xfrm>
            <a:off x="5145120" y="9572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3" name="任意多边形 13" descr=""/>
          <p:cNvPicPr/>
          <p:nvPr/>
        </p:nvPicPr>
        <p:blipFill>
          <a:blip r:embed="rId10"/>
          <a:stretch/>
        </p:blipFill>
        <p:spPr>
          <a:xfrm>
            <a:off x="6924600" y="1981080"/>
            <a:ext cx="1408320" cy="1408320"/>
          </a:xfrm>
          <a:prstGeom prst="rect">
            <a:avLst/>
          </a:prstGeom>
          <a:ln w="0">
            <a:noFill/>
          </a:ln>
        </p:spPr>
      </p:pic>
      <p:pic>
        <p:nvPicPr>
          <p:cNvPr id="884" name="任意多边形 14" descr=""/>
          <p:cNvPicPr/>
          <p:nvPr/>
        </p:nvPicPr>
        <p:blipFill>
          <a:blip r:embed="rId11"/>
          <a:stretch/>
        </p:blipFill>
        <p:spPr>
          <a:xfrm>
            <a:off x="692460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5" name="任意多边形 15" descr=""/>
          <p:cNvPicPr/>
          <p:nvPr/>
        </p:nvPicPr>
        <p:blipFill>
          <a:blip r:embed="rId12"/>
          <a:stretch/>
        </p:blipFill>
        <p:spPr>
          <a:xfrm>
            <a:off x="5145120" y="50594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6" name="任意多边形 16" descr=""/>
          <p:cNvPicPr/>
          <p:nvPr/>
        </p:nvPicPr>
        <p:blipFill>
          <a:blip r:embed="rId13"/>
          <a:stretch/>
        </p:blipFill>
        <p:spPr>
          <a:xfrm>
            <a:off x="337176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7" name="任意多边形 17" descr=""/>
          <p:cNvPicPr/>
          <p:nvPr/>
        </p:nvPicPr>
        <p:blipFill>
          <a:blip r:embed="rId14"/>
          <a:stretch/>
        </p:blipFill>
        <p:spPr>
          <a:xfrm>
            <a:off x="3371760" y="1981080"/>
            <a:ext cx="1408320" cy="1408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6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7:55:08Z</dcterms:created>
  <dc:creator>Administrator</dc:creator>
  <dc:description/>
  <dc:language>en-US</dc:language>
  <cp:lastModifiedBy>微软用户</cp:lastModifiedBy>
  <dcterms:modified xsi:type="dcterms:W3CDTF">2014-08-23T15:32:34Z</dcterms:modified>
  <cp:revision>2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NXTAG2">
    <vt:lpwstr>00080006110000000000010261000207f7000400038000</vt:lpwstr>
  </property>
</Properties>
</file>