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835-49B2-4B54-9619-000CB928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9F3-1813-429F-9472-3DC4664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EE3-DB9B-4576-8B8E-3BAE9CC2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84B-4DCD-41C0-831A-81602B5F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F09-A913-4C7F-854B-4E57F5B7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26A-68C4-4A23-830B-FB762F41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4B8-B807-43E4-855C-39F337CA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794-AFC2-4DF1-9489-0E65AC1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58D-0DB9-4193-89FA-F5D75A5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6C4-80F1-454B-9700-349A5E3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5D8-E4EA-4A49-AF7B-BEBD2E9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C8C-E889-42B4-84A5-26357BD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5D3-F89E-4BB5-A4EF-17B18E381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979280" y="1143000"/>
            <a:ext cx="52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古色古香古典中国风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Arial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Arial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1:07:50Z</dcterms:created>
  <dc:creator/>
  <dc:description/>
  <dc:language>en-US</dc:language>
  <cp:lastModifiedBy>YANGS</cp:lastModifiedBy>
  <dcterms:modified xsi:type="dcterms:W3CDTF">2015-01-19T01:08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  <property fmtid="{D5CDD505-2E9C-101B-9397-08002B2CF9AE}" pid="3" name="Version">
    <vt:r8>1</vt:r8>
  </property>
</Properties>
</file>