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A83-514D-4F9F-8C36-8C09E4EF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E62-17B1-474E-9BF8-9296225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894-6D74-4698-9565-A074EA9F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C11-304A-4456-A53C-815EFC16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249-0A09-472A-9EAB-D7F5BB2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0E0-2A55-452C-9BEC-D53BC7D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D85-84DE-4A54-94E5-DFBAD03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AAE-3306-49C8-806E-6EDF106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6400"/>
            <a:ext cx="822960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F80-830A-40CC-8F48-F425E200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9B3-DE8F-49ED-9574-E57A007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843-15F8-496A-B6EF-50252CC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0F0-EDD4-481B-9793-1D9F1AD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ebe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直接连接符 8"/>
          <p:cNvSpPr/>
          <p:nvPr/>
        </p:nvSpPr>
        <p:spPr>
          <a:xfrm flipH="1">
            <a:off x="6468840" y="4947480"/>
            <a:ext cx="2671560" cy="1900440"/>
          </a:xfrm>
          <a:prstGeom prst="line">
            <a:avLst/>
          </a:prstGeom>
          <a:ln cap="rnd" w="6120">
            <a:solidFill>
              <a:srgbClr val="c5c5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7ba7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40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66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8fb2"/>
              </a:buClr>
              <a:buSzPct val="95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SzPct val="95000"/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E1C0-DED7-43AD-9F6A-1E147BF669F2}" type="datetime">
              <a:rPr b="0" lang="zh-CN" sz="1000" spc="-1" strike="noStrike">
                <a:solidFill>
                  <a:srgbClr val="ffffff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00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FA1-0461-45AC-9861-127659F3F96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等腰三角形 6"/>
          <p:cNvSpPr/>
          <p:nvPr/>
        </p:nvSpPr>
        <p:spPr>
          <a:xfrm rot="16200000">
            <a:off x="7554240" y="5253840"/>
            <a:ext cx="1892160" cy="1293840"/>
          </a:xfrm>
          <a:prstGeom prst="triangle">
            <a:avLst>
              <a:gd name="adj" fmla="val 513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714240"/>
            <a:ext cx="80629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r">
              <a:buNone/>
              <a:tabLst>
                <a:tab algn="l" pos="0"/>
              </a:tabLst>
            </a:pPr>
            <a:r>
              <a:rPr b="0" lang="zh-CN" sz="6600" spc="-1" strike="noStrike">
                <a:solidFill>
                  <a:srgbClr val="ff7ba7"/>
                </a:solidFill>
                <a:latin typeface="Century Gothic"/>
              </a:rPr>
              <a:t>冬季取暖防事故</a:t>
            </a:r>
            <a:endParaRPr b="0" lang="en-US" sz="66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400" y="2999880"/>
            <a:ext cx="8062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168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013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年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月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日中午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2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时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分，重庆渝中区较场口凯旋路一高楼楼顶一房间内冒出大量浓烟。由于高楼靠近解放碑，滚滚浓烟在半空中非常惹人注目，引来近千路人驻足围观，将附近交通堵塞。几分钟后，浓烟开始变亮，火光从窗户内冒出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接到报警后，渝中区消防支队迅速调集多个中队近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台消防车赶赴现场灭火，同时调集云梯车赶赴现场增援。凯旋路临时交通管制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由于失火的房屋位于大楼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1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层，地面道路狭窄，云梯车无法展开，消防员们只得携带防毒面具冲进大楼。他们一边紧急疏散楼内人员，一边灭火。不到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个小时，大火被扑灭，事故未造成人员伤亡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3000" spc="-1" strike="noStrike">
                <a:solidFill>
                  <a:srgbClr val="ffffff"/>
                </a:solidFill>
                <a:latin typeface="Century Gothic"/>
              </a:rPr>
              <a:t>失火的是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1-8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</a:rPr>
              <a:t>房，跃层，面积超过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0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</a:rPr>
              <a:t>平方米，装修非常豪华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3000" spc="-1" strike="noStrike">
                <a:solidFill>
                  <a:srgbClr val="ffffff"/>
                </a:solidFill>
                <a:latin typeface="Century Gothic"/>
              </a:rPr>
              <a:t>过火的地方主要在二楼。沿着楼梯上去，楼上几乎烧成一片焦炭，损失非常惨重。一楼虽然没有过火，但被消防积水浸泡，地板和沙发都已损坏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当事人介绍说，中午独自在家，因为天气寒冷，于是在书房开启烤火箱取暖，膝盖上搭了一条小被子。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2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时多，她接到电话说有客户前来，已经要到楼下，于是顺手将被子盖在烤火箱上，出门时忘记关烤火箱电源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到了自己位于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6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楼的装饰公司后，一边等客户，一边给员工安排工作。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分钟左右过后，她接到物管公司工作人员电话，说家里失火，这才猛然意识到忘记关掉烤火箱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她立即同物管人员和保安一道冲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1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楼，将房门打开，里面已经浓烟弥漫，伸手不见五指。几名保安用灭火器扑灭，但效果甚微，只得撤出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如此一场大火，估计自家、外墙和邻居等设施总体损失数十万元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r>
              <a:rPr b="0" lang="zh-CN" sz="4200" spc="-1" strike="noStrike">
                <a:solidFill>
                  <a:srgbClr val="ff7ba7"/>
                </a:solidFill>
                <a:latin typeface="Century Gothic"/>
              </a:rPr>
              <a:t>警示：</a:t>
            </a:r>
            <a:endParaRPr b="0" lang="en-US" sz="4200" spc="-1" strike="noStrike">
              <a:solidFill>
                <a:srgbClr val="ff7ba7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最近天气进入三九，日渐寒冷，使用烤火设备的家庭比较普遍。据消防部门统计：冬季火灾六成以上因烤火引发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我们在使用电烤火箱取暖时一定要让烤火箱尽量远离可燃物，要做到人走电断，千万不能将小棉被、毛毯等物品覆盖在烤火箱上闷烤，否则极易引发火灾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消防部门介绍，一般烤火箱烤火炉功率都在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0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瓦到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80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瓦之间，许多烤火箱可以在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分钟之内将周围温度提升到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0-85°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。如果将易燃物靠近烤火箱半米距离内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多分钟会将易燃物烤焦。如果将棉被等易燃物整体覆盖在烤火箱上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0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</a:rPr>
              <a:t>分钟左右可将易燃物引燃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</a:tabLst>
            </a:pPr>
            <a:r>
              <a:rPr b="0" lang="zh-CN" sz="6600" spc="-1" strike="noStrike">
                <a:solidFill>
                  <a:srgbClr val="ff7ba7"/>
                </a:solidFill>
                <a:latin typeface="Century Gothic"/>
              </a:rPr>
              <a:t>谢谢！！</a:t>
            </a:r>
            <a:endParaRPr b="0" lang="en-US" sz="6600" spc="-1" strike="noStrike">
              <a:solidFill>
                <a:srgbClr val="ff7ba7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04:00:51Z</dcterms:created>
  <dc:creator>PYB</dc:creator>
  <dc:description/>
  <dc:language>en-US</dc:language>
  <cp:lastModifiedBy>杨骅</cp:lastModifiedBy>
  <dcterms:modified xsi:type="dcterms:W3CDTF">2013-01-11T04:03:26Z</dcterms:modified>
  <cp:revision>5</cp:revision>
  <dc:subject/>
  <dc:title>冬季烤火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