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3FA3-1E31-434E-A8BC-7485623A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902-F105-4A45-9648-864135B3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5F86-D99D-44EB-AF19-4F0DDE62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B58-7EED-4BD6-ABCE-3E5DE10A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0A15-167E-4718-B9A6-3E22E1DD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F6EF-F83F-4EB5-9BC4-7727FEDF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D819-ADAA-43E2-9EAE-95531C91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8F91-A3B2-43B5-AA79-DE2DE284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91A7-CEE8-4203-8402-574859D4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E935-22A2-4C96-B56F-DE57FA7F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62F4-B269-4F3A-91E5-0365F9AE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9610-4CF5-4FF9-93B4-3D943F07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CEF1-6046-4946-9CC5-012F6AB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CE36-84C1-4C86-B98E-B0D1A51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6B06-3A6C-4FBC-BAC6-9A8E566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40F7-2D91-40A9-9EAD-F410BAF6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BDE0-4C63-4A2A-95D7-86C7E9B3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99E-95E0-4016-B4E7-F73228E96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4B1-28C2-4029-8B60-0846073B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CB9-BCF0-4C41-99F5-4027A189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1D2-BDBE-417B-A6AF-4E724FA2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9247-9A1F-4E26-89C0-EBF716A9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F19-9B44-41DE-83A2-886D93F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7DB-61AB-439D-89AB-C192817A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C2F-C405-468D-B238-CD9A38AF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4BB-58A4-421F-9D71-373736823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991720" y="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13840" y="0"/>
            <a:ext cx="7898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    雨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457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来得突然——跟着一阵阵湿润的山风，跟着一缕缕轻盈的云雾，雨，悄悄地来了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304920"/>
            <a:ext cx="6705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5335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ccccff"/>
                </a:solidFill>
                <a:latin typeface="Times New Roman"/>
                <a:ea typeface="楷体_GB2312"/>
              </a:rPr>
              <a:t>像一曲无字的歌谣，神奇地从四面八方飘然而起，逐渐清晰起来，响亮起来，由远而近，由远而近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143200" y="990720"/>
            <a:ext cx="6069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2800" spc="-1" strike="noStrike">
                <a:solidFill>
                  <a:srgbClr val="00ccff"/>
                </a:solidFill>
                <a:latin typeface="Times New Roman"/>
                <a:ea typeface="楷体_GB2312"/>
              </a:rPr>
              <a:t>飘飘洒洒的雨丝是无数轻捷柔软的手指，弹奏出一首又一首优雅的小曲，每一个音符都带着幻想的色彩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0666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所有的色彩都融化在水淋淋的嫩绿之中，绿得耀眼，绿得透明。这清新的绿色仿佛在雨雾中流动，流进我的眼睛，流进我的心胸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课件下载地址：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257800" y="76212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         “……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雨，悄悄地停了。风，也屏住了呼吸，山中一下变得非常幽静。远处，一只不知名的鸟儿开始啼啭起来，仿佛在倾吐着浴后的欢跃……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9907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多美的文章啊！为什么不用你灵巧的手绘制出一幅如诗如画的山雨图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0:14:12Z</dcterms:created>
  <dc:creator>lixiaolong</dc:creator>
  <dc:description/>
  <dc:language>en-US</dc:language>
  <cp:lastModifiedBy>微软用户</cp:lastModifiedBy>
  <dcterms:modified xsi:type="dcterms:W3CDTF">2010-06-21T13:49:30Z</dcterms:modified>
  <cp:revision>2</cp:revision>
  <dc:subject/>
  <dc:title>PowerPoint 演示文稿</dc:title>
</cp:coreProperties>
</file>