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1.jpeg" ContentType="image/jpeg"/>
  <Override PartName="/ppt/media/chimes.wav" ContentType="audio/x-wav"/>
  <Override PartName="/ppt/media/image16.gif" ContentType="image/gif"/>
  <Override PartName="/ppt/media/image14.jpeg" ContentType="image/jpe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wmf" ContentType="image/x-wmf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9D6-5992-45C5-9CF4-D2CC77A1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20B-AF63-4B95-A539-2140A0EF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E8F-632E-4450-B4B7-1236D98E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97B-8AA2-4E8B-8ED5-F5DCB66E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D2F5-2A91-49CD-AACB-E163FC33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3776-8742-4529-BE57-C8591A66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46AF-8D04-4CCE-871D-44AF94C0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5DAE-1667-46D6-825E-70A4CF7A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263B-BFDE-44C2-97A7-F725C9A3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70F1-E829-449A-8FE0-D03EE079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A7A4-EA0C-4F05-B55E-4DEDBD55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044-0CF3-46B4-A76D-9B4DACB2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B9EA-E8DD-45A9-A61E-CCC5A8EA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B656-5270-42DC-B4A1-55886BD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3265-8CD0-4752-9C7F-9312833F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0EDD-E2A4-4625-B1D9-34ABC98E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4E5A-20C0-4A1D-B662-A32DE3E6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A607-A6EB-40CF-9B77-F92A458A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787F-2CA0-4266-8166-46E7B3E1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F61C7-B3D6-4D11-A2F6-973FB72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15BE-EADB-49E9-B1EF-0AFFD522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0A320-5115-4436-B098-7957A340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F14-5DBA-4148-88E0-5A412B23A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F44F-FFAE-4E64-B8DD-EC2C7BD8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F47CA-34F9-421A-9684-549D8879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FC63-A1A7-45C1-812E-F6E01D6C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A3A3F-38AC-44E4-9C6F-007002A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970E4-3CF6-454B-A42F-3D9A1B44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A2569-02D2-478E-BE63-A8F7166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E83C-3F90-4A97-9CD2-E9AC9790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4F5D-739A-4713-9D30-FCD2A7DB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B748-E821-46A8-96EB-BBE45A68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9A63-76FE-40CF-B716-84DF47EE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FDA-7314-44BC-B4A0-9DC35F6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3C256-9555-485A-B590-14FFDC66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5C228-D923-4398-A9D6-E2064329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F46AF-4A1F-45F1-A4A4-7395FAA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3DAB9-51B4-4CEC-A6E2-4AA8DFAA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0E667-E640-48B9-9D83-EEC499C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AC5AF-D727-4D46-A95B-3CFCB01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89A7-E566-4C95-B2EE-4F7218E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D1C50-9709-4414-B0D1-C9B4CE3D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64BF-6FB4-41A8-B236-AAFB0C8ED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979-FD4F-410B-B174-82003D16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5F8-A178-4B94-AAFC-2F99648E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D826-52E7-44FD-9EF5-FDA9869F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C589-D49E-49F6-AB6A-ABC0B65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A6E1-7B2B-4080-90FB-8C9C6D0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6AFD-8A2C-41A8-B41E-7B07EF362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9057-AB3C-48BB-BC70-BA564439B5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FACD-8C91-46C9-9680-2A2F0B2B336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13A4-8A1F-446B-8855-DD7ED8A048E0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195640" y="1268280"/>
            <a:ext cx="3887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一面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619280" y="3860640"/>
            <a:ext cx="5616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前面是一条路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先生没有走完就倒下了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我们只有踏着他的血的足印，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继续前进。</a:t>
            </a:r>
            <a:endParaRPr b="1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116000" y="155736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精读课文第一部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58920" y="278136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课文对鲁迅先生几次肖像描写？重点写他什么特征？为什么这样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41497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宋体"/>
              </a:rPr>
              <a:t>、怎样理解“同志、朋友、父亲、师傅、战士”的含义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906560" y="20606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作者阿累只是一个普通汽车售票员，可鲁迅先生亲自接待并价卖书、赠书，可见鲁迅先生对进步青年的关心爱护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47640" y="588960"/>
            <a:ext cx="28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总 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708360" y="549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73280" y="126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鲁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5280" y="260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黑体"/>
              </a:rPr>
              <a:t>拓读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90440" y="19828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运交华盖欲何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03320" y="2778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未敢翻身已碰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03320" y="357012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破帽遮颜过闹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47520" y="4362480"/>
            <a:ext cx="280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漏船载酒泛中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2920" y="1986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横眉冷对千夫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21240" y="27781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俯首甘为孺子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71040" y="3570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躲进小楼成一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76880" y="4362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管他冬夏与春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14400" y="5562720"/>
            <a:ext cx="7009920" cy="837360"/>
            <a:chOff x="914400" y="5562720"/>
            <a:chExt cx="7009920" cy="837360"/>
          </a:xfrm>
        </p:grpSpPr>
        <p:pic>
          <p:nvPicPr>
            <p:cNvPr id="242" name="" descr=""/>
            <p:cNvPicPr/>
            <p:nvPr/>
          </p:nvPicPr>
          <p:blipFill>
            <a:blip r:embed="rId2"/>
            <a:stretch/>
          </p:blipFill>
          <p:spPr>
            <a:xfrm>
              <a:off x="7316640" y="5562720"/>
              <a:ext cx="607680" cy="78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3"/>
            <a:stretch/>
          </p:blipFill>
          <p:spPr>
            <a:xfrm>
              <a:off x="634392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4"/>
            <a:stretch/>
          </p:blipFill>
          <p:spPr>
            <a:xfrm>
              <a:off x="52902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5"/>
            <a:stretch/>
          </p:blipFill>
          <p:spPr>
            <a:xfrm>
              <a:off x="423720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6"/>
            <a:stretch/>
          </p:blipFill>
          <p:spPr>
            <a:xfrm>
              <a:off x="3062160" y="5614920"/>
              <a:ext cx="60732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7"/>
            <a:stretch/>
          </p:blipFill>
          <p:spPr>
            <a:xfrm>
              <a:off x="188676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8"/>
            <a:stretch/>
          </p:blipFill>
          <p:spPr>
            <a:xfrm>
              <a:off x="914400" y="5614920"/>
              <a:ext cx="607680" cy="78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2050920" y="486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48006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339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67280" y="422100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1881-193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213372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鲁迅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浙江绍兴人。文学家，思想家，革命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87280" y="1052640"/>
            <a:ext cx="2138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者介绍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2205000"/>
            <a:ext cx="655308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     </a:t>
            </a:r>
            <a:r>
              <a:rPr b="1" lang="zh-CN" sz="3000" spc="-1" strike="noStrike">
                <a:solidFill>
                  <a:srgbClr val="ee0000"/>
                </a:solidFill>
                <a:latin typeface="Tahoma"/>
              </a:rPr>
              <a:t>阿累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，真名朱凡，原名朱一苇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09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生，江苏涟水人。在南京金陵大学附中、上海立达学园、同文书院学习过，毕业与上海艺术大学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1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反帝大同盟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2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参加 “右翼剧联”， 同年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月考进上海英商公共汽车公司当售票员，不久加入中国共产党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因参加工人罢工被捕判刑，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5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经人保释出狱，旋赴马来西亚，参加马来西亚共产党活动，被官方侦悉，迫令出境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6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复返上海，从事写作和翻译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37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，抗战开始，参加新四军。此后一直在部队和地方做文教和行政工作。解放后，历任湖南革命大学副校长、省文教厅厅长、省委宣传部长、湖南大学校长等职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1983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年离休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089320" cy="473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835280" y="2637000"/>
            <a:ext cx="5041800" cy="466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1763640" y="3309840"/>
            <a:ext cx="5484960" cy="406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768320" y="3946680"/>
            <a:ext cx="5180040" cy="419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724280" y="151596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qi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6000" y="1892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jiǒ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81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u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05360" y="2637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ū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5480" y="3284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kā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21360" y="321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6360" y="3908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8606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ǒ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495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4495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hóuch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1763640" y="4581360"/>
            <a:ext cx="5616720" cy="398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755640" y="620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注音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76360" y="1197000"/>
            <a:ext cx="693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课文中表示时间的词语有那些？根据这些词语，我们可以判定本文本文采用了那种写作顺序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2924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你认为可把课文划分为几个层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260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初读课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76360" y="3789360"/>
            <a:ext cx="496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、分组讨论下列“镜头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店全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书架一角的近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99ff"/>
                </a:solidFill>
                <a:latin typeface="宋体"/>
              </a:rPr>
              <a:t>）一本书特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99ffcc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3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4500720" cy="460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42512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9" dur="1" fill="hold"/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ccffff"/>
            </a:gs>
            <a:gs pos="100000">
              <a:srgbClr val="99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260280"/>
            <a:ext cx="67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复述课文，弄清事情的六要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126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间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24000" y="1268280"/>
            <a:ext cx="27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3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秋天的一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16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地点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24000" y="1916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山书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25401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人物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95560" y="25401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，鲁迅，内山完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7080" y="3213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起因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32130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接班还要等半个钟头，到内山书店躲雨、歇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933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翻看书籍，内山老板殷勤接待，买书缺钱，与鲁迅会面、交谈并接受赠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2280" y="5157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果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68480" y="5157720"/>
            <a:ext cx="57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“一面”中受到巨大的鼓舞和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54200" y="3908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经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5T16:08:0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2:04Z</dcterms:modified>
  <cp:revision>16</cp:revision>
  <dc:subject>六十铺中小学教育网http://www.lspjy.com</dc:subject>
  <dc:title>六十铺中小学教育网http://www.lspjy.com</dc:title>
</cp:coreProperties>
</file>