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25.gif" ContentType="image/gif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8.gif" ContentType="image/gif"/>
  <Override PartName="/ppt/media/image18.jpeg" ContentType="image/jpeg"/>
  <Override PartName="/ppt/media/image4.jpeg" ContentType="image/jpeg"/>
  <Override PartName="/ppt/media/image3.jpeg" ContentType="image/jpeg"/>
  <Override PartName="/ppt/media/image26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5AF-DCD6-4295-8E22-16EF9A05A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B3E-B0E8-4C1D-9B86-2E195EC2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9C7-EEE8-4DCA-A636-3973C928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0AEB-B5A3-4769-9FFE-1CEA853C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9731-5311-4937-86B5-11670211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8FBD-E6AA-471D-9031-BEC32788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6832-E347-4AC8-8D87-DD980EDB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F2A8-E32C-4672-B7DB-88FD906F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EEC0-9575-4EC9-9D0F-F95BDCAE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C7DE-1CED-4C3C-809F-047ADBF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405D6-700F-4287-AB91-B1B72AE0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56FB-98DB-49D4-BEC2-94FC81F1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CA23-2B4E-4F16-BC6F-65FD263D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D298-B148-49AD-854A-402A42EF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C382-E10D-4059-B83B-C4AF92BD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0225-3F56-4B48-B922-C42EA191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D805-B448-45BF-AF21-8BB9DE91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A9C-FA62-4A48-81B5-5E25C291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44E-472F-42E3-8218-9B537769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1B9C-8AD6-44BE-A293-6DA87468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16D-DF04-4CC4-BD7A-C8E89A42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06BC-5D83-45DB-8D5A-13A0D2D0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652-DDC4-4EDD-979A-39C05608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4E2-867F-412A-93D8-8BAB1823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B212-CBB1-44DF-B2C6-CA516CC8B8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EAF2-2B1F-4CAC-BFA2-A57CE7C65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133720" y="236232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中华少年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441936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春天的故事”响彻大江南北，中华啊！展开了崭新的画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5715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这句诗写到了什么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3623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啊！是七月的星火，南湖的航船，让东方雄狮从噩梦中奋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505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本句涉及到的是哪一次重要的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9880" y="1295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你知道吗？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0" y="4191120"/>
            <a:ext cx="19051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457200" y="1219320"/>
            <a:ext cx="2286000" cy="1981080"/>
            <a:chOff x="457200" y="1219320"/>
            <a:chExt cx="2286000" cy="19810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 txBox="1"/>
            <p:nvPr/>
          </p:nvSpPr>
          <p:spPr>
            <a:xfrm>
              <a:off x="803520" y="2613240"/>
              <a:ext cx="1697040" cy="43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3300"/>
                    </a:solidFill>
                    <a:miter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中共一大</a:t>
              </a:r>
              <a:endParaRPr b="1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00400" y="5486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中华少年的誓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3047760"/>
            <a:ext cx="5943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仿宋"/>
                <a:ea typeface="华文仿宋"/>
              </a:rPr>
              <a:t>          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这是中华少年的铿锵誓言，表达了中华少年建设中华的坚强决心。这组排比句和前面四个“不”字句形成鲜明对比，再加上押“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an”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字韵，读起来琅琅上口，一气呵成，中华少年的爱国之心、自豪之情尽情流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1219320"/>
            <a:ext cx="236232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6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7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rot="5400000">
            <a:off x="7124040" y="33145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848720" y="54100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19320" y="1447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做旗舰去长风破浪，要做火箭去推动飞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像利剑把贫穷斩断，要用爱心把世界相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15238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8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24382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整首诗表达了什么样的思想感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诗人以新时代中华少年的视角热情赞美了祖国，抒发了作为中华少年的由衷的自豪感，同时也表达了中华少年建设中华的坚强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13716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总结全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0120" y="5029200"/>
            <a:ext cx="1218960" cy="88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0" y="6216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97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>
            <a:off x="609480" y="4419720"/>
            <a:ext cx="3353040" cy="2057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914400" y="47239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甲：藏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乙：高山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丙：蒙古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丁：汉族的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181480" y="11430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表演朗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slow">
    <p:cover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8480" y="2133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华文中宋"/>
              </a:rPr>
              <a:t>课前准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71800" y="3657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预习课文，找一找，你可以从诗中找出哪些有所了解的景物、人物和事件？搜集相关的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80880" y="1219320"/>
            <a:ext cx="2895840" cy="5105160"/>
            <a:chOff x="380880" y="1219320"/>
            <a:chExt cx="2895840" cy="510516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609480" y="4572000"/>
              <a:ext cx="243864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22100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80880" y="2666880"/>
              <a:ext cx="213372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722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带有生字、新词的句子请多读几遍。</a:t>
            </a:r>
            <a:br>
              <a:rPr sz="3600"/>
            </a:b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、划出你觉得最难读好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600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自由朗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莽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立地顶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蹒跚学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强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阳关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艳阳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752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形容原野辽阔，无边无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2438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也作“顶天立地”，形容形象高大，气概雄伟豪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3505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学走路时摇摆不稳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4114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强壮勇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8120" y="46483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比喻有光明前途的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52578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指明媚的春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086600" y="5410080"/>
            <a:ext cx="1790640" cy="1047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990720" y="1143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76920" y="41907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分角色朗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全班同学分成四个大组，分别承担“甲、乙、丙、丁”四个角色，一齐分角色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6520" y="16002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中宋"/>
              </a:rPr>
              <a:t>划分结构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30481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一）总起全诗：我们都是中华少年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二）写祖国锦绣河山哺育了中华少年，悠久的文化滋润了中华少年，特有的民族传统风俗滋养了中华少年。（第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三）回顾中华母亲的艰难历程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四）写中华少年的誓言。（第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五）总结全诗。（第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17524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905120" cy="838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这一节诗中出现了哪些事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原──雪莲”、“宝岛──乳燕”、“草原──雏鹰”、“黄土坡──山丹丹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透过这些词语，你分别可以联想到什么？把四组词语联系起来想一想，你又可以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华少年的化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04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我们都是中华少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5334120"/>
            <a:ext cx="7543800" cy="1009440"/>
            <a:chOff x="762120" y="5334120"/>
            <a:chExt cx="7543800" cy="10094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6553080" y="5334120"/>
              <a:ext cx="17528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0" y="5334120"/>
              <a:ext cx="1828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66880" y="5334120"/>
              <a:ext cx="175284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762120" y="5334120"/>
              <a:ext cx="175248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562720"/>
            <a:ext cx="350532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41144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在这三节诗中，出现了哪些你熟悉的人和事物呢？请给大家简要介绍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3200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锦绣河山、悠久历史、民族传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1219320"/>
            <a:ext cx="8153280" cy="1676160"/>
            <a:chOff x="457200" y="1219320"/>
            <a:chExt cx="8153280" cy="167616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5720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243828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4419720" y="1219320"/>
              <a:ext cx="19810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4"/>
            <a:stretch/>
          </p:blipFill>
          <p:spPr>
            <a:xfrm>
              <a:off x="6553080" y="1219320"/>
              <a:ext cx="205740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cfc8c"/>
            </a:gs>
            <a:gs pos="100000">
              <a:srgbClr val="00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7524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1905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民族艰难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4876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细读这两句，展开想象，把你“看到”的场景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289548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黄河的纤夫拉不直问号般的身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长城的古砖挡不住洋炮的弹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457200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7:14Z</dcterms:modified>
  <cp:revision>2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