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13F-5707-4D86-87E0-85D06554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113-2551-4862-BA29-A3B8DAE9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BFB4-AA23-490E-AAE6-16C2BC35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A3F8-2256-40D1-A070-550EF205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7E4-1023-46D7-A13A-01B1D84C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F5D7-4A01-4593-9E7E-BBEDF93E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73B4-8093-4F7E-8C09-946FB892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9AEA-6590-4199-BCE7-6E23679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8B17-4F0B-4243-BF7C-49D3982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305-3F2A-4F62-8EF8-4A91201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C09C-47F2-4B90-B219-B2B9770F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4F0-8664-4745-9D65-5CEFA6D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E412-9747-4966-837F-84BA613DE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8D62-6F70-4351-BE2C-D218D12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FFAB-FEE1-4B82-8DAE-9501283B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D85-532D-4F7F-93AB-CAC8977B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CB04-22DB-4591-9D25-28C5CE25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7C54-8AAE-4671-9B5E-2342242E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BB4D-40A2-4390-ABC4-70D31DCE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9D6-FB73-4B9F-9B0E-33549111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8B0C-E8BA-44A2-A732-4BE5CA7D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D79E-6D3C-4DC2-A6FF-5F6084C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7C4-C3AA-45C8-A3FB-0E294DEF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D5E-EE52-44EF-9E00-583A2CC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B798-7F95-47FF-9AE8-D61AD48977F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0F79-7424-49E4-A2CA-1A01D0799CA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2637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岳林之秋”语文教学活动实践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708280"/>
            <a:ext cx="66978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奉化岳林中心小学         沈   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     </a:t>
            </a: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伯牙作为楚国著名的宫廷乐师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名满天下，虽然听者众多，但听到的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都是那些毫无价值的、没有意义的、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空虚的、肤浅的赞美，他始终觉得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人真正听懂他的琴声，所以独自一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来到山间排遣内心的孤独和寂寞，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Comic Sans MS"/>
              </a:rPr>
              <a:t>万万没想到，此时，此地，此人，钟子期，一个山野村夫却能听得懂他的琴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740640" y="4941720"/>
            <a:ext cx="1657080" cy="1743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80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95672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560" y="54864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子期死，伯牙谓世再无知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乃破琴绝弦，终身不复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451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63953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善鼓琴，钟子期善听。伯牙鼓琴，志在高山，钟子期曰：“善哉，峨峨兮若泰山！”志在流水，钟子期曰：“善哉，洋洋兮若江河！”伯牙所念，钟子期必得之。子期死，伯牙谓世再无知音，乃破琴绝弦，终身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谢谢！ 老师们辛苦了！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/>
          <p:nvPr/>
        </p:nvSpPr>
        <p:spPr>
          <a:xfrm>
            <a:off x="2411280" y="429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1484280"/>
            <a:ext cx="7920000" cy="38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炊烟袅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明月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春雨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白雪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芳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杨柳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云雾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霞光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832120"/>
            <a:ext cx="7921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徐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潇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萋萋                   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蒙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92720" y="2832120"/>
            <a:ext cx="17640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皎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皑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依依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灼灼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伯牙绝弦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Comic Sans MS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伯牙绝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／善／鼓琴，钟子期／善听。伯牙鼓琴，志在高山，钟子期曰：“善哉，峨峨兮／若／泰山！”志在流水，  钟子期曰：“善哉，洋洋兮／若／江河！”伯牙／所念，钟子期／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子期死，伯牙／谓／世／再无知音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乃／破琴／绝弦，终身／不复鼓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6280" y="1268280"/>
            <a:ext cx="4590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72440" y="981000"/>
            <a:ext cx="78984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伯牙善鼓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7240" y="981000"/>
            <a:ext cx="789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钟子期善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51804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伯牙鼓琴，志在高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钟子期曰：“善哉，峨峨兮若泰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611720" y="83664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志在流水，钟子期曰：“善哉，洋洋兮若江河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32000" y="2349360"/>
            <a:ext cx="6985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清风徐徐           明月皎皎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芳草萋萋           杨柳依依     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春雨潇潇           白雪皑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云雾蒙蒙           霞光灼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93000" y="1484280"/>
            <a:ext cx="458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54936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伯牙鼓琴，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：“ 善哉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志在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，钟子期曰 ：“善哉，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omic Sans MS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！”</a:t>
            </a:r>
            <a:r>
              <a:rPr b="0" lang="zh-CN" sz="2400" spc="-1" strike="noStrike">
                <a:solidFill>
                  <a:srgbClr val="ff0000"/>
                </a:solidFill>
                <a:latin typeface="Comic Sans MS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伯牙所念，钟子期必得之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28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14:04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6:59Z</dcterms:modified>
  <cp:revision>36</cp:revision>
  <dc:subject>六十铺中小学教育网http://www.lspjy.com</dc:subject>
  <dc:title>六十铺中小学教育网http://www.lspjy.com</dc:title>
</cp:coreProperties>
</file>