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media/image11.jpeg" ContentType="image/jpe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CC58-92B7-4E68-9594-0274D767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EF9-83EE-4361-9D70-53E0859A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9F9-5265-4EB3-9E6C-1AE4A74F8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C61-F7C3-4CE1-949C-4FCF9D7E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A17-8B3B-4E08-B1F0-B6DCEB5C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3EC-BBE0-4EF5-8211-8126D79D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C3D-4CE9-42FB-9B48-D8E14BE8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512-E324-4C9D-A708-AF284741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FB48-B3D9-4D3F-956A-A62DD1CA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882E-7839-4100-BDB8-9A1A7FDD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638-0314-41E7-A599-A1C5B34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CDBE-996D-43C1-A2D4-AA508230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2753-B701-47F1-A525-B4FE577DC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39680"/>
            <a:ext cx="8610480" cy="5410080"/>
            <a:chOff x="304920" y="139680"/>
            <a:chExt cx="8610480" cy="541008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04920" y="13968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0" y="3339720"/>
              <a:ext cx="2057400" cy="2057040"/>
            </a:xfrm>
            <a:prstGeom prst="wedgeEllipseCallout">
              <a:avLst>
                <a:gd name="adj1" fmla="val -73226"/>
                <a:gd name="adj2" fmla="val -486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7162920" y="3720960"/>
              <a:ext cx="1371600" cy="12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"/>
          <p:cNvSpPr txBox="1"/>
          <p:nvPr/>
        </p:nvSpPr>
        <p:spPr>
          <a:xfrm>
            <a:off x="3200400" y="1143000"/>
            <a:ext cx="34290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别饿坏了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那匹马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76520" y="5791320"/>
            <a:ext cx="5976720" cy="718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课标版小学语文六年级上册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520" y="1066680"/>
            <a:ext cx="3124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父    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5867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书页中分明多了几张毛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晚上，父亲对我说：“打你不为别的事，都像你这样白看书，人家怎么过日子？搬运队的马车夫需要马草，你可以扯马草换钱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中宋"/>
              </a:rPr>
              <a:t>父亲——善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0" name="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91504"/>
                <a:gd name="adj2" fmla="val 51634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语言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67080" y="5105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  <a:ea typeface="黑体"/>
              </a:rPr>
              <a:t>碧    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2286000"/>
            <a:ext cx="5486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华文仿宋"/>
              </a:rPr>
              <a:t>姑娘接过我的马草，提进了里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中宋"/>
              </a:rPr>
              <a:t>碧云——善解人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315200" y="1752480"/>
            <a:ext cx="990720" cy="2819520"/>
            <a:chOff x="7315200" y="1752480"/>
            <a:chExt cx="990720" cy="2819520"/>
          </a:xfrm>
        </p:grpSpPr>
        <p:sp>
          <p:nvSpPr>
            <p:cNvPr id="96" name=""/>
            <p:cNvSpPr/>
            <p:nvPr/>
          </p:nvSpPr>
          <p:spPr>
            <a:xfrm>
              <a:off x="7315200" y="1752480"/>
              <a:ext cx="990720" cy="2819520"/>
            </a:xfrm>
            <a:prstGeom prst="wedgeRoundRectCallout">
              <a:avLst>
                <a:gd name="adj1" fmla="val -119069"/>
                <a:gd name="adj2" fmla="val -18638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67480" y="1905120"/>
              <a:ext cx="762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66"/>
                  </a:solidFill>
                  <a:latin typeface="Arial"/>
                  <a:ea typeface="黑体"/>
                </a:rPr>
                <a:t>动作描写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3341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124080" y="3200040"/>
            <a:ext cx="5486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文几次写到了“别饿坏了那匹马”，其用意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00400" y="1981080"/>
            <a:ext cx="4038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探讨问题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543800" y="5334120"/>
            <a:ext cx="129528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1430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它在文中出现了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一次是“我”把马草卖给残疾青年，离开书摊时，青年嘱咐“我”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二次是青年看见“我”背着马草走向书摊时，吩咐妹妹碧云的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仿宋"/>
                <a:ea typeface="华文仿宋"/>
              </a:rPr>
              <a:t>第三次是“我”对青年说的话。“我”担心误了喂马时间而饿着马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09480" y="2209680"/>
            <a:ext cx="468360" cy="2619360"/>
            <a:chOff x="609480" y="2209680"/>
            <a:chExt cx="468360" cy="261936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609480" y="2209680"/>
              <a:ext cx="4395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4"/>
            <a:stretch/>
          </p:blipFill>
          <p:spPr>
            <a:xfrm>
              <a:off x="609480" y="3276360"/>
              <a:ext cx="46836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609480" y="4343400"/>
              <a:ext cx="466560" cy="48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 txBox="1"/>
          <p:nvPr/>
        </p:nvSpPr>
        <p:spPr>
          <a:xfrm>
            <a:off x="4419720" y="5791320"/>
            <a:ext cx="3047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善意的谎言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00cc00"/>
                </a:solidFill>
                <a:latin typeface="Arial"/>
                <a:ea typeface="黑体"/>
              </a:rPr>
              <a:t>别饿坏了那匹马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6705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楷体_GB2312"/>
              </a:rPr>
              <a:t>别饿坏了那匹马”既是课文的题目，也是推动故事发生的关键句。文章用“别饿坏了那匹马”贯穿全文，起到了层层推进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057400" y="4648320"/>
            <a:ext cx="1752480" cy="1800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876920" y="4572000"/>
            <a:ext cx="3124080" cy="1828800"/>
          </a:xfrm>
          <a:prstGeom prst="wedgeEllipseCallout">
            <a:avLst>
              <a:gd name="adj1" fmla="val -79930"/>
              <a:gd name="adj2" fmla="val -43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86400" y="4876920"/>
            <a:ext cx="18288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52320" y="1066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拓展训练：小练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6324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”推开了木板房的门，真相终于大白。“我”站在那一堆枯黄的马草前，脑海中也许会浮现出一幕幕往事；耳畔也许还会回响着守摊的残疾青年说过的每一句话；也许</a:t>
            </a:r>
            <a:r>
              <a:rPr b="1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…</a:t>
            </a:r>
            <a:r>
              <a:rPr b="0" lang="zh-CN" sz="2800" spc="-1" strike="noStrike">
                <a:solidFill>
                  <a:srgbClr val="008000"/>
                </a:solidFill>
                <a:latin typeface="华文仿宋"/>
                <a:ea typeface="华文仿宋"/>
              </a:rPr>
              <a:t> 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我”在这一刻都会想些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仿宋"/>
              </a:rPr>
              <a:t>请发挥你的想象，把它写下来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543800" y="5029200"/>
            <a:ext cx="1295280" cy="1319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95480" y="36828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Arial"/>
                <a:ea typeface="黑体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282680"/>
            <a:ext cx="2514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刻骨铭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毛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一如既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瞥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尴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12826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形容记忆深刻，永远不忘。多用于对别人的感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2273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口语，就是面值一角的人民币纸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8065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34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跟过去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73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一眼看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4067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处境困难，不好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315200" y="44830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5120" y="1904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34290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华文仿宋"/>
              </a:rPr>
              <a:t>课文主要讲了一件什么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1752480" cy="1724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2193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主要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2971800"/>
            <a:ext cx="754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主要写了酷爱读书的“我”在失去看书机会时，摆书摊的残疾青年谎称家中有马，买下“我”的马草，让“我”得以继续看书的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1676160" cy="1600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467480" y="5562720"/>
            <a:ext cx="10479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34290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文中出现了哪几个人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中宋"/>
              </a:rPr>
              <a:t>这些人物分别有什么样的性格特点呢？请从文中找出有关的内容加以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28800" y="22096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速读课文，回答问题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81680" y="1219320"/>
            <a:ext cx="1905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352320" y="914040"/>
            <a:ext cx="358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  <a:ea typeface="黑体"/>
              </a:rPr>
              <a:t>残疾青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25142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他依然宽厚地对我一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瞥见轮椅上的他正定定地看着我，“坐下慢慢看吧！”他说着指了指身旁的一只小凳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别打孩子！”年轻人竭力想从轮椅上挣扎起来阻止我父亲，“孩子看书不是坏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1447920"/>
            <a:ext cx="1524240" cy="2057400"/>
          </a:xfrm>
          <a:prstGeom prst="wedgeRoundRectCallout">
            <a:avLst>
              <a:gd name="adj1" fmla="val 74166"/>
              <a:gd name="adj2" fmla="val -425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09320" y="1295280"/>
            <a:ext cx="6629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他先是一愣，继而眼睛一亮，笑着对我说：“过来，让我看看你的马草。”他认真地看过马草后，冲里屋叫道：“碧云，你出来一下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别别别……”他急了，“碧云！碧云！”他用双手拼命摇着轮椅，想挡住我的路，“你放下！等碧云来拿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回来！”他在身后喊道，“那马会踢伤你的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残疾青年——宽厚、善良、善解人意，用心良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3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语言、动作、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733920"/>
            <a:ext cx="1447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我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0720" y="1599840"/>
            <a:ext cx="54104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我上小学五年级那年，学校不远处的书摊是我放学后流连忘返的地方。可是更多的时候，手无分文的我只能装作选书的样子，偷看几则小故事，然后溜之大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攥着马草换来的毛票，我立即奔向书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我”——喜爱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1690920" cy="2057400"/>
          </a:xfrm>
          <a:prstGeom prst="rect">
            <a:avLst/>
          </a:prstGeom>
          <a:ln w="0">
            <a:noFill/>
          </a:ln>
        </p:spPr>
      </p:pic>
      <p:grpSp>
        <p:nvGrpSpPr>
          <p:cNvPr id="78" name=""/>
          <p:cNvGrpSpPr/>
          <p:nvPr/>
        </p:nvGrpSpPr>
        <p:grpSpPr>
          <a:xfrm>
            <a:off x="7620120" y="1295280"/>
            <a:ext cx="838080" cy="2362320"/>
            <a:chOff x="7620120" y="1295280"/>
            <a:chExt cx="838080" cy="2362320"/>
          </a:xfrm>
        </p:grpSpPr>
        <p:sp>
          <p:nvSpPr>
            <p:cNvPr id="79" name=""/>
            <p:cNvSpPr/>
            <p:nvPr/>
          </p:nvSpPr>
          <p:spPr>
            <a:xfrm>
              <a:off x="7620120" y="1295280"/>
              <a:ext cx="838080" cy="2362320"/>
            </a:xfrm>
            <a:prstGeom prst="wedgeRoundRectCallout">
              <a:avLst>
                <a:gd name="adj1" fmla="val -60037"/>
                <a:gd name="adj2" fmla="val 62231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96080" y="1371600"/>
              <a:ext cx="6858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动作描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105520" y="1295280"/>
            <a:ext cx="2971800" cy="914400"/>
          </a:xfrm>
          <a:prstGeom prst="wedgeRoundRectCallout">
            <a:avLst>
              <a:gd name="adj1" fmla="val -68856"/>
              <a:gd name="adj2" fmla="val 96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76560" y="13712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华文中宋"/>
              </a:rPr>
              <a:t>心理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2742840"/>
            <a:ext cx="72388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可是迟了！我已经走进他家的后院，看见了一堆枯蔫焦黄的马草──这些日子我卖给他的所有的马草！那匹马呢？那匹香甜地吃着我的马草的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48006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这段话通过两个感叹句、两个问句写出了“我”见到马草后的震惊与感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6:47Z</dcterms:modified>
  <cp:revision>261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