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8.wmf" ContentType="image/x-wmf"/>
  <Override PartName="/ppt/media/image13.png" ContentType="image/png"/>
  <Override PartName="/ppt/media/image16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7.jpeg" ContentType="image/jpeg"/>
  <Override PartName="/ppt/media/image15.gif" ContentType="image/gif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F9A-A0FA-4F58-AADF-1BDD1ACC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09E-C082-4DC2-9FF5-9D8C0B3F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2CEB-62BE-49DB-9807-A0530C7E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0338-D3DF-46A4-A7C9-CDF97D7B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68B9-368A-403B-8DAB-E6768290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4B60-A0DB-445E-97FD-52A75857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4726-B4F0-4676-9F8D-E34C16E4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14FE-65F9-4279-AB08-C0FF8AD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7EF0-BB74-487D-9F51-DB278BD2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FCF5-6DF6-46E3-AEF0-08BABF17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ABBD-D223-4C19-BCEC-5EA626CE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2EAB-D611-479A-8586-E182691E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1754-CAC5-47A5-8BE0-3308A45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7B331-B88D-4864-845B-6E6DDC95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3F45-827A-40C1-AA98-B91E3B61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ED05-1538-4105-84CE-338622657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D731-69B2-4F96-89AC-CF809F6A1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D8F-7579-46D8-8C77-DC8045B6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78EE-D0BC-4656-8C52-9B479E45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454C-8365-4DEA-9F18-CAA76206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9C5-13B5-402A-AEB2-7C552E32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2A2-58AD-432F-AE1E-C49338E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620-5F15-4B35-9121-B86F24E9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2E39-CAE4-4B1E-97CD-2932BD50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7059-F2F0-4F6D-B846-B34F97E07EB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6D01-8D05-4416-9D77-43D18D1920AC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 flipH="1">
            <a:off x="8101080" y="404640"/>
            <a:ext cx="48744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71600" y="685800"/>
            <a:ext cx="792000" cy="619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 flipH="1">
            <a:off x="1828800" y="3886200"/>
            <a:ext cx="287280" cy="228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059280" y="404640"/>
            <a:ext cx="307800" cy="162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274920" y="620640"/>
            <a:ext cx="308160" cy="16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3505320" y="4005360"/>
            <a:ext cx="380880" cy="109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1979640" y="2421000"/>
            <a:ext cx="5472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唯一的听众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763640" y="333360"/>
            <a:ext cx="460872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779400" cy="7794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04920" y="2209680"/>
            <a:ext cx="8424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感情的朗读下面的短文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并研究相关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20160" y="990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探究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152280"/>
            <a:ext cx="8839080" cy="28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  灵   有  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小女孩因为长得又矮又瘦而被老师排除在合唱团之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躲在公园里伤心地流泪。她想：我为什么不能去唱歌呢？难道我真的唱得很难听吗？想着想着，小女孩就低声唱了起来，她唱了一支又一支，直到唱累了为止。“唱得真好！” 一个声音响了起来，“谢谢你，小姑娘，你让我渡过了一个愉快的下午。”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这时小姑娘惊呆了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话的老人说完就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女孩第二天下午再去时，那老人还坐在原来的位置上，满脸慈祥地看着她微笑。小女孩又唱起来，老人聚精会神地听着，一副陶醉其中的表情。最后他大声喝彩，说：“谢谢你，小姑娘，你唱得太棒了！”说完又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样过去了许多年后，小女孩成了大女孩，而且成了有名的歌星。但她忘不了公园里那个慈祥的老人。一个冬日的下午，她特意去公园找老人，令她失望的是那里只有一张小小的孤独的靠椅。后来才知道，老人早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是个聋子，都聋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了！”一个知情人告诉她。</a:t>
            </a:r>
            <a:r>
              <a:rPr b="1" lang="zh-CN" sz="2000" spc="-1" strike="noStrike" u="sng">
                <a:solidFill>
                  <a:srgbClr val="ff3399"/>
                </a:solidFill>
                <a:uFillTx/>
                <a:latin typeface="Arial"/>
              </a:rPr>
              <a:t>姑娘惊呆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2096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文章两次写到小姑娘惊呆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别说说 她“惊呆”的原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3809880"/>
            <a:ext cx="822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短文中的老人与《唯一的听众》中的老人有什么不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68200" y="103032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ahoma"/>
                <a:ea typeface="华文彩云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29600" y="1143000"/>
            <a:ext cx="609480" cy="619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4360" y="692280"/>
            <a:ext cx="28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9907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创新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2781360"/>
            <a:ext cx="7991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同学们，你在成长的过程中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一定也得到过许多人的帮助和关怀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选择一件写一写，表达你的感激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字左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flipH="1">
            <a:off x="7391520" y="1219320"/>
            <a:ext cx="838080" cy="728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3880" y="1295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9907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Tahoma"/>
                <a:ea typeface="华文彩云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286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请观察你身边最亲近人的一天，以《爱在我身边》为主题写一篇作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5670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25702" dir="1234696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1447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今天，我们能强健而正直地生活着，我们应该对那些在我们生命历程中用关爱扶持我们的人，用智慧启迪我们的人，用美德陶冶我们的人，用真情沐浴我们的人，心存感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373392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多一份感激，就少一份冷漠；多一份感激，就少一份虚荣；多一份感激，就多一份奉献</a:t>
            </a:r>
            <a:r>
              <a:rPr b="0" lang="zh-CN" sz="2400" spc="-1" strike="noStrike">
                <a:solidFill>
                  <a:srgbClr val="0000cc"/>
                </a:solidFill>
                <a:latin typeface="Tahoma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</a:t>
            </a:r>
            <a:r>
              <a:rPr b="0" lang="zh-CN" sz="2400" spc="-1" strike="noStrike">
                <a:solidFill>
                  <a:srgbClr val="0000cc"/>
                </a:solidFill>
                <a:latin typeface="华文行楷"/>
                <a:ea typeface="华文行楷"/>
              </a:rPr>
              <a:t>心存感激，是一种明朗的心境，一种人性的光辉，天空因此而变得湛蓝，空气因此而变得湿润，美好的事物因此而变得离我们很近很近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76212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ahoma"/>
                <a:ea typeface="华文彩云"/>
              </a:rPr>
              <a:t>心 存 感 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976320" cy="121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62520" cy="3241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724280" y="48769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4495680" y="0"/>
              <a:ext cx="4648320" cy="35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0" y="3505320"/>
              <a:ext cx="449568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4"/>
            <a:stretch/>
          </p:blipFill>
          <p:spPr>
            <a:xfrm>
              <a:off x="4495680" y="3505320"/>
              <a:ext cx="4648320" cy="33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4495680" cy="350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4495680" y="0"/>
            <a:ext cx="0" cy="685800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505320"/>
            <a:ext cx="9144000" cy="0"/>
          </a:xfrm>
          <a:prstGeom prst="line">
            <a:avLst/>
          </a:prstGeom>
          <a:ln w="1908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2819520"/>
            <a:ext cx="2286000" cy="1950840"/>
          </a:xfrm>
          <a:custGeom>
            <a:avLst/>
            <a:gdLst>
              <a:gd name="textAreaLeft" fmla="*/ 537120 w 2286000"/>
              <a:gd name="textAreaRight" fmla="*/ 1747080 w 2286000"/>
              <a:gd name="textAreaTop" fmla="*/ 229320 h 1950840"/>
              <a:gd name="textAreaBottom" fmla="*/ 1223640 h 19508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182600" y="2770200"/>
            <a:ext cx="3814920" cy="2608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4876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Arial"/>
                <a:ea typeface="华文彩云"/>
              </a:rPr>
              <a:t>巩固提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153280" y="1143000"/>
            <a:ext cx="631800" cy="631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26920" y="2276640"/>
            <a:ext cx="806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你理解下列词的含义吗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请把它们连成一段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华文中宋"/>
              </a:rPr>
              <a:t>蹑手蹑脚、懊恼、羞愧、抱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3520" y="220500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心理活动推动情节发展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正面和侧面相结合的表现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文中的老人不计名利、默默奉献的精      神；培养学生有自信、有毅力的品质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4420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e4a8"/>
                </a:solidFill>
                <a:latin typeface="华文彩云"/>
                <a:ea typeface="华文彩云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64320" y="533520"/>
            <a:ext cx="1579680" cy="1579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96480" y="1009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华文彩云"/>
              </a:rPr>
              <a:t>自主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74320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209680"/>
            <a:ext cx="8077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1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段中， “我”刚看见老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时， “我”有怎样的心理活动？第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段中， “我”又有怎样的心理活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（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2</a:t>
            </a:r>
            <a:r>
              <a:rPr b="1" lang="zh-CN" sz="4000" spc="-1" strike="noStrike">
                <a:solidFill>
                  <a:srgbClr val="ff3399"/>
                </a:solidFill>
                <a:latin typeface="Tahoma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“我”的前后变化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0120" y="1066680"/>
            <a:ext cx="1216080" cy="717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28600" y="1752480"/>
            <a:ext cx="86011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你</a:t>
            </a: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想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人的心理活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天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久以后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来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20160" y="1035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1100160"/>
            <a:ext cx="26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1066680"/>
            <a:ext cx="1212840" cy="717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72800" y="10191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华文彩云"/>
                <a:ea typeface="华文彩云"/>
              </a:rPr>
              <a:t>合作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37360" y="2057400"/>
            <a:ext cx="54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认为这篇课文的中心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是谁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3809880"/>
            <a:ext cx="864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中妹妹的角色是必须有的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怎样理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比一比：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思考一下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我一直珍藏着一位老人美好的心灵”这句话中“美好的心灵”的含义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1:09:45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7:06Z</dcterms:modified>
  <cp:revision>57</cp:revision>
  <dc:subject>六十铺中小学教育网http://www.lspjy.com</dc:subject>
  <dc:title>六十铺中小学教育网http://www.lspjy.com</dc:title>
</cp:coreProperties>
</file>