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himes.wav" ContentType="audio/x-wav"/>
  <Override PartName="/ppt/media/image13.png" ContentType="image/png"/>
  <Override PartName="/ppt/media/image12.jpeg" ContentType="image/jpeg"/>
  <Override PartName="/ppt/media/image6.png" ContentType="image/png"/>
  <Override PartName="/ppt/media/image7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projctor.wav" ContentType="audio/x-wav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D4B-E6E1-4260-A614-166497258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2BAC-F953-4A7B-B488-9F18A9FA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D2E1-32A5-42D6-9BA0-1D9C81DA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F4D-DB99-43CA-BF08-EBBB69640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780F-55BD-42EF-AD7F-6F05109D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B01-6FCC-47CB-A69C-838F9590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9EC2-5FDC-4398-98BC-69D96187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EC9E-3B24-4DC3-9659-A9406F00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944A-4955-4161-8E3F-0A18B1DF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9416-779E-4B88-AF4B-D499AE7B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9CAA-2DA0-42D1-BA27-4F2A74C6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7AA2-0877-4052-B39D-9AEBB710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ED5F-F786-4AC4-93D6-BD0A4E58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FC27-23E0-4B5B-927B-0AE4D51B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7D6BC-E3C1-4DAD-A706-0F7BB20D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6F7E-58CA-48E0-826D-2B7966127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8C52-0DD4-4737-9487-F02749041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79FBC-709E-4388-917C-39F8602A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99FD2-B997-43CD-ADDE-8E0334A3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42CF6-8152-46FB-BE36-23BFB7C8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D767-99DC-4038-874A-7FEED0BF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5690A-93FA-40F9-AF9D-B44C4E49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8AE0-E507-4D7C-9B1A-FB4E6D7D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A2DA9-9A8C-4452-B0CC-2D60D5F2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1880D-D528-4A15-8970-D2F24B46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B9C7-1950-4831-AC9B-3BF86B98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A177-3EDE-4F0B-8592-B5B0AAC6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2F57D-9C13-4952-AB86-B477123A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385DE-BD49-49FC-98EA-6CC86CC3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7C3A3-1A42-4FA8-8FE3-E2006E4B4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2AE-D0A5-4545-A6FA-FB5ED6AA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372A-22D6-455A-894B-2192892E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0D2-CDB0-41AF-A454-E0CDF9C9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6C8-91EE-43E4-9F8C-6B439EE8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E75-567F-41BD-8AE5-60B841AD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EBE-8BC9-458D-998D-24BE12F9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5A52-443E-4125-A3EE-B11B431A03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6F98-A5FE-4DEB-A6DE-D3A5FA6710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9369-E4E3-444A-AD30-F49B877DFC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1547640" y="1268280"/>
            <a:ext cx="5838840" cy="197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大瀑布的葬礼</a:t>
            </a:r>
            <a:endParaRPr b="1" lang="en-US" sz="8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9144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22860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它在群山之中</a:t>
            </a:r>
            <a:r>
              <a:rPr b="1" lang="zh-CN" sz="5400" spc="-1" strike="noStrike" u="sng">
                <a:solidFill>
                  <a:srgbClr val="660033"/>
                </a:solidFill>
                <a:uFillTx/>
                <a:latin typeface="Times New Roman"/>
                <a:ea typeface="黑体"/>
              </a:rPr>
              <a:t>无奈地垂下了头，像生命垂危的老人一般，形容枯槁，奄奄一息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7467480" y="609588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3520" y="2438280"/>
            <a:ext cx="80769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这一闻名世界的大瀑布是怎样被葬送的</a:t>
            </a: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?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6200" y="189000"/>
            <a:ext cx="2489400" cy="2160360"/>
            <a:chOff x="106200" y="189000"/>
            <a:chExt cx="2489400" cy="2160360"/>
          </a:xfrm>
        </p:grpSpPr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106200" y="189000"/>
              <a:ext cx="187992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722160" y="828720"/>
              <a:ext cx="18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华文隶书"/>
                </a:rPr>
                <a:t>小组学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804960"/>
            <a:ext cx="800100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主要原因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、建水电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　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2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、水资源浪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　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3</a:t>
            </a:r>
            <a:r>
              <a:rPr b="1" lang="zh-CN" sz="4800" spc="-1" strike="noStrike">
                <a:solidFill>
                  <a:srgbClr val="006600"/>
                </a:solidFill>
                <a:latin typeface="隶书"/>
                <a:ea typeface="隶书"/>
              </a:rPr>
              <a:t>、破坏森林、乱砍滥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11280" y="2133720"/>
            <a:ext cx="76327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几年过去，塞特凯达斯大瀑布逐渐枯竭，即使在汛期，也见不到昔日雄奇的气势。它在群山之中无奈地垂下了头，像生命垂危的老人，形容枯槁，奄奄一息。游人们常常乘兴而来，失望而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200240" y="990720"/>
            <a:ext cx="6972120" cy="13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昔日     雄伟壮观 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00240" y="2971800"/>
            <a:ext cx="68292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隶书"/>
              </a:rPr>
              <a:t>如今     逐渐枯竭 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62120" y="4800600"/>
            <a:ext cx="7886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保护生态环境  保护地球 </a:t>
            </a:r>
            <a:endParaRPr b="1" lang="en-US" sz="54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1" strike="noStrike">
              <a:ln w="1908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836640"/>
            <a:ext cx="77040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塞特凯达斯大瀑布曾经是怎样一条瀑布？现在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这样气魄雄伟的瀑布为什么会被葬送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巴西总统为什么要亲自主持葬礼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为大瀑布举行葬礼有什么重要意义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14400" y="156996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让塞特凯达斯大瀑布的悲剧不再重演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87640" y="5229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533520"/>
            <a:ext cx="8686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塞特凯达斯大瀑布曾经是世界上流量最大的瀑布，汹涌的河水紧贴悬崖咆哮而下，滔滔不绝，一泻千里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533520"/>
            <a:ext cx="868680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6600" spc="-1" strike="noStrike">
                <a:solidFill>
                  <a:srgbClr val="ff3300"/>
                </a:solidFill>
                <a:latin typeface="黑体"/>
                <a:ea typeface="黑体"/>
              </a:rPr>
              <a:t>塞特凯达斯大瀑布曾经是世界上流量最大的瀑布，汹涌的河水紧贴悬崖</a:t>
            </a:r>
            <a:r>
              <a:rPr b="1" lang="zh-CN" sz="6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咆哮而下，滔滔不绝，一泻千里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04920" y="76212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每秒钟有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1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万立方米的水从几十米的高处飞流直下，落地撞开万朵莲花，溅起的水雾飘飘洒洒，水声震耳欲聋。据说在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30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公里外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瀑布的巨响还清晰可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5147"/>
            </a:gs>
            <a:gs pos="100000">
              <a:srgbClr val="ddebc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762120"/>
            <a:ext cx="86104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每秒钟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1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万立方米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的水从几十米的高处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飞流直下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，落地撞开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万朵莲花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，溅起的水雾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飘飘洒洒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，水声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震耳欲聋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。据说在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30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公里外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瀑布的巨响还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清晰可闻</a:t>
            </a:r>
            <a:r>
              <a:rPr b="1" lang="zh-CN" sz="5400" spc="-1" strike="noStrike">
                <a:solidFill>
                  <a:srgbClr val="cc66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533520"/>
            <a:ext cx="82296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水以立方米为计量单位，即长、宽、高皆为一米。相当于一千公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立方米的水净重一吨或一千公斤。如果把家里的浴缸灌满水五次，所耗用的水量便约为一立方米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457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长期以来，塞特凯达斯瀑布一直是巴西和巴拉圭人民的骄傲。世界各地的观光者纷至沓来，在这从天而降的巨大水帘面前，置身于细细的水雾中，感受着这世外桃源的清新空气，游客们常常为此陶醉不已，流连往返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9144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54936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它在群山之中无奈地垂下了头，像生命垂危的老人一般，形容枯槁，奄奄一息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4:18:57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8:31Z</dcterms:modified>
  <cp:revision>43</cp:revision>
  <dc:subject>六十铺中小学教育网http://www.lspjy.com</dc:subject>
  <dc:title>六十铺中小学教育网http://www.lspjy.com</dc:title>
</cp:coreProperties>
</file>