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229-19C7-406A-902B-79C65B29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5EF-3196-4814-BD64-40944B86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CAC-EB04-4C02-92B1-2FE65BA7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D76-11A0-414E-91F6-81119069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B9C6-6BE8-4219-9C72-4C279965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D1E9-ACE7-4344-9F46-7FECEA1F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55FD-4712-4B40-B814-6A8F6CE6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836B-1D43-4920-A36B-E9ECCC6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E583-B3DE-4847-9069-31B8E341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30A-26C3-455E-BC20-3EBA079E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DDCE-37E5-4BCE-9AC8-0B841C62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367-97BA-4664-80C3-D0B13BDB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528F-B12E-4749-AEF6-0A96A1DB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3080-0662-4765-9EE5-3D3D8996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C0E6-FC2B-4972-A38D-0C41EA8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648A-E299-45D5-A8A9-B874D810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4661F-8F7F-4338-95B7-4C096D90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F08-5793-47B6-BE86-A8FA7493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F772-4E47-42C3-890D-8A550EC5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498A-8258-41A6-A263-7E7A01FF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328-9D93-4C67-AA1C-626F8CCB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7618-AC49-467B-AA7E-0D2DD175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49A-0E9B-495C-80FE-4F150F19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66D-AC4B-4AD0-9979-355B31FB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C994-0F29-43A0-B43D-F45DD26E0F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1824-9A1D-48EC-8DF0-764968A1F1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5438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209680" y="1676520"/>
            <a:ext cx="4610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ff">
                    <a:alpha val="50000"/>
                  </a:srgbClr>
                </a:solidFill>
                <a:latin typeface="宋体"/>
              </a:rPr>
              <a:t>山 中 访 友</a:t>
            </a:r>
            <a:endParaRPr b="0" lang="en-US" sz="66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ff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752480" y="4648320"/>
            <a:ext cx="1219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云雀——弟弟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010331030316202c2ba9_1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09480" y="6094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石头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990720" y="106668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落叶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267080" y="240048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花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010402030205008c918_1" descr=""/>
          <p:cNvPicPr/>
          <p:nvPr/>
        </p:nvPicPr>
        <p:blipFill>
          <a:blip r:embed="rId1"/>
          <a:stretch/>
        </p:blipFill>
        <p:spPr>
          <a:xfrm>
            <a:off x="-1522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828800" y="525780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阵雨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030301021003117_1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3886200" y="32004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老柏树</a:t>
            </a:r>
            <a:endParaRPr b="0" lang="en-US" sz="24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7621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蚂蚁——小弟弟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86200" y="457200"/>
            <a:ext cx="525780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古桥——老朋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树林——知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山泉——姐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溪流——妹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白云——大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瀑布——大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悬崖——爷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云雀——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石头、落叶、小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阵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老柏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cc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ff"/>
                </a:solidFill>
                <a:latin typeface="Times New Roman"/>
              </a:rPr>
              <a:t>蚂蚁小弟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 rot="5400000">
            <a:off x="168840" y="2723400"/>
            <a:ext cx="2247840" cy="15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山中访友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685800" y="533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       </a:t>
            </a: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品一品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23520" y="2666880"/>
            <a:ext cx="5867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所说的山中访友，不就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吗，那我把题目改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中看景”，你觉得怎么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48720" y="5791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914400" y="609480"/>
            <a:ext cx="1828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朗读比赛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5627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0060d"/>
                </a:solidFill>
                <a:latin typeface="Times New Roman"/>
              </a:rPr>
              <a:t>（分甲乙两组，每组选派一名选手，读完后请两组派代表进行点评）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-609480" y="33526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点评参考（一分为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吐字清晰，语音准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语速适中，语气舒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轻重音处理以及停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20060d"/>
                </a:solidFill>
                <a:latin typeface="Times New Roman"/>
              </a:rPr>
              <a:t>、课文感情韵味的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</a:rPr>
              <a:t>放声自由朗读，而后小组研讨</a:t>
            </a:r>
            <a:r>
              <a:rPr b="0" lang="zh-CN" sz="5400" spc="-1" strike="noStrike">
                <a:solidFill>
                  <a:srgbClr val="ff66cc"/>
                </a:solidFill>
                <a:latin typeface="Times New Roman"/>
              </a:rPr>
              <a:t>：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590560"/>
            <a:ext cx="7429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扫清朗读时遇到的文字障碍 ， 小组中仍未能解决的请上来写到黑板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d5f9d8"/>
                </a:solidFill>
                <a:latin typeface="Times New Roman"/>
              </a:rPr>
              <a:t>、找一找作者拜访了哪些朋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写一写   说一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23880" y="23619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采用的是说话方式向他的大自然朋友打招呼，我们也尝试一下用“你好”写一句话，向我们的大自然朋友打一下招呼，好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比如松树、小草、白鹭……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328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838440" y="1447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学习收获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523520" y="274284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5f9d8"/>
                </a:solidFill>
                <a:latin typeface="Times New Roman"/>
              </a:rPr>
              <a:t>作者进山看景，像是走到了亲朋好友当中，他为什么把山林当成家，他想告诉我们什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8384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隶书"/>
              </a:rPr>
              <a:t>作业布置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00200" y="1980720"/>
            <a:ext cx="6781680" cy="39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选一个好天气，与好友结伴到郊外走走，去触摸大自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假如你是某一景物，面对来往形形色色的游人，你对游人说说心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有感情地朗读《山中访友》两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小桥流水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3124080" y="53352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66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宋体"/>
              </a:rPr>
              <a:t>古桥——老朋友</a:t>
            </a:r>
            <a:endParaRPr b="0" lang="en-US" sz="2400" spc="1" strike="noStrike">
              <a:ln cap="sq" w="9360">
                <a:solidFill>
                  <a:srgbClr val="ff66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natureqqi6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895480" y="533412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树林——知己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7632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a1bd69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4120" y="48769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山泉——姐姐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Times New Roman"/>
              </a:rPr>
              <a:t>溪流——妹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010501030321062c2c25_1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914400" y="594360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白云——大嫂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81680" y="380880"/>
            <a:ext cx="1905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380520"/>
            <a:ext cx="556272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5562720" cy="2666880"/>
          </a:xfrm>
          <a:prstGeom prst="rect">
            <a:avLst/>
          </a:prstGeom>
          <a:ln w="0">
            <a:noFill/>
          </a:ln>
        </p:spPr>
      </p:pic>
      <p:pic>
        <p:nvPicPr>
          <p:cNvPr id="113" name="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0" y="5335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瀑布大哥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743200" y="304920"/>
            <a:ext cx="27432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悬崖——爷爷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4:36:26Z</dcterms:created>
  <dc:creator>Tomas</dc:creator>
  <dc:description/>
  <dc:language>en-US</dc:language>
  <cp:lastModifiedBy>微软用户</cp:lastModifiedBy>
  <dcterms:modified xsi:type="dcterms:W3CDTF">2010-06-20T04:10:28Z</dcterms:modified>
  <cp:revision>59</cp:revision>
  <dc:subject/>
  <dc:title>山中访友</dc:title>
</cp:coreProperties>
</file>