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D261-4663-4A8C-BFD3-AAE54F26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43B-0E0A-4356-987F-8DC6B031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2C41-D409-4100-B6E1-114D5292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E39-5807-4813-8CB7-970F52A8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3652-BFB9-40CB-B511-42A9404B5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6A7A-53B7-483E-9461-D7DA35BB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6EE6-99B6-420A-AF12-E84809A6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D35C-4DE7-426A-A2CC-1FF1F4C4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0610-A105-4D93-BC7D-327662D7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711F-ECCB-4C43-ABC6-4F390806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102E-CF81-4484-B3A1-F837633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B7E-C623-4DC5-A723-38DC4E3A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DD3-1DA1-41A1-925A-961553A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B0CA-62B4-48EA-9081-1FA66281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899B-4DC7-4E0C-B4F6-456AED7F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5AE3-85DB-4F28-8ADC-7A6314B1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D1916-ABBC-4A4F-BE2B-A3BA397C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AC7-22EA-4E46-A6D0-16712EB2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A7B-A8DC-4D04-8F0E-9D8ECA06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127E-7647-40C6-A9D4-1EC6CA87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763-437F-40E6-BC13-A89C014E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598-24D8-464E-9108-E7B6477D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863-116A-40E1-8528-3F565D70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8855-73D5-49E2-9A3E-35BD2F7E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123E-F2A6-49F8-B86D-7733D3B3BC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7D24-7E33-4683-98F2-BD0EF42FEF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90720" y="2362320"/>
            <a:ext cx="40701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彩色的翅膀</a:t>
            </a:r>
            <a:endParaRPr b="1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16000" y="33336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人教版语文六年级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(</a:t>
            </a: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上</a:t>
            </a: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)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多媒体课件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510552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课文为什么要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“彩色的翅膀”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为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华文仿宋"/>
              </a:rPr>
              <a:t>课题有两层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一是以彩色的翅膀借代蝴蝶等小昆虫，强调了这些小昆虫在改造海岛环境、丰富战士生活方面所起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二是以彩色的翅膀象征战士丰富多彩、富于革命理想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086600" y="1371600"/>
            <a:ext cx="1676520" cy="3505320"/>
            <a:chOff x="7086600" y="1371600"/>
            <a:chExt cx="1676520" cy="350532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7086600" y="1371600"/>
              <a:ext cx="16765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7086600" y="320040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04920" y="1066680"/>
            <a:ext cx="8610480" cy="5410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62120" y="1676520"/>
            <a:ext cx="3276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请你欣赏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黑体"/>
              </a:rPr>
              <a:t>: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3048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《军港之夜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43040" y="1371600"/>
            <a:ext cx="3352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86200" y="2819160"/>
            <a:ext cx="4648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摘录精彩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华文仿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华文仿宋"/>
                <a:ea typeface="华文仿宋"/>
              </a:rPr>
              <a:t>．给宝石岛的战士写一封信，可以刊登在黑板报上，也可以投稿给编辑部，有条件的可以把信发布在网站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31240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228600" y="22856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碧空如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矮墩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水落石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精灵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819520" y="1447920"/>
            <a:ext cx="2971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词语积累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2362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青蓝色的天空像洗过一样明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66880" y="289548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形容矮而粗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34290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水落下去，石头就露出来。比喻真相大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机警聪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172200" y="44956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362320" y="2076480"/>
            <a:ext cx="45720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自读课文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,</a:t>
            </a:r>
            <a:r>
              <a:rPr b="0" i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理解大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34290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故事发生在什么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课文主要讲述了哪几件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91960" y="189000"/>
            <a:ext cx="6782040" cy="1508040"/>
            <a:chOff x="291960" y="189000"/>
            <a:chExt cx="6782040" cy="1508040"/>
          </a:xfrm>
        </p:grpSpPr>
        <p:sp>
          <p:nvSpPr>
            <p:cNvPr id="95" name=""/>
            <p:cNvSpPr/>
            <p:nvPr/>
          </p:nvSpPr>
          <p:spPr>
            <a:xfrm>
              <a:off x="291960" y="1622520"/>
              <a:ext cx="6782040" cy="74520"/>
            </a:xfrm>
            <a:prstGeom prst="rect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3" descr="我会读pic_227543"/>
            <p:cNvPicPr/>
            <p:nvPr/>
          </p:nvPicPr>
          <p:blipFill>
            <a:blip r:embed="rId2"/>
            <a:stretch/>
          </p:blipFill>
          <p:spPr>
            <a:xfrm>
              <a:off x="407880" y="189000"/>
              <a:ext cx="161928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2273400" y="785880"/>
              <a:ext cx="24480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读一读</a:t>
              </a:r>
              <a:endParaRPr b="1" lang="en-US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143000"/>
            <a:ext cx="2514600" cy="2590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3657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故事发生在去宝石岛的路上和宝石岛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447920" y="1905120"/>
            <a:ext cx="30477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地点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029200" y="2666520"/>
            <a:ext cx="609480" cy="11430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4648320"/>
            <a:ext cx="914400" cy="91440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791320" y="3809880"/>
            <a:ext cx="2361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71800" y="1219320"/>
            <a:ext cx="2895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主要事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85800" y="2743200"/>
            <a:ext cx="3657600" cy="3429000"/>
            <a:chOff x="685800" y="2743200"/>
            <a:chExt cx="3657600" cy="3429000"/>
          </a:xfrm>
        </p:grpSpPr>
        <p:sp>
          <p:nvSpPr>
            <p:cNvPr id="106" name=""/>
            <p:cNvSpPr/>
            <p:nvPr/>
          </p:nvSpPr>
          <p:spPr>
            <a:xfrm>
              <a:off x="685800" y="2743200"/>
              <a:ext cx="3657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一）战士小高探亲回来带小昆虫上岛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838080" y="3886200"/>
              <a:ext cx="327672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4800600" y="2743200"/>
            <a:ext cx="3505320" cy="3457440"/>
            <a:chOff x="4800600" y="2743200"/>
            <a:chExt cx="3505320" cy="3457440"/>
          </a:xfrm>
        </p:grpSpPr>
        <p:sp>
          <p:nvSpPr>
            <p:cNvPr id="109" name=""/>
            <p:cNvSpPr/>
            <p:nvPr/>
          </p:nvSpPr>
          <p:spPr>
            <a:xfrm>
              <a:off x="4800600" y="2743200"/>
              <a:ext cx="342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二）岛上战士开尝瓜会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5"/>
            <a:stretch/>
          </p:blipFill>
          <p:spPr>
            <a:xfrm>
              <a:off x="5029200" y="3886200"/>
              <a:ext cx="3276720" cy="2314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1219320"/>
            <a:ext cx="4114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结识战士“小高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239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他把他的大提包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在一边，怀里紧紧地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抱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着一只纸箱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4290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华文仿宋"/>
              </a:rPr>
              <a:t>海面上波涛起伏，船身前后晃荡，小高担心纸箱被损坏，纸箱里装着的小昆虫不能上岛，心中着急，所以把纸箱抱在怀里。这句话有力地说明了小昆虫在小高心中的重要地位，也为下文揭开小高的秘密作了铺垫。句中“扔”与“抱”形成了鲜明的对比，突出了小高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13716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他笑嘻嘻地说：“我就不相信，这些小精灵会不爱我们祖国的海岛，会不愿在这里安居乐业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297180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仿宋_GB2312"/>
              </a:rPr>
              <a:t>小高相信，经过战士们的努力，岛上环境条件差、生活艰苦的面貌一定会改变；他也相信，小昆虫一定会在海岛上安居乐业。这句话表面上是赞扬小昆虫，实际上是小高内心的表白：自己热爱祖国海岛，决心用自己的双手把海岛建设成美丽的家园。这句话点明了文章的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895480"/>
            <a:ext cx="1295280" cy="3048120"/>
            <a:chOff x="457200" y="2895480"/>
            <a:chExt cx="1295280" cy="30481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57200" y="28954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12952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19520" y="14475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海岛“尝瓜会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28954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战士们都笑着，用两个指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捏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一小片来，细细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端详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轻轻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闻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慢慢地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着，不住发出啧啧的赞叹声。好像有一股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仿宋_GB2312"/>
              </a:rPr>
              <a:t>甘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仿宋_GB2312"/>
              </a:rPr>
              <a:t>，流进了每个战士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19810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3429000"/>
            <a:ext cx="67816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仿宋"/>
              </a:rPr>
              <a:t>这里写出了战士们收获西瓜后喜悦、激动、自豪的心情，表现了他们对自己劳动成果的珍爱。战士的感情用“捏起”“端详”“闻”“咬”等一连串动词表现了出来。当中好像有一股甘泉，流进了他们的心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752480"/>
            <a:ext cx="7086600" cy="1219320"/>
            <a:chOff x="914400" y="1752480"/>
            <a:chExt cx="7086600" cy="1219320"/>
          </a:xfrm>
        </p:grpSpPr>
        <p:sp>
          <p:nvSpPr>
            <p:cNvPr id="125" name=""/>
            <p:cNvSpPr/>
            <p:nvPr/>
          </p:nvSpPr>
          <p:spPr>
            <a:xfrm>
              <a:off x="2209680" y="1752480"/>
              <a:ext cx="57913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901"/>
                </a:spcBef>
                <a:buClr>
                  <a:srgbClr val="333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Arial"/>
                </a:rPr>
                <a:t>作者为什么把战士们吃瓜的情景写得那么详细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914400" y="1828800"/>
              <a:ext cx="1143000" cy="103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"/>
          <p:cNvSpPr/>
          <p:nvPr/>
        </p:nvSpPr>
        <p:spPr>
          <a:xfrm>
            <a:off x="457200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全套免费课件下载地址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六十铺中小学教育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微软用户</cp:lastModifiedBy>
  <dcterms:modified xsi:type="dcterms:W3CDTF">2010-07-10T04:37:02Z</dcterms:modified>
  <cp:revision>2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