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gif" ContentType="image/gif"/>
  <Override PartName="/ppt/media/image5.jpeg" ContentType="image/jpeg"/>
  <Override PartName="/ppt/media/image12.gif" ContentType="image/gif"/>
  <Override PartName="/ppt/media/image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37A-4D46-4910-A4FF-1D4041F0E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742-B34B-4572-BBCD-C450B3C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116-11C7-4A43-8FE6-0BFA4913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0C8-771B-4533-93E4-81B4B303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ABA-3763-4F40-9A68-AA957AE0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414-928D-4B2E-93EA-5BF201CA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DEF-798F-46C7-A8B3-C54E261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32F-03A8-40C2-9770-136C23A4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99C-4E7E-4EEF-AB92-BA0F0810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ABE-CB25-438F-8FCC-EBAA4E7F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EBD-AF99-492E-A77E-AAACEEC3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908-88A3-4316-B04E-95F59FD5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D18B-ABB4-49DF-B9DC-523742A17C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349360"/>
            <a:ext cx="39182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怀念母亲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52680" y="251424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对“祖国母亲”</a:t>
            </a:r>
            <a:br>
              <a:rPr sz="5400"/>
            </a:br>
            <a:r>
              <a:rPr b="1" i="1" lang="zh-CN" sz="5400" spc="-1" strike="noStrike">
                <a:solidFill>
                  <a:srgbClr val="ff0066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52120" y="2895480"/>
            <a:ext cx="6629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华文仿宋"/>
                <a:ea typeface="华文仿宋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152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、我的祖国母亲，我是第一次离开她。不知道为什么，我这个母亲也频来入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238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仿宋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464832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华文中宋"/>
                <a:ea typeface="华文中宋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447920" y="5029200"/>
            <a:ext cx="2333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的中国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380880"/>
            <a:ext cx="8305920" cy="5459400"/>
            <a:chOff x="457200" y="380880"/>
            <a:chExt cx="8305920" cy="5459400"/>
          </a:xfrm>
        </p:grpSpPr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4343400" y="380880"/>
              <a:ext cx="4419720" cy="545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57200" y="380880"/>
              <a:ext cx="3429000" cy="424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0" y="914400"/>
            <a:ext cx="2666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4186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隶书"/>
              </a:rPr>
              <a:t>国学大师——季羡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485720"/>
            <a:ext cx="5715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858000" y="1181160"/>
            <a:ext cx="1695600" cy="4495320"/>
            <a:chOff x="6858000" y="1181160"/>
            <a:chExt cx="1695600" cy="449532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6858000" y="3238200"/>
              <a:ext cx="169560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6858000" y="1181160"/>
              <a:ext cx="1682640" cy="1957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2743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14400" y="3352680"/>
            <a:ext cx="6934320" cy="1282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96080" y="685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6680" y="205740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真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4495680"/>
            <a:ext cx="198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ǐ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寝不安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05740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频来入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4495680"/>
            <a:ext cx="2057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méng l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朦    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2057400"/>
            <a:ext cx="1447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q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4956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b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可见一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2057400"/>
            <a:ext cx="1143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p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篇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1160" y="2971800"/>
            <a:ext cx="10666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词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积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华文中宋"/>
              </a:rPr>
              <a:t>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352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22860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0400" y="33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809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238880" y="144792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533376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52388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2590560" cy="29718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294920" y="4648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971800" y="259092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两位母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715000" y="205740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生身母亲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791320" y="3352680"/>
            <a:ext cx="220968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祖国母亲</a:t>
            </a:r>
            <a:endParaRPr b="1" i="1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3520" y="4343400"/>
            <a:ext cx="5790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对“生身母亲”</a:t>
            </a:r>
            <a:br>
              <a:rPr sz="5400"/>
            </a:b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黑体"/>
              </a:rPr>
              <a:t>的感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华文中宋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403848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7720" y="2895480"/>
            <a:ext cx="76964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“怅望灰天”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137160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２、我怅望灰天，在泪光里，幻出母亲的面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13364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6:48Z</dcterms:modified>
  <cp:revision>270</cp:revision>
  <dc:subject/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