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8784-633C-40FC-9A35-BED9BC48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5B7-8B4C-495C-B787-B44E9413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DE3-9522-4841-ACEF-EF989121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7747-CDA3-43BE-B62C-3CDBDC7E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B0C-1559-47EF-9C23-BDB007B6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109-1BCE-4F92-81AE-F2919465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83EC-7C03-4902-8C40-FBB67C1B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03B-745E-4CDD-90A7-C728F9E4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504-24CF-40E7-83A5-B9813717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A93-54D4-438C-AB41-27689C3C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DF64-97BF-4002-AB4D-A35C7438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B78-7070-40D5-8FDB-5C152DC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1EDE-8B45-40A5-AA10-E7447B9A5B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YW0918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23880" y="4876920"/>
            <a:ext cx="72392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752480" y="5029200"/>
            <a:ext cx="6858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lin ang="13500000"/>
                </a:gradFill>
                <a:latin typeface="汉鼎简姚体"/>
              </a:rPr>
              <a:t>我的伯父鲁迅先生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lin ang="13500000"/>
              </a:gradFill>
              <a:latin typeface="汉鼎简姚体"/>
              <a:ea typeface="汉鼎简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070760" y="838080"/>
            <a:ext cx="549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40328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的确，伯父就是这样的一个人，他为自己想的少，为别人想得多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那时侯，我有点惊异了，为什么伯父得到这么人的爱戴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比较下面句子，并说一说，哪个句子写得好？为什么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呆呆地望着来来往往吊唁的人，心　里非常悲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呆呆地望着来来往往吊唁的人，想到我就要永远见不到伯父的面了，听不到他的声音了，也得不到他的爱抚了，泪珠就一滴一滴地掉下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41148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41148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57200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can0008" descr="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2361600">
            <a:off x="5830920" y="-68400"/>
            <a:ext cx="2954160" cy="3429000"/>
          </a:xfrm>
          <a:prstGeom prst="cloudCallout">
            <a:avLst>
              <a:gd name="adj1" fmla="val -59601"/>
              <a:gd name="adj2" fmla="val 433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286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哈哈，还是我的记性好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211932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想，四周围黑洞洞的，还不容易碰壁吗？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20574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周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8680" y="205740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黑洞洞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8051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碰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4849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4T08:44:25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1:31Z</dcterms:modified>
  <cp:revision>12</cp:revision>
  <dc:subject>六十铺中小学教育网http://www.lspjy.com</dc:subject>
  <dc:title>六十铺中小学教育网http://www.lspjy.com</dc:title>
</cp:coreProperties>
</file>