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2.jpeg" ContentType="image/jpeg"/>
  <Override PartName="/ppt/media/image1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13.jpeg" ContentType="image/jpeg"/>
  <Override PartName="/ppt/media/image10.gif" ContentType="image/gif"/>
  <Override PartName="/ppt/media/image1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C66B-9F1E-4331-A6D9-36EEA7A5E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8C57-9B52-4B9D-976F-F00C4E5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7EF-7125-4B8A-8578-9EE5E0D4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424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1760" y="275904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63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424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1760" y="4402080"/>
            <a:ext cx="253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286C-6868-4F8E-A105-43EB24876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C7C-6C88-43BA-B4B7-98DB4175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8EB-5234-4E59-BCC9-AB3982C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70B4-602B-451C-A2B4-A1BF85B3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F996-40FB-4378-B6AF-394614C8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3760" y="1386000"/>
            <a:ext cx="786132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250E-2F5E-4F64-94ED-120A49BF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6B2-0DBD-4003-9C87-824C7BBE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4040" y="440208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F0F-CC82-4BBC-A4D5-C1E2EE17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636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4040" y="2759040"/>
            <a:ext cx="383544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6360" y="4402080"/>
            <a:ext cx="7859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CB1-5528-4A05-8E7A-B66BC0B2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3760" y="1386000"/>
            <a:ext cx="7861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6360" y="2759040"/>
            <a:ext cx="7859880" cy="31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DE35-6B34-453C-B75E-45EC70A01D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4880" y="1662120"/>
            <a:ext cx="497700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的舞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360" y="1501920"/>
            <a:ext cx="80359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仿宋"/>
              </a:rPr>
              <a:t>六岁的小女孩柔弱的身体成了黑脸大汉手中的一块生面团，翻过来、周过去、立起来、横过去，抻、拉、压、拽，为所欲为，奶奶看不过我被整得满脸的泪水和汗水，每次都目不忍视地躲到里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668680" y="3471480"/>
            <a:ext cx="60912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仿宋"/>
                <a:ea typeface="华文仿宋"/>
              </a:rPr>
              <a:t>这里抓住几个动作，写出了“我”学艺的艰辛。从这里，我们能深刻地体会到了“我”这个被宠坏的小公主的勇气和毅力以及对艺术的执著追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49440" y="3664080"/>
            <a:ext cx="192384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31760" y="1585800"/>
            <a:ext cx="37242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我的启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7520" y="4212720"/>
            <a:ext cx="5769000" cy="17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在艺术和生活的舞台上，勇气和毅力能让人走向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老实做人，认真演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9760" y="2511360"/>
            <a:ext cx="515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</a:t>
            </a:r>
            <a:r>
              <a:rPr b="1" i="1" lang="zh-CN" sz="3200" spc="-1" strike="noStrike">
                <a:solidFill>
                  <a:srgbClr val="ff33cc"/>
                </a:solidFill>
                <a:latin typeface="Arial"/>
                <a:ea typeface="华文仿宋"/>
              </a:rPr>
              <a:t>学习了这篇课文，你从中获得了怎样的人生启发呢？给大家说一说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650880" y="1500120"/>
            <a:ext cx="2257560" cy="4564080"/>
            <a:chOff x="650880" y="1500120"/>
            <a:chExt cx="2257560" cy="456408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650880" y="3611520"/>
              <a:ext cx="2244600" cy="24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60240" y="1500120"/>
              <a:ext cx="2248200" cy="19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44640" y="1968480"/>
            <a:ext cx="25686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3960" y="1547280"/>
            <a:ext cx="28083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中宋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01880" y="24955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溺爱娇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87720" y="2522520"/>
            <a:ext cx="55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指过分娇惯宠爱自己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6320" y="312732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不解之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89160" y="3151080"/>
            <a:ext cx="5375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不能分开的缘分，指亲密的关系或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11240" y="4114800"/>
            <a:ext cx="166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身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83040" y="414036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戏曲演员在舞台上表演的各种舞蹈化的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513864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窃窃私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83040" y="5221440"/>
            <a:ext cx="35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仿宋"/>
              </a:rPr>
              <a:t>私下里小声交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54240" y="1506600"/>
            <a:ext cx="118908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64240" y="1528920"/>
            <a:ext cx="3700440" cy="4530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9040" y="2471760"/>
            <a:ext cx="317340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中宋"/>
              </a:rPr>
              <a:t>自由发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79240" y="4080960"/>
            <a:ext cx="452268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华文仿宋"/>
              </a:rPr>
              <a:t>舞台”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5480" y="2054160"/>
            <a:ext cx="587232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速读课文，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5040" y="3682800"/>
            <a:ext cx="6435720" cy="18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华文仿宋"/>
              </a:rPr>
              <a:t>作者对“舞台”有着怎样的感情？请从文中找出相关的句子来回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595920" y="1720800"/>
            <a:ext cx="170352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00080" y="3828960"/>
            <a:ext cx="733752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舞台对我有着神奇的吸引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Arial"/>
                <a:ea typeface="华文中宋"/>
              </a:rPr>
              <a:t>我在舞台上慢慢长大，舞台如一炉火，炼就了我的勇气和毅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90400" y="1460520"/>
            <a:ext cx="7961400" cy="1933560"/>
            <a:chOff x="590400" y="1460520"/>
            <a:chExt cx="7961400" cy="193356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5780160" y="1460520"/>
              <a:ext cx="2771640" cy="19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3251160" y="1479600"/>
              <a:ext cx="237168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590400" y="1487520"/>
              <a:ext cx="2468880" cy="1903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74560" y="1126800"/>
            <a:ext cx="578628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00"/>
                </a:solidFill>
                <a:latin typeface="Arial"/>
                <a:ea typeface="华文中宋"/>
              </a:rPr>
              <a:t>思考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为什么说“舞台对我有着神奇的吸引力”，文中哪些事例可以表明这一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57480" y="2862000"/>
            <a:ext cx="6858000" cy="27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在娘胎里，“我”就“登台唱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刚会走路，“我”就在小床上模仿母亲“演戏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后来，“我”一直跟随母亲演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六岁时，“我”正式“拜师学艺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、几年后，“我”在大师面前认真演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9560" y="1038240"/>
            <a:ext cx="1542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7640" y="1775880"/>
            <a:ext cx="645300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细读课文，感受“吸引力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3038400"/>
            <a:ext cx="67993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华文仿宋"/>
              </a:rPr>
              <a:t>请大家细读课文，找出文中相关的句段并加以简要分析，从中感受“舞台”对“我”的“神奇的吸引力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3520" y="4635360"/>
            <a:ext cx="163188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15560" y="3890520"/>
            <a:ext cx="601524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这段话中对“我”的描写充满了童趣，一个活泼可爱、热爱艺术的孩童的形象活生生地出现在我们面前，让人忍俊不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49280" y="1873080"/>
            <a:ext cx="64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①</a:t>
            </a:r>
            <a:r>
              <a:rPr b="1" lang="zh-CN" sz="28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一次，小花猫看得兴起，竟蹿上了床。我为赶它下“台”，脚下没留神，一个倒栽葱，摔下床来，直摔得我眼冒金星，半天没缓过劲儿来。</a:t>
            </a:r>
            <a:r>
              <a:rPr b="1" lang="zh-CN" sz="2800" spc="-1" strike="noStrike">
                <a:solidFill>
                  <a:srgbClr val="660033"/>
                </a:solidFill>
                <a:latin typeface="华文仿宋"/>
                <a:ea typeface="华文仿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46840" y="3936960"/>
            <a:ext cx="16905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2000" y="1774440"/>
            <a:ext cx="52196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每次演出，我一定要到台上去看，即使被挤在厚厚的幕布里，憋闷得满头是汗，也兴味盎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5840" y="3731760"/>
            <a:ext cx="7089840" cy="21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华文仿宋"/>
              </a:rPr>
              <a:t>台上在演出，一个小女孩钻在幕布里看戏，虽满头大汗却兴味盎然。透过厚厚的幕布，我们看到了一个孩子对评剧的钟爱，对艺术的执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73120" y="1433520"/>
            <a:ext cx="208908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8:57Z</dcterms:modified>
  <cp:revision>946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