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1A8-B4D9-49D0-B797-249AADA3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3C3-07B8-46A6-903D-ACE081DA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21B-1F74-4B84-B504-F71B0AF9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B04-1ED1-47FC-8135-C3E2C312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F2C-7C75-4290-9D64-229EBF07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4713-E8F3-43CE-968F-9A39AB31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C743-CFDF-48C3-ACB2-253E70DF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5D9-0480-4F84-A3FD-69256312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C33-FC03-41C5-B3F5-776E25C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FDB-B84A-40C6-9A13-E4FE659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813-5EBE-405E-8FF7-54B664BC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F30-A2E4-40C6-B29F-8C2459FB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FE7E-3BF5-4633-879B-FED41A0BF4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916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最 后 一 头 战 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71360" y="692280"/>
            <a:ext cx="5118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土坑约有三米深，嘎羧卧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坑底，侧着脸，鼻子盘在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弯，一只眼睛睁得老大，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望着天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68280"/>
            <a:ext cx="91440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威风凛凛   排山倒海   势不可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焦躁不安   漫不经心   久别重逢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恍然大悟   泣不成声   震耳欲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炯炯有神   长途跋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77336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49360"/>
            <a:ext cx="874872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认真读课文，找出描写嘎羧行为、神态的句子，体会嘎羧的高尚情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、有感情地朗读课文，感受深情地语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8352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学提纲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默读课文相应部分，用“—”画出描写嘎羧行为、神态的句子，把体会写在旁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、有感情地朗读课文，并体会嘎羧的感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90792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没想到，嘎羧见了，一下子安静下来，用鼻子呼呼吹去上面的灰尘，鼻尖久久地在上面摩挲着，眼睛里泪光闪闪，像是见到久别重逢的老朋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981000"/>
            <a:ext cx="8893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老人和孩子捧着香蕉、甘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和糯米粑粑，送到嘎羧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边，它什么也没吃，只喝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点水，绕着寨子走了三圈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嘎羧走了整整一夜，天亮时，来到打洛江畔。它站在江滩的卵石上，久久凝望着清波荡漾的江面。然后，它踩着哗哗流淌的江水，走到一块龟形礁石上亲了又亲，许久又昂起头来，向着天边那轮火红的朝阳，发出震耳欲聋的吼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24000" y="5493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943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年，象兵在西双版纳打洛江畔和日寇打了一仗。战斗结束后，鬼子扔下了七十多具尸体，我方八十多头战象全部中弹倒地。人们在打洛江边挖了一个巨坑，隆重埋葬阵亡的战象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想像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嘎羧久久的凝望里，它一定看到了二十六年前惊心动魄的一幕：威武雄壮的战象们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日寇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；最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亲了又亲的礁石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也许是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它的吼声里听出，它在深情呼唤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灵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诉说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告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</a:t>
            </a:r>
            <a:r>
              <a:rPr b="0" lang="zh-CN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19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5:28Z</dcterms:modified>
  <cp:revision>28</cp:revision>
  <dc:subject>六十铺中小学教育网http://www.lspjy.com</dc:subject>
  <dc:title>六十铺中小学教育网http://www.lspjy.com</dc:title>
</cp:coreProperties>
</file>