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4F1F-511D-4F7E-840E-90DB76F11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8DA8-61D1-4CFA-874E-3EF0DFF02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C2C4-10D1-4C4D-B5A9-D8F2C83AF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6733-A599-4601-8C61-F553AB06E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C94D-DED5-4BEA-B7F5-4C16E229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2674-9608-48D7-A1D3-8B6D965A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CADF-69AC-43D4-B863-6BDB251D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7FF3-F64B-4C84-A4AC-10EE4042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2A69-9AEC-4449-A146-78F08282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B82B-34A6-4EC0-9FDE-64D41FB6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B72A-5850-4529-A56D-2484C6FC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02C7-F084-4AE7-BB24-C14DEEF4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A89E-420E-4C11-86F1-A05D698514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file:///tmp/home/.config/libreoffice/4/user/gallery/camera.wav" TargetMode="External"/><Relationship Id="rId3" Type="http://schemas.microsoft.com/office/2007/relationships/media" Target="file:///tmp/home/.config/libreoffice/4/user/gallery/camera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38360" y="2998800"/>
            <a:ext cx="4167360" cy="13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彩云"/>
              </a:rPr>
              <a:t>月光曲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509840" y="934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全文分两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48080" y="186696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一段（                   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45760" y="184320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自然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95600" y="1828800"/>
            <a:ext cx="92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简单介绍著名的钢琴曲——《月光曲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时德国音乐家贝多芬谱写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61960" y="2816280"/>
            <a:ext cx="25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二段（                            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30280" y="281628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自然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63520" y="2743200"/>
            <a:ext cx="48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详细介绍贝多芬谱写《月光曲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整个过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62880" y="361944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一部分（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自然段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55240" y="359568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写贝多芬在散步时听到有人弹他的曲子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18800" y="4052880"/>
            <a:ext cx="213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二部分（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自然段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51600" y="40528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写贝多芬走进茅屋，为盲姑娘弹了两首曲子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28160" y="4510080"/>
            <a:ext cx="18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三部分（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自然段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23000" y="45100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写贝多芬根据记忆谱成了著名的《月光曲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92520" y="3276720"/>
            <a:ext cx="76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584360" y="116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42880" y="1031760"/>
            <a:ext cx="350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、“断断续续”的钢琴声，说明了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60600" y="1717560"/>
            <a:ext cx="46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断断续续”的钢琴声，说明盲姑娘喜欢贝多芬的曲子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但弹得不熟练；还说明贝多芬听到有人弹他得曲子，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熟练，菜走进茅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28680" y="3241800"/>
            <a:ext cx="350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、盲姑娘真是“随便说说”的吗？她为什么要对哥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这么说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78200" y="4308480"/>
            <a:ext cx="399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随便说说罢了”是盲姑娘对她哥哥的劝慰。她怕哥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因为买不起音乐会的入场券而心里难过，所以这样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实她很想“听一听贝多芬自己是怎样弹的”，这表明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姑娘非常体谅哥哥的难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84360" y="1163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53560" y="914400"/>
            <a:ext cx="417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、盲姑娘能听出贝多芬钢琴弹得纯熟，感情深，说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什么？“您，您……”表达了盲姑娘怎样的感情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50840" y="1828800"/>
            <a:ext cx="725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盲姑娘能听出贝多芬钢琴弹得纯熟，感情深，说明盲姑娘不仅爱音乐而且懂音乐。她从琴声中体会出演奏者的“感情多深”，从“纯熟”的演奏技巧中猜到演奏者就是贝多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85200" y="3597120"/>
            <a:ext cx="12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、从课文中哪些词句可以看出兄妹俩被美妙的琴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陶醉”了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04120" y="4603680"/>
            <a:ext cx="387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皮鞋匠静静地听着。”“月光正照在她那恬静地脸上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他们苏醒过来，贝多芬早已离开了茅屋。”从这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词句可以看出兄妹俩被美妙的琴声“陶醉”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706120" y="1600200"/>
            <a:ext cx="37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贝多芬坐在钢琴前面，弹起盲姑娘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刚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弹的那首曲子来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12120" y="2174760"/>
            <a:ext cx="23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他飞奔回客店，花了一夜工夫，把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Times New Roman"/>
              </a:rPr>
              <a:t>刚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弹的曲子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《月光曲》记录了下来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48160" y="955800"/>
            <a:ext cx="33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33"/>
                </a:solidFill>
                <a:latin typeface="Times New Roman"/>
              </a:rPr>
              <a:t>两个句子中的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刚才</a:t>
            </a:r>
            <a:r>
              <a:rPr b="0" lang="zh-CN" sz="2400" spc="-1" strike="noStrike">
                <a:solidFill>
                  <a:srgbClr val="ff9933"/>
                </a:solidFill>
                <a:latin typeface="Times New Roman"/>
              </a:rPr>
              <a:t>”分别指什么时候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02000" y="3241800"/>
            <a:ext cx="399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句中的“刚才”指的是贝多芬听到盲姑娘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她哥哥的谈话之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02000" y="4460760"/>
            <a:ext cx="399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句中的“刚才”指的是贝多芬为盲姑娘弹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ff"/>
                </a:solidFill>
                <a:latin typeface="Times New Roman"/>
              </a:rPr>
              <a:t>第一首曲子，盲姑娘听出他是贝多芬之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415960" y="141588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为什么贝多芬要给盲姑娘弹钢琴曲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2421000"/>
            <a:ext cx="60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答：贝多芬听到盲姑娘在弹他的曲子，十分渴望能听到他的演奏，可是家境贫苦，买不起音乐会的入场券，但她很懂事，体谅哥哥的难处，所以贝多芬决定亲自给盲姑娘弹钢琴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767760" y="141588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贝多芬弹完一首，为什么又弹一曲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2421000"/>
            <a:ext cx="603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答：贝多芬弹完一首，盲姑娘竟猜出他就是贝多芬。他见盲姑娘不仅爱音乐而且懂音乐，自己遇到了知音，于是即兴再为盲姑娘弹了一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559600" y="141588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贝多芬是怎样吧第二首曲子记录下来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2421000"/>
            <a:ext cx="60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答：贝多芬即兴弹完第二首曲子后心情十分激动，飞奔回客店，连夜记录下了《月光曲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072160" y="88272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33"/>
                </a:solidFill>
                <a:latin typeface="Times New Roman"/>
              </a:rPr>
              <a:t>再读课文，归纳主要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87280" y="1676520"/>
            <a:ext cx="4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借助课题《月光曲》思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68520" y="2286000"/>
            <a:ext cx="10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《月光曲》这首乐曲是谁谱写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《月光曲》这首乐曲是怎样谱写成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56200" y="3678120"/>
            <a:ext cx="83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《月光曲》这个故事的人物、起因、经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结果，连起来说说，归纳课文主要内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462680" y="9828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主要内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03480" y="2098800"/>
            <a:ext cx="679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000" spc="-1" strike="noStrike">
                <a:solidFill>
                  <a:srgbClr val="0099ff"/>
                </a:solidFill>
                <a:latin typeface="Times New Roman"/>
              </a:rPr>
              <a:t>课文主要写贝多芬在散步时听到盲姑娘兄妹的谈话，就给盲姑娘弹了一首钢琴曲，盲姑娘猜出他就是贝多芬，他又即兴为盲姑娘弹了一曲，并飞奔回客店连夜记录了下来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540080" y="1163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业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68960" y="1793880"/>
            <a:ext cx="20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词语抄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词意抄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背诵课文第九自然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05920" y="6095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591720" y="1219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现在，让我们来欣赏一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04520" y="2117880"/>
            <a:ext cx="79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《月光曲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38160" y="35053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在曲子里听到了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00080" y="48006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你听出贝多芬的心声了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505240" y="1752480"/>
            <a:ext cx="412416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下课</a:t>
            </a:r>
            <a:endParaRPr b="1" i="1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52" name=""/>
          <p:cNvSpPr/>
          <p:nvPr/>
        </p:nvSpPr>
        <p:spPr>
          <a:xfrm>
            <a:off x="3924360" y="53006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全套免费课件下载地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六十铺中小学教育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83808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贝多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177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日，出生于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德国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波恩一个音乐家的家庭。从小学习钢琴和小提琴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举行首次公开演奏会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开始作曲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定居维也纳。当时正是奥地利封建统治最黑暗的时代。他十分憎恨专权暴政，极其蔑视封建贵族的褊狭庸俗。他早年受到启蒙运动和法国资产阶级革命影响，毕生追求</a:t>
            </a:r>
            <a:r>
              <a:rPr b="0" lang="zh-CN" sz="2400" spc="-1" strike="noStrike">
                <a:solidFill>
                  <a:srgbClr val="3333cc"/>
                </a:solidFill>
                <a:latin typeface="宋体"/>
              </a:rPr>
              <a:t>“自由、平等、博爱”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理想，不少作品反映了当时资产阶级反封建、争民主的革命热情及其理想中的英雄性格。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时，两耳失聪仍坚持创作。他一生谱写了许多著名的乐曲，主要作品有交响曲九部、钢琴奏鸣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首。他的音乐创作，集古典派的大成，开浪漫派的先河，对欧洲音乐艺术的革新与发展，有着极其重要的影响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82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日，贝多芬在奥地利维也纳逝世，终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7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。贝多芬是欧洲音乐史上最伟大的音乐家，被人们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乐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他的所有作品在世界各地广为传诵，他的成功完全来之自身的艰苦奋斗，直到今日还被人们视为奋斗的楷模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97840" y="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贝多芬简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295280" y="1752480"/>
            <a:ext cx="60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课文中提到的《月光曲》是贝多芬创作的一首著名的钢琴奏鸣曲。课文写的是关于贝多芬谱写《月光曲》的一个传说。“传说”是民间流传的故事，不一定确有其事。但是，民间传说能够反映出人民群众的愿望和好恶。从贝多芬谱写《月光曲》的传说中，我们可以看到贝多芬是怎样一位音乐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16720" y="914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词语注释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21320" y="1447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Times New Roman"/>
              </a:rPr>
              <a:t>幽静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52720" y="146988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优雅寂静。课文中形容小路很偏僻，很清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21320" y="19270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Times New Roman"/>
              </a:rPr>
              <a:t>琴键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55880" y="19051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风琴、钢琴等上面装置的白色或黑色的供演奏时按动的部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21320" y="236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Times New Roman"/>
              </a:rPr>
              <a:t>霎时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67000" y="236232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极短的一点时间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7040" y="2917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Times New Roman"/>
              </a:rPr>
              <a:t>莱茵河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2940120"/>
            <a:ext cx="60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欧洲一条大河。源出瑞士境内的阿尔卑斯山，流经奥地利、法国、德国、荷兰等国。全长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32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千米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21320" y="3657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Times New Roman"/>
              </a:rPr>
              <a:t>谱写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65520" y="367200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编写（歌曲或乐曲）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12760" y="43578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Times New Roman"/>
              </a:rPr>
              <a:t>水天相接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85640" y="435780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形容水面广阔，远远看去，好像和天连接在一起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12760" y="50292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Times New Roman"/>
              </a:rPr>
              <a:t>波涛汹涌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82720" y="50292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形容大浪猛烈地向上涌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12760" y="5638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ff"/>
                </a:solidFill>
                <a:latin typeface="Times New Roman"/>
              </a:rPr>
              <a:t>断断续续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28440" y="56386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一会儿中断，一会儿继续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61200" y="2077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1066680"/>
            <a:ext cx="762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7600" y="1676520"/>
            <a:ext cx="9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7600" y="2514600"/>
            <a:ext cx="9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zhu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53200" y="167652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）（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727360" y="245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46640" y="2514600"/>
            <a:ext cx="13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77040" y="3657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58840" y="2590920"/>
            <a:ext cx="762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93080" y="32004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93800" y="40384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72320" y="320040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）（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72320" y="40384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）（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44440" y="1676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传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16040" y="1676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传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944440" y="2514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传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63560" y="3200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弹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44440" y="3200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弹棉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63560" y="403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子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35160" y="403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弹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78960" y="187020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90960" y="182880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ti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á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09920" y="286056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券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16160" y="278460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qu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à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01040" y="838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多音字组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09920" y="838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注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3720" y="389268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83840" y="385128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sh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50840" y="1184400"/>
            <a:ext cx="710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恬静——安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两个词都有表示心里平静的意思。不同的是，“恬静”往往用于人的内心感到舒适而表露出一种平静的神态；“安静”除了表示心理活动，还可以用来描写环境没有声音的干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41960" y="4191120"/>
            <a:ext cx="221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夜深了，周围（            ）极了，一切都再沉睡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姑娘那（           ）的脸上嵌着一双水汪汪的大眼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67040" y="4191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安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33560" y="4876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恬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50840" y="1184400"/>
            <a:ext cx="710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幽静——清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者都有表示环境很静的意思。不同的是，“幽静”是优雅寂静，“静”有安静的意思；“清幽”是秀丽而幽静，“清”含有秀丽的意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60840" y="3657600"/>
            <a:ext cx="545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春天的樱花公园，（            ）的林中小道上不时走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三两两的游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这片树林远离大路，树木茂盛，显得很（           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92360" y="3657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清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00640" y="47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幽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50840" y="1184400"/>
            <a:ext cx="710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9933"/>
                </a:solidFill>
                <a:latin typeface="Times New Roman"/>
              </a:rPr>
              <a:t>苏醒——觉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两个词都指醒过来，结束了原来好像睡着一样的糊涂状态。但“觉醒”指觉悟，用在思想上，表示认识问题从不清楚到清楚；“苏醒”原来的意思是昏迷后醒过来，指人失去知觉后得到恢复。也可以像课文中那样，用来描写出神后的清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91320" y="4191120"/>
            <a:ext cx="508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在巨大的教育攻势下，他终于（            ）了，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民政府交待自己的罪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他刚（           ）过来，就忙问：‘“那些书受损失吗？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16240" y="4191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觉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63560" y="5257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苏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03:29:10Z</dcterms:created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10:07:55Z</dcterms:modified>
  <cp:revision>15</cp:revision>
  <dc:subject>六十铺中小学教育网http://www.lspjy.com</dc:subject>
  <dc:title>六十铺中小学教育网http://www.lspjy.com</dc:title>
</cp:coreProperties>
</file>