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gif" ContentType="image/gif"/>
  <Override PartName="/ppt/media/image12.jpeg" ContentType="image/jpeg"/>
  <Override PartName="/ppt/media/image9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png" ContentType="image/png"/>
  <Override PartName="/ppt/media/image14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AACF-AB34-497A-9E7A-C3C658F0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A77-653C-41A2-9DE1-80FD1EC3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9FB-2D59-426E-BC3D-0B2809BB8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189-ED31-4AF0-B606-9C5E7B2B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ACB-9AA1-41FE-858D-DE4F8C3D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829-43EE-4917-A956-A58974A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C9C-BA97-4E97-87CF-61A594CEE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28D-536C-47C8-8FFC-67BB95BF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FE5-30FB-4C5B-A141-6BF55513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41F-542B-4825-B371-713CA92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DCC-5029-46B2-AC16-6781FAD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CF4C-1CE4-4800-B140-B20604C9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616C-316D-48C5-BAB2-2A7EF96FB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1600200"/>
            <a:ext cx="5486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用心灵去倾听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7120" y="1143000"/>
            <a:ext cx="2286000" cy="3657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5120" y="4723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但是我非常想认识苏珊，认识这个从未谋面却如同我第二个母亲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609624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用“如同我第二个母亲”来形容苏珊，看得出“我”对苏珊的爱。苏珊不是“我”的母亲，我们也从没见过面，是电话线把两个人紧紧地连在一起。苏珊就像母亲那样，耐心倾听“我”的心声，困难时给予“我”帮助，痛苦时给予“我”安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知识延伸——前后照应的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7848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课文多处运用了前后照应的手法，使文章层次分明。你可以找出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4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苏珊？你能告诉我‘修理’这个词怎么拼写吗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‘修理’这个词怎么拼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她沉默了一会儿，说：‘我希望你的手指已经好了’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我对小精灵说：‘我一个人在家，我的手指被锤子砸伤了……’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、最后一段“汤米，我要到另一个世界去歌唱”与第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自然段“你知道吗，这只可爱的小鸟，它要到另一个世界去歌唱”照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240" y="213372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课文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这是一个真实的故事，记叙了“我”与问讯处工作人员苏珊交往的过程，赞美了苏珊用心灵倾听孩子的心声、用爱心帮助孩子的善良品质，表达了“我”对苏珊的深切怀念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2775600" y="4732560"/>
              <a:ext cx="3183840" cy="135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1" strike="noStrike">
                  <a:ln w="12600">
                    <a:solidFill>
                      <a:srgbClr val="ffcc00"/>
                    </a:solidFill>
                    <a:miter/>
                  </a:ln>
                  <a:solidFill>
                    <a:srgbClr val="ff00ff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华文仿宋"/>
                </a:rPr>
                <a:t>再见</a:t>
              </a:r>
              <a:endParaRPr b="1" i="1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  <a:ea typeface="华文仿宋"/>
              </a:endParaRPr>
            </a:p>
          </p:txBody>
        </p:sp>
      </p:grp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572000" y="507960"/>
            <a:ext cx="426708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019920" y="3403440"/>
            <a:ext cx="281916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304920" y="3403440"/>
            <a:ext cx="5562360" cy="2514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4343400"/>
            <a:ext cx="5181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活中的好帮手——问讯处</a:t>
            </a:r>
            <a:endParaRPr b="0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304920" y="507960"/>
            <a:ext cx="41194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4876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Arial"/>
                <a:ea typeface="华文中宋"/>
              </a:rPr>
              <a:t>预习课文，积累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34286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590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着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6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对人或事物产生难以舍弃的爱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352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密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4290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秘密的通信用语。为了保密，通常用数字、字母、单词等代替真实的通信内容，也叫暗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谋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彼此见面，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62920" y="4648320"/>
            <a:ext cx="130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中宋"/>
              </a:rPr>
              <a:t>自由朗读课文，了解课文内容</a:t>
            </a:r>
            <a:br>
              <a:rPr sz="3600"/>
            </a:br>
            <a:br>
              <a:rPr sz="3600"/>
            </a:b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说一说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中宋"/>
              </a:rPr>
              <a:t>苏珊给了小时候的“我”哪些帮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54100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当“我”的手指被砸伤时，她用悦耳的声音帮助“我”消除恐惧，指导“我”实施自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当“我”因心爱的金丝雀突然死去而伤心时，苏珊宽慰“我”，消除了“我”对死亡的恐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还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609920" cy="2524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1066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再读课文，边读边想：</a:t>
            </a:r>
            <a:br>
              <a:rPr sz="48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课文中的哪些内容让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，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感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你的语句划出来，与大家交流。（特别注意那些描写人物言行、心理的语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3640" cy="68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1469520" y="5312160"/>
              <a:ext cx="6531120" cy="86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中宋"/>
                </a:rPr>
                <a:t>分析例句，体会“感动”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  <a:ea typeface="华文中宋"/>
              </a:endParaRPr>
            </a:p>
          </p:txBody>
        </p:sp>
      </p:grp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1447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我找到了听我说话的人，不由得放声大哭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2819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华文仿宋"/>
              </a:rPr>
              <a:t>我”的手指被锤子砸伤了，可是“家里没有人，哭也不会有谁听见”。“我”只好把希望寄托在那个叫“问讯处”的小精灵身上。听到苏珊温柔的嗓音，“我”孤独的心灵一下子得到了抚慰，我终于放声大哭。这既是伤痛带来的痛苦的哭，更是在孤独中找到了希望的幸福的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1066680" cy="1218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191120"/>
            <a:ext cx="129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14475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小精灵总是耐心地回答我的问题，一遍遍地向我解释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69343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苏珊面对“我”一个个简单而幼稚的问题，就像一位母亲那样耐心为我解释。在一次次心与心的交流中，两个人的心走到了一起，结成了母子般的情谊。这句话形象地写出了苏珊的爱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467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③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中宋"/>
              </a:rPr>
              <a:t>你知道吗，这只可爱的小鸟，它要到另一个世界去歌唱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9548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心爱的金丝雀突然死了，“我”不仅痛苦，同时对死亡也充满了恐惧。苏珊说小鸟到另外一个世界去唱歌，这是多么美好的事啊！听了这样的话，笼罩在孩子心头的阴影立刻消散了，快乐又回到了孩子的身边。苏珊的善良、乐观由此可见一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38Z</dcterms:modified>
  <cp:revision>35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