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156-50EA-493E-A7B5-64767F0D6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707-180C-4B34-81C9-6823547A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3EA-68F8-4CBC-8AB5-6314FB757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F66-DA02-4C1C-82F9-0BBC28C9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C32-E247-409D-BFD0-FE602F42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1D5-652D-4C98-8A2C-92A127E4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9293-0684-4600-949E-7BFF2346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524-0D4C-4447-8A72-19656559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4EE5-79D2-49AD-9D2A-55974DDD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98A-C63A-4AA4-8B10-822783D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59C-84F0-427F-A283-92C82795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CFDB-4D09-42DE-9A99-190B57E9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8C0F-4CC8-4530-B353-235B2FB3F1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40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181480" y="12193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4191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列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托尔斯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9520" y="211788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作者给我们讲了一个什么故事。把最使你感动的地方画下来，写上几句自己的感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7400" y="3413160"/>
            <a:ext cx="510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从文中提出几个不懂的或感兴趣的问题，跟大家讨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62120" y="9144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读句子，联系上下文说说从加红的词语中体会到了什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2637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她的心跳得很厉害，自己也不知道为什么要这样做，但是觉得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非这样做不可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哦，我们，我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总能熬过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！快去！别等他们醒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76720" y="1905120"/>
            <a:ext cx="5029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有感情地朗读课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交流一下：怎样才能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好桑娜忐忑不安的心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  <a:ea typeface="楷体_GB2312"/>
              </a:rPr>
              <a:t>描写和她与渔夫的对话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1800" y="5335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8000"/>
                </a:solidFill>
                <a:latin typeface="Times New Roman"/>
                <a:ea typeface="华文新魏"/>
              </a:rPr>
              <a:t>穷  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8120"/>
            <a:ext cx="8077320" cy="642600"/>
            <a:chOff x="380880" y="3048120"/>
            <a:chExt cx="8077320" cy="642600"/>
          </a:xfrm>
        </p:grpSpPr>
        <p:sp>
          <p:nvSpPr>
            <p:cNvPr id="53" name=""/>
            <p:cNvSpPr/>
            <p:nvPr/>
          </p:nvSpPr>
          <p:spPr>
            <a:xfrm>
              <a:off x="38088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桑娜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15200" y="3048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渔夫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914400" y="2590920"/>
            <a:ext cx="2666880" cy="1525320"/>
            <a:chOff x="914400" y="2590920"/>
            <a:chExt cx="2666880" cy="1525320"/>
          </a:xfrm>
        </p:grpSpPr>
        <p:sp>
          <p:nvSpPr>
            <p:cNvPr id="56" name=""/>
            <p:cNvSpPr/>
            <p:nvPr/>
          </p:nvSpPr>
          <p:spPr>
            <a:xfrm>
              <a:off x="182880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等待丈夫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2880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心惊肉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914400" y="3733200"/>
              <a:ext cx="914400" cy="228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1" stAng="10800000" swAng="5400000"/>
                  <a:lnTo>
                    <a:pt x="15150" y="2899"/>
                  </a:lnTo>
                  <a:lnTo>
                    <a:pt x="15150" y="0"/>
                  </a:lnTo>
                  <a:lnTo>
                    <a:pt x="21600" y="6079"/>
                  </a:lnTo>
                  <a:lnTo>
                    <a:pt x="15150" y="12158"/>
                  </a:lnTo>
                  <a:lnTo>
                    <a:pt x="15150" y="9259"/>
                  </a:lnTo>
                  <a:lnTo>
                    <a:pt x="12427" y="9259"/>
                  </a:lnTo>
                  <a:arcTo wR="6067" hR="2901" stAng="16200000" swAng="-5400000"/>
                  <a:lnTo>
                    <a:pt x="6360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4400" y="2819520"/>
              <a:ext cx="914400" cy="2286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429000" y="2590920"/>
            <a:ext cx="2057400" cy="1525320"/>
            <a:chOff x="3429000" y="2590920"/>
            <a:chExt cx="2057400" cy="1525320"/>
          </a:xfrm>
        </p:grpSpPr>
        <p:sp>
          <p:nvSpPr>
            <p:cNvPr id="61" name=""/>
            <p:cNvSpPr/>
            <p:nvPr/>
          </p:nvSpPr>
          <p:spPr>
            <a:xfrm>
              <a:off x="3733920" y="259092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抱回孩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359568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忐忑不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2819520"/>
              <a:ext cx="380880" cy="152280"/>
            </a:xfrm>
            <a:prstGeom prst="righ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3809880"/>
              <a:ext cx="380880" cy="152640"/>
            </a:xfrm>
            <a:prstGeom prst="rightArrow">
              <a:avLst>
                <a:gd name="adj1" fmla="val 50000"/>
                <a:gd name="adj2" fmla="val 62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34120" y="2590920"/>
            <a:ext cx="2666520" cy="1525320"/>
            <a:chOff x="5334120" y="2590920"/>
            <a:chExt cx="2666520" cy="1525320"/>
          </a:xfrm>
        </p:grpSpPr>
        <p:sp>
          <p:nvSpPr>
            <p:cNvPr id="66" name=""/>
            <p:cNvSpPr/>
            <p:nvPr/>
          </p:nvSpPr>
          <p:spPr>
            <a:xfrm>
              <a:off x="5638680" y="259092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催促桑娜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638680" y="359568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平静下来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34120" y="2819520"/>
              <a:ext cx="380880" cy="152280"/>
            </a:xfrm>
            <a:prstGeom prst="leftArrow">
              <a:avLst>
                <a:gd name="adj1" fmla="val 50000"/>
                <a:gd name="adj2" fmla="val 6253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4120" y="3809880"/>
              <a:ext cx="380880" cy="152640"/>
            </a:xfrm>
            <a:prstGeom prst="leftArrow">
              <a:avLst>
                <a:gd name="adj1" fmla="val 50000"/>
                <a:gd name="adj2" fmla="val 6238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7238160" y="2743200"/>
              <a:ext cx="762120" cy="30492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7238160" y="3733200"/>
              <a:ext cx="762120" cy="22860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-360 h 228600"/>
                <a:gd name="textAreaBottom" fmla="*/ 2286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195640" y="4653000"/>
            <a:ext cx="538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善良   乐于助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670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十铺中小学教育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>
            <a:hlinkClick r:id="" action="ppaction://hlinkshowjump?jump=endshow"/>
          </p:cNvPr>
          <p:cNvPicPr/>
          <p:nvPr/>
        </p:nvPicPr>
        <p:blipFill>
          <a:blip r:embed="rId2"/>
          <a:stretch/>
        </p:blipFill>
        <p:spPr>
          <a:xfrm>
            <a:off x="-76320" y="0"/>
            <a:ext cx="581976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43600" y="1111320"/>
            <a:ext cx="29718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俄国著名作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281952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跳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9400" y="4235400"/>
            <a:ext cx="1600200" cy="642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穷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03:14:51Z</dcterms:created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9:56:24Z</dcterms:modified>
  <cp:revision>4</cp:revision>
  <dc:subject/>
  <dc:title>六十铺中小学教育网http://www.lspjy.com</dc:title>
</cp:coreProperties>
</file>