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2EC-8C36-4A02-B4D1-0CF8CB5B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FA5-2B3A-4764-BBD8-C701860E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056-CB46-446B-A24D-A8E711B98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C72E-1512-400B-9A58-C45B3085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9A064-6D35-4519-BE89-5706EC6B0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516AA-493E-4F72-A9B7-755BD7C6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54B83-9525-4327-B861-781F6B9B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2ECAE-DB39-42D4-85B6-CB3FA02A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A9F22-8AF4-45EC-BAD1-52D95AB1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7B22-ED66-46C7-803D-E8A678A1E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FC05A-6CBF-43C8-868B-A00AE354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06F-F614-450C-8C1C-DFA2D7AF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EF607-6C19-4ED3-877A-C53F198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76C2C-D12D-459C-A0C7-C152759C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8A8A5-C5DD-4B06-902B-83148577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AA538-C981-481D-A044-5E1E9D82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F25E7-76AF-4BD6-A7EC-CBF38CDD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A2B95-D225-4D04-B7AC-F6BA180C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39631-45CE-4A0E-8F2B-C86C79B2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2FB1-32DC-4071-9E58-8BA5D8FB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AD52B-255F-4190-9A63-837782A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374EF-1F23-4CF5-AC84-7454F611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450-027F-487A-AECF-6DED9356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207E-6DD7-467B-973F-6259FF03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EC369-9BCA-4346-A9E3-A7F83B7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01FB-01FB-4937-AD99-575C09FC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53D8-CE7B-49DD-9FED-4FACDBA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9036-6A7D-4154-BA9E-799337B8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E4C1-CFAB-4F43-BE5D-D9A178E32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6F129-A4CD-452F-A607-059BF2EF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37CE-0B4F-44D0-AF90-0860F38B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38F-208D-4C5C-9046-5AF5026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CFB-0B32-4981-B49F-BC34CD67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35C-813F-48EF-9EFF-CD6F1A9A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13E-AFBD-49BE-B352-FF95AFC7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75D5-A688-4A5B-B7A6-F1C39000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0702-91D4-45A4-8008-7F2FCFAA91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D96D-C254-40AE-8DB7-5BE99D4C0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7D62-FAFB-4F28-94C8-201D3B7733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572040" y="1079640"/>
            <a:ext cx="219132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华文新魏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195640" y="5589720"/>
            <a:ext cx="4190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索溪峪的水</a:t>
            </a:r>
            <a:endParaRPr b="0" lang="en-US" sz="6600" spc="-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35120" y="628812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黄      龙      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2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756760" y="404640"/>
            <a:ext cx="28616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行楷"/>
              </a:rPr>
              <a:t>定海神针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557400" y="790560"/>
            <a:ext cx="219132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索溪峪的野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280360" cy="6264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5800" y="228600"/>
            <a:ext cx="772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隶书"/>
              </a:rPr>
              <a:t>索溪峪的山，是天然的美，是野性的美。这种美，是一种惊险的美：几十丈高的断壁悬崖拔地而起，半边悬空的巨石在山风中摇摇晃晃，游人仰头而掉帽，望石而惊心。什么“一线天”，什么“百丈峡”，闻名就使人胆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黑体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4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惊险的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10199"/>
                </a:solidFill>
                <a:latin typeface="Tahoma"/>
              </a:rPr>
              <a:t>　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几十丈高的悬崖拔地而起，半边悬空的巨石在山风中摇摇晃晃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使人望而生畏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什么“一线天”什么“百丈峡”听着名字就让人胆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012000" y="765000"/>
            <a:ext cx="2373120" cy="2167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078280" cy="2636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12000" y="602136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一线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2852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  <a:ea typeface="华文行楷"/>
              </a:rPr>
              <a:t>百丈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92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192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192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00000" y="126828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40360" y="191628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cc00"/>
                </a:solidFill>
                <a:latin typeface="Tahoma"/>
              </a:rPr>
              <a:t>．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11640" y="3500280"/>
            <a:ext cx="9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磅礴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07920"/>
            <a:ext cx="37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42900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不是一峰独秀．也不是三五峰呼应，而是千峰万仞绵亘蜿蜒，“十里画廊”，“西海峰林”，令而浩气长舒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708360" cy="23497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067280" y="98100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十里画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76720" y="3429000"/>
            <a:ext cx="3233880" cy="25750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410680" y="4814640"/>
            <a:ext cx="423720" cy="11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ahoma"/>
              </a:rPr>
              <a:t>西海峰林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5280" y="476280"/>
            <a:ext cx="43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山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03640" y="-171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00"/>
                </a:solidFill>
                <a:latin typeface="Tahoma"/>
                <a:ea typeface="华文中宋"/>
              </a:rPr>
              <a:t>．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4762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ahoma"/>
                <a:ea typeface="华文中宋"/>
              </a:rPr>
              <a:t>随心所欲，不拘一格的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134136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或直插云天，或横拦绿水，旁逸斜出，崛起巍巍“斜山”；相对相依，宛如“热恋情人”；婷婷玉立，则好似“窈窕淑女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16720" y="4292640"/>
            <a:ext cx="3527280" cy="24512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924280"/>
            <a:ext cx="3810240" cy="25336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042920" y="59500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直插云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3429000"/>
            <a:ext cx="234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04000" y="3716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华文中宋"/>
              </a:rPr>
              <a:t>横拦绿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5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65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15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650"/>
                            </p:stCondLst>
                            <p:childTnLst>
                              <p:par>
                                <p:cTn id="2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150"/>
                            </p:stCondLst>
                            <p:childTnLst>
                              <p:par>
                                <p:cTn id="2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4211640" cy="3270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3357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140360" y="3284640"/>
            <a:ext cx="5003640" cy="3573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049240" y="1844640"/>
            <a:ext cx="109476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Arial"/>
                <a:ea typeface="华文中宋"/>
              </a:rPr>
              <a:t>千峰竞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5 0.017 0.02131 0.021 0.03463 C 0.025 0.04928 0.027 0.06659 0.029 0.0839 C 0.031 0.10122 0.029 0.11587 0.027 0.13185 C 0.025 0.1465 0.022 0.16248 0.015 0.1758 C 0.009 0.18911 -0.001 0.19977 -0.012 0.20776 C -0.022 0.21575 -0.034 0.22108 -0.046 0.22374 C -0.058 0.2264 -0.07 0.2264 -0.081 0.22374 C -0.093 0.22108 -0.104 0.21442 -0.113 0.20376 C -0.122 0.19444 -0.13 0.18246 -0.134 0.16781 C -0.139 0.15449 -0.141 0.13584 -0.141 0.12119 C -0.142 0.10654 -0.141 0.08923 -0.136 0.07458 C -0.131 0.06126 -0.122 0.05061 -0.11 0.04528 C -0.098 0.04129 -0.086 0.04661 -0.078 0.05594 C -0.071 0.06526 -0.066 0.07991 -0.065 0.09722 C -0.065 0.11453 -0.066 0.13052 -0.071 0.14383 C -0.076 0.15715 -0.075 0.15982 -0.095 0.17713 C -0.113 0.19577 -0.131 0.19045 -0.142 0.19178 C -0.153 0.19178 -0.162 0.18645 -0.173 0.18112 C -0.185 0.17446 -0.195 0.16248 -0.202 0.15182 C -0.209 0.14117 -0.212 0.12785 -0.216 0.10654 C -0.219 0.08523 -0.219 0.07458 -0.219 0.0586 C -0.219 0.04262 -0.219 0.02664 -0.219 0.01065 E">
                                      <p:cBhvr>
                                        <p:cTn id="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68360" y="189000"/>
            <a:ext cx="42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1484280"/>
            <a:ext cx="30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197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索溪就像一个从深山中蹦跳而出的野孩子，一会儿绕着山奔跑，一会儿撅着屁股，赌着气又自个儿闹去了．它尤其爱跟山路哥哥闹着玩：一会儿手牵手，并肩而行；一会横铲一脚，将山路拦腰截断。山路哥哥倒不觉得这有什么了不起，它请树木大树帮忙，几棵大树往索溪身上一搭，反从它身上跨过去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508720" y="2060640"/>
            <a:ext cx="3355920" cy="23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7150"/>
                            </p:stCondLst>
                            <p:childTnLst>
                              <p:par>
                                <p:cTn id="2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042920" y="260280"/>
            <a:ext cx="439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33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华文中宋"/>
              </a:rPr>
              <a:t>水是野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1413000"/>
            <a:ext cx="49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      </a:t>
            </a:r>
            <a:r>
              <a:rPr b="0" lang="zh-CN" sz="2800" spc="-1" strike="noStrike">
                <a:solidFill>
                  <a:srgbClr val="ffcc00"/>
                </a:solidFill>
                <a:latin typeface="Tahoma"/>
                <a:ea typeface="华文中宋"/>
              </a:rPr>
              <a:t>山路哥哥还找石头弟弟帮忙，几块石头一垫，山路便化成一条虚线，一跳一跳地从水中过去了。山路还有更巧妙的办法，它在河床上垫一排大卵石，从水底下一个猛子扎过去，这样的“路”还可以过汽车——汽车吼叫着，车身摇晃着，卵石挤碰着，水花四溅，我们的心也怦怦直跳……平生没走过这么“野”的路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924360" cy="490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35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</a:rPr>
              <a:t>动物是野的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2192400"/>
            <a:ext cx="741852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山上的野物当然更是“野”性十足了。那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大大小小的猴子，在我们头上的树枝间跳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跳去，亲热的劲头难以言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ffcc00"/>
                </a:solidFill>
                <a:latin typeface="Tahoma"/>
              </a:rPr>
              <a:t>当我们一行中的的一位年轻女同志从树下经过时，一只小猴子竟恶作剧地撒起尿来，吓得这位女同胞惊叫一声，慌忙逃走了。而那个调皮的小家伙，却快活的叫着，跳到另一棵树上去了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336096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799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99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98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998"/>
                            </p:stCondLst>
                            <p:childTnLst>
                              <p:par>
                                <p:cTn id="3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998"/>
                            </p:stCondLst>
                            <p:childTnLst>
                              <p:par>
                                <p:cTn id="3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998"/>
                            </p:stCondLst>
                            <p:childTnLst>
                              <p:par>
                                <p:cTn id="3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5280" y="573408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树枝间跳来跳去的猴子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78920" y="836280"/>
            <a:ext cx="8496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ahoma"/>
              </a:rPr>
              <a:t>在这样的山水间行走，我们也渐渐变得“野”了起来。城里戴眼镜的姑娘，一边攀缘，一边嚼着煮熟的玉米棒；年过花甲的老人，在石块间蹦来蹦去，温习着儿时的功课。遇上突然横在面前的山溪，一队人手提皮鞋、丝袜，踩着乱石，从平膝的水中蹚过去…… 满山的嘻嘻哈哈，满溪的亲亲热热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274760" y="1258920"/>
            <a:ext cx="5097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87280" y="191628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03640" y="508464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26920" y="1052640"/>
            <a:ext cx="6409080" cy="1152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人们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在这山水中返璞归真了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473720" y="260280"/>
            <a:ext cx="45864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74120" y="189000"/>
            <a:ext cx="13993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一　线　天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　内景　外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5076720" cy="3816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9051840" y="415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356000" y="4076640"/>
            <a:ext cx="4608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方正舒体"/>
              </a:rPr>
              <a:t>百仗峡</a:t>
            </a:r>
            <a:endParaRPr b="0" i="1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4049640"/>
            <a:ext cx="7848720" cy="2808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3311640" cy="3673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254560" y="0"/>
            <a:ext cx="3889440" cy="414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859320" y="404640"/>
            <a:ext cx="2191320" cy="5472360"/>
          </a:xfrm>
          <a:prstGeom prst="rect">
            <a:avLst/>
          </a:prstGeom>
          <a:solidFill>
            <a:srgbClr val="00ff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  <a:ea typeface="华文新魏"/>
              </a:rPr>
              <a:t>十里画廊游览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5229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522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2700360" y="5373720"/>
            <a:ext cx="451944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9933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西海峰林</a:t>
            </a:r>
            <a:endParaRPr b="0" lang="en-US" sz="7200" spc="1" strike="noStrike">
              <a:ln w="12600">
                <a:solidFill>
                  <a:srgbClr val="ff00ff"/>
                </a:solidFill>
                <a:miter/>
              </a:ln>
              <a:solidFill>
                <a:srgbClr val="9933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71640" y="333360"/>
            <a:ext cx="44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天然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162864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野性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2924280"/>
            <a:ext cx="40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惊险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14972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磅礴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5300640"/>
            <a:ext cx="63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随心所欲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不拘一格的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13480" y="1295280"/>
            <a:ext cx="1190880" cy="42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5760" y="1295280"/>
            <a:ext cx="2191320" cy="4581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宝  峰  湖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2000" y="508464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0" y="4005360"/>
            <a:ext cx="423864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643280" y="5157720"/>
            <a:ext cx="45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隶书"/>
              </a:rPr>
              <a:t>索溪峪的水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5300640"/>
            <a:ext cx="41911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索溪峪的水</a:t>
            </a:r>
            <a:endParaRPr b="0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0:52:58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5:43Z</dcterms:modified>
  <cp:revision>14</cp:revision>
  <dc:subject>六十铺中小学教育网http://www.lspjy.com</dc:subject>
  <dc:title>六十铺中小学教育网http://www.lspjy.com</dc:title>
</cp:coreProperties>
</file>