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F23C-3BE0-4592-BF1D-599BCA06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6F0D-41FD-4392-9212-6BDB1827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EFBD-07FB-40A7-B7C5-CA71A210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C394-E1F0-4A85-A52F-54DF1C71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3A63-4730-4627-B306-6CC3D916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A6DD-0F70-492D-8D34-051487BCA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1C1B-A830-4DC7-A50E-D1F3FAD4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DFBD-DD14-492E-8F35-04F890BB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E32F-FF2B-4EA2-8F55-FBFFD7CA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6093-D7A2-4914-A3E9-031077B6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EE2C-A51D-4A4D-87B6-E5272D18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ADCA-C937-44CA-A120-D2C66BD5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B6E9-5185-4616-B470-77E656D86B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068" t="36418" r="4022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979640" y="1125360"/>
            <a:ext cx="540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草虫的村落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11280" y="1413000"/>
            <a:ext cx="7920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此时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我觉得它们的音乐优于人间的一切音乐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这是虫子们能演奏出来的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此时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我觉得它们的音乐优于人间的一切音乐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这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只有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虫子们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才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能演奏出来的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292640"/>
            <a:ext cx="3184560" cy="2517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34016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116000" y="133524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大街小巷里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花色斑斓的小圆虫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披着俏丽的彩衣。在这些粗壮的黑甲虫中间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它们好像南国的少女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逗得多少虫子驻足痴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29264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971640" y="105732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　　蜥蜴面前围拢了一群黑甲虫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对这庞然大物投以好奇的目光。它们友好地交流着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好像攀谈得很投机似的。看啊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!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蜥蜴好像忘记了旅途的劳倦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它背着几个小黑甲虫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到处参观远房亲戚的住宅。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429588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9640" y="1052640"/>
            <a:ext cx="81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现在它们归来了，每一个都用前肢推着大过身体两三倍的食物，行色匆匆地赶着路。是什么力量是它们这么勤勉地奔忙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429588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55640" y="1268280"/>
            <a:ext cx="76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看见测气候者忙于观察气象，工程师忙于建筑设计……各种不同的工作，都有专门的虫子担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7956720" y="0"/>
            <a:ext cx="1187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5270400"/>
            <a:ext cx="4572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更多全套免费课件下载地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六十铺中小学教育网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0920" y="7351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　　今天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我又躺在田野里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在无限的静谧中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忘了世界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也忘了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23954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　　我悠悠忽忽地漫游了一个下午，直至夕阳亲吻着西山的时候，红鸠鸟的歌声才把我的心灵唤回来。我发现了草丛中小虫子的快乐天地。我多么得意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48830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楷体_GB2312"/>
              </a:rPr>
              <a:t>　　我愿意牵着你的手，一起到草虫的村落里去散散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4068" t="36418" r="4022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59280" y="3645000"/>
            <a:ext cx="28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人与自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8985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Arial"/>
                <a:ea typeface="楷体_GB2312"/>
              </a:rPr>
              <a:t>珍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1440" y="9079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Arial"/>
                <a:ea typeface="楷体_GB2312"/>
              </a:rPr>
              <a:t>生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1080" y="9079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Arial"/>
                <a:ea typeface="楷体_GB2312"/>
              </a:rPr>
              <a:t>尊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40000" y="23558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Arial"/>
                <a:ea typeface="楷体_GB2312"/>
              </a:rPr>
              <a:t>平等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21440" y="23558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Arial"/>
                <a:ea typeface="楷体_GB2312"/>
              </a:rPr>
              <a:t>和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4068" t="36418" r="4022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69228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47628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Arial"/>
                <a:ea typeface="楷体_GB2312"/>
              </a:rPr>
              <a:t>　　　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草虫的村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3020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　　我目光追随着爬行的的小虫，做了一次奇异的游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2549520"/>
            <a:ext cx="79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Arial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　我发现了草丛中小虫子的快乐天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3528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课题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第一句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56360" y="630252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第二句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7280" y="76500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6094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　　今天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我又躺在田野里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在无限的静谧中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忘了世界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也忘了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23781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　　我悠悠忽忽地漫游了一个下午，直至夕阳亲吻着西山的时候，红鸠鸟的歌声才把我的心灵唤回来。我发现了草丛中小虫子的快乐天地。我多么得意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1055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　　我愿意牵着你的手，一起到草虫的村落里去散散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4068" t="36418" r="4022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1557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小虫子的世界中，究竟蕴藏着什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交往</a:t>
            </a: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1</a:t>
            </a: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6360" y="630252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交往</a:t>
            </a: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9564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演奏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672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劳动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2764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分工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64360" y="630864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回应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4400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拓展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630864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ff00"/>
                </a:solidFill>
                <a:latin typeface="Arial"/>
                <a:ea typeface="楷体_GB2312"/>
              </a:rPr>
              <a:t>升华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4360" y="90792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55640" y="765000"/>
            <a:ext cx="7488360" cy="1820520"/>
            <a:chOff x="755640" y="765000"/>
            <a:chExt cx="7488360" cy="1820520"/>
          </a:xfrm>
        </p:grpSpPr>
        <p:sp>
          <p:nvSpPr>
            <p:cNvPr id="67" name=""/>
            <p:cNvSpPr/>
            <p:nvPr/>
          </p:nvSpPr>
          <p:spPr>
            <a:xfrm>
              <a:off x="755640" y="765000"/>
              <a:ext cx="748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1e00"/>
                  </a:solidFill>
                  <a:latin typeface="Arial"/>
                  <a:ea typeface="楷体_GB2312"/>
                </a:rPr>
                <a:t>　　空间在我眼前扩大了，细密的草茎组成了茂盛的森林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55640" y="1197000"/>
              <a:ext cx="720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　　　　　　一只小虫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一只生着坚硬黑甲的小虫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迷失在这座森林里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26920" y="1638360"/>
              <a:ext cx="7417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　　　　　　　　　　　我想它一定是游侠吧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!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你看它虽然迷了路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仍傲然地前进着。它不断地左冲右撞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终于走出一条路。我的目光跟着它的脚步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它走着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走着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一路上遇到不少同伴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1e00"/>
                  </a:solidFill>
                  <a:latin typeface="楷体_GB2312"/>
                  <a:ea typeface="楷体_GB2312"/>
                </a:rPr>
                <a:t>它们互相打着招呼。我真想也跟它们　　一下，可惜我不懂它们的语言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4788000" y="2133720"/>
            <a:ext cx="338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256536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2997360"/>
            <a:ext cx="4321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434016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932360" y="450864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13440" y="4508640"/>
            <a:ext cx="115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16720" y="3357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7080" y="335772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08000" y="429588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71640" y="1197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只英勇的黑甲虫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走进了村子。我看见在许多同类虫子中间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只娇小的从洞里跑出来迎接远归者。它们意味深长地对视良久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然后一齐欢跃地走回洞穴里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4068" t="36418" r="4022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4360" y="15699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原来，在小虫子的世界中，蕴藏着多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4068" t="36418" r="4022" b="4514"/>
          <a:stretch/>
        </p:blipFill>
        <p:spPr>
          <a:xfrm>
            <a:off x="0" y="2536920"/>
            <a:ext cx="9144000" cy="4321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84360" y="156996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在我眼中，草虫的村落就是 </a:t>
            </a:r>
            <a:r>
              <a:rPr b="1" lang="zh-CN" sz="3600" spc="-1" strike="noStrike">
                <a:solidFill>
                  <a:srgbClr val="001e00"/>
                </a:solidFill>
                <a:latin typeface="黑体"/>
                <a:ea typeface="黑体"/>
              </a:rPr>
              <a:t>_________</a:t>
            </a:r>
            <a:r>
              <a:rPr b="1" lang="zh-CN" sz="3200" spc="-1" strike="noStrike">
                <a:solidFill>
                  <a:srgbClr val="001e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34016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26920" y="98100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　　甲虫音乐家们全神贯注地振着翅膀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优美的音韵，像灵泉一般流了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8720" y="1413000"/>
            <a:ext cx="784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　　　　　　　　　　　    此时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觉得它们的音乐优于人间的一切音乐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是只有虫子们才能演奏出来的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23623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324480" y="2438280"/>
            <a:ext cx="15264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2438280"/>
            <a:ext cx="761760" cy="243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429000" y="2438280"/>
            <a:ext cx="2666880" cy="2210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438280"/>
            <a:ext cx="121932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2:02:40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4:34:54Z</dcterms:modified>
  <cp:revision>38</cp:revision>
  <dc:subject>六十铺中小学教育网http://www.lspjy.com</dc:subject>
  <dc:title>六十铺中小学教育网http://www.lspjy.com</dc:title>
</cp:coreProperties>
</file>