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2831-25E6-4989-940D-BB0350026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E1A0-7AC3-4D80-B224-F57781D8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EBA3-D57F-48EA-84F5-FA08047D6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4EF8-0BAF-4F74-8A03-40F10F4BB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F7F7-8DA0-4090-97EE-E724ABDB3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8887F-E81F-4DC1-A1B1-AD43CE1C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5A71-293C-4AB2-9DF1-0EEABD2B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EE30-DF60-46BF-AB69-68CEBAD8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F34D-3110-48F1-843F-789BA7D3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474B-1426-4017-BFCD-E387206D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8395-DB7C-43F9-B197-9AF227B8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E17C-F31A-4637-8F4E-A7A2D9B3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6A94-F872-4862-9351-ABD82AD2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523F-7185-4961-847F-4DF686B9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EA36-97CE-41E0-89FD-D5D01E5D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44E4-C01A-4C44-B837-D546BD518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988F-2EA7-4BB0-8E6F-540D7F4A4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E3BA-EFFF-4050-A25C-9D1DC76F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B9B2-1BA5-4E17-BF87-F8EDCC79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9E9A-0228-4E97-9D8F-788C13B8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1CA4-7890-4EB9-AE00-FE38655F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B0A9-DF71-4F95-A4D3-8070D1BB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FB4A-345D-4BC3-9652-DEADEE13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0258-8FD5-4F19-9B1A-6F45B98C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BFEC-AB71-45FC-ADBE-07372E199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F41A-40C5-472E-A34F-5389DC067E2F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卢浮宫2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83" name="WordArt 10" descr=""/>
          <p:cNvPicPr/>
          <p:nvPr/>
        </p:nvPicPr>
        <p:blipFill>
          <a:blip r:embed="rId2"/>
          <a:stretch/>
        </p:blipFill>
        <p:spPr>
          <a:xfrm>
            <a:off x="1316160" y="2487600"/>
            <a:ext cx="6694200" cy="15238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7020000" y="616572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法国卢浮宫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468360" y="620640"/>
            <a:ext cx="58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义务教育课程标准小学语文六年级语文上册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3203640" y="616572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广汉市金鱼小学     汤晓婧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蒙娜丽莎的微笑"/>
          <p:cNvPicPr/>
          <p:nvPr/>
        </p:nvPicPr>
        <p:blipFill>
          <a:blip r:embed="rId1"/>
          <a:stretch/>
        </p:blipFill>
        <p:spPr>
          <a:xfrm>
            <a:off x="0" y="0"/>
            <a:ext cx="45576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5"/>
          <p:cNvSpPr/>
          <p:nvPr/>
        </p:nvSpPr>
        <p:spPr>
          <a:xfrm>
            <a:off x="5148360" y="836640"/>
            <a:ext cx="36003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蒙娜丽莎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世界上最杰出的肖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像画，世界上有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少人能亲睹她的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采呢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6516720" y="184464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99"/>
                </a:solidFill>
                <a:latin typeface="Arial"/>
              </a:rPr>
              <a:t>· · ·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蒙娜丽莎的微笑"/>
          <p:cNvPicPr/>
          <p:nvPr/>
        </p:nvPicPr>
        <p:blipFill>
          <a:blip r:embed="rId1"/>
          <a:stretch/>
        </p:blipFill>
        <p:spPr>
          <a:xfrm>
            <a:off x="0" y="0"/>
            <a:ext cx="45576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4967280" y="62064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       “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蒙娜丽莎”是全人类文化宝库中一颗璀璨的明珠，她的光辉照耀着每一个有幸看到她的人。我虽然在她面前只停留了短短的几分钟，她却在我的心底留下了永不磨灭的印象。她已经成了我灵魂的一部分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25" name="Group 4"/>
          <p:cNvGrpSpPr/>
          <p:nvPr/>
        </p:nvGrpSpPr>
        <p:grpSpPr>
          <a:xfrm>
            <a:off x="5076720" y="3573360"/>
            <a:ext cx="3527640" cy="576360"/>
            <a:chOff x="5076720" y="3573360"/>
            <a:chExt cx="3527640" cy="576360"/>
          </a:xfrm>
        </p:grpSpPr>
        <p:sp>
          <p:nvSpPr>
            <p:cNvPr id="126" name="Rectangle 5"/>
            <p:cNvSpPr/>
            <p:nvPr/>
          </p:nvSpPr>
          <p:spPr>
            <a:xfrm>
              <a:off x="8317080" y="3573360"/>
              <a:ext cx="287280" cy="71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7" name="Rectangle 6"/>
            <p:cNvSpPr/>
            <p:nvPr/>
          </p:nvSpPr>
          <p:spPr>
            <a:xfrm>
              <a:off x="5076720" y="4076640"/>
              <a:ext cx="2016360" cy="730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28" name="Group 7"/>
          <p:cNvGrpSpPr/>
          <p:nvPr/>
        </p:nvGrpSpPr>
        <p:grpSpPr>
          <a:xfrm>
            <a:off x="5076720" y="4581360"/>
            <a:ext cx="3598920" cy="503280"/>
            <a:chOff x="5076720" y="4581360"/>
            <a:chExt cx="3598920" cy="503280"/>
          </a:xfrm>
        </p:grpSpPr>
        <p:sp>
          <p:nvSpPr>
            <p:cNvPr id="129" name="Rectangle 8"/>
            <p:cNvSpPr/>
            <p:nvPr/>
          </p:nvSpPr>
          <p:spPr>
            <a:xfrm>
              <a:off x="7956720" y="4581360"/>
              <a:ext cx="718920" cy="730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0" name="Rectangle 9"/>
            <p:cNvSpPr/>
            <p:nvPr/>
          </p:nvSpPr>
          <p:spPr>
            <a:xfrm>
              <a:off x="5076720" y="5013360"/>
              <a:ext cx="2016360" cy="712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31" name="Group 10"/>
          <p:cNvGrpSpPr/>
          <p:nvPr/>
        </p:nvGrpSpPr>
        <p:grpSpPr>
          <a:xfrm>
            <a:off x="5076720" y="5084640"/>
            <a:ext cx="3527640" cy="1008360"/>
            <a:chOff x="5076720" y="5084640"/>
            <a:chExt cx="3527640" cy="1008360"/>
          </a:xfrm>
        </p:grpSpPr>
        <p:sp>
          <p:nvSpPr>
            <p:cNvPr id="132" name="Line 11"/>
            <p:cNvSpPr/>
            <p:nvPr/>
          </p:nvSpPr>
          <p:spPr>
            <a:xfrm>
              <a:off x="7524720" y="5084640"/>
              <a:ext cx="1079640" cy="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3" name="Line 12"/>
            <p:cNvSpPr/>
            <p:nvPr/>
          </p:nvSpPr>
          <p:spPr>
            <a:xfrm>
              <a:off x="5076720" y="5589720"/>
              <a:ext cx="3240360" cy="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4" name="Line 13"/>
            <p:cNvSpPr/>
            <p:nvPr/>
          </p:nvSpPr>
          <p:spPr>
            <a:xfrm>
              <a:off x="5076720" y="6093000"/>
              <a:ext cx="719280" cy="0"/>
            </a:xfrm>
            <a:prstGeom prst="line">
              <a:avLst/>
            </a:prstGeom>
            <a:ln w="381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蒙娜丽莎的微笑"/>
          <p:cNvPicPr/>
          <p:nvPr/>
        </p:nvPicPr>
        <p:blipFill>
          <a:blip r:embed="rId1"/>
          <a:stretch/>
        </p:blipFill>
        <p:spPr>
          <a:xfrm>
            <a:off x="5148360" y="765000"/>
            <a:ext cx="3476520" cy="5229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dafenqi"/>
          <p:cNvPicPr/>
          <p:nvPr/>
        </p:nvPicPr>
        <p:blipFill>
          <a:blip r:embed="rId2"/>
          <a:stretch/>
        </p:blipFill>
        <p:spPr>
          <a:xfrm>
            <a:off x="250920" y="765000"/>
            <a:ext cx="45622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4000" y="83664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达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芬奇是意大利文艺复兴时期最伟大最著名的巨匠，他不仅是一位天才的画家，并且是大数学家、科学家、力学家和工程师，是一位多才多艺、全面发展的人。他不仅会画画，雕塑，建筑房屋，还会发明武器，设计过世界上第一个飞行机。他又是一个医学家、音乐家和戏剧家，而且在物理学、地理学和植物学等其它科学的研究上也很有成就。他道德高尚，举止温雅，且体格健壮，力量过人，据说他一只手就能轻易地折断马蹄铁。他左右手都会写字。作画，他用左手写的字是反向的，人们只有在镜子里才能看懂。</a:t>
            </a:r>
            <a:br>
              <a:rPr sz="3200"/>
            </a:b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　　　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0" name="Picture 4" descr="zuihoudewancan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5069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3492360" y="60213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2000" spc="-1" strike="noStrike">
                <a:solidFill>
                  <a:srgbClr val="6600cc"/>
                </a:solidFill>
                <a:latin typeface="Arial"/>
              </a:rPr>
              <a:t>最后的晚餐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卢浮宫目前已经成为世界三大博物馆之一，其艺术藏品种类之丰富，档次之高堪称世界一流。其中最重要的镇宫三宝是世人皆知的：米洛的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维纳斯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，达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·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芬奇的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蒙娜丽莎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和萨莫特拉斯的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胜利女神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5589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更多全套免费课件下载地址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六十铺中小学教育网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6" name="Picture 4" descr="卢浮宫三宝2"/>
          <p:cNvPicPr/>
          <p:nvPr/>
        </p:nvPicPr>
        <p:blipFill>
          <a:blip r:embed="rId1"/>
          <a:stretch/>
        </p:blipFill>
        <p:spPr>
          <a:xfrm>
            <a:off x="0" y="189000"/>
            <a:ext cx="4645080" cy="6194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卢浮宫三宝4"/>
          <p:cNvPicPr/>
          <p:nvPr/>
        </p:nvPicPr>
        <p:blipFill>
          <a:blip r:embed="rId2"/>
          <a:stretch/>
        </p:blipFill>
        <p:spPr>
          <a:xfrm>
            <a:off x="4619520" y="189000"/>
            <a:ext cx="4524480" cy="61927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6"/>
          <p:cNvSpPr/>
          <p:nvPr/>
        </p:nvSpPr>
        <p:spPr>
          <a:xfrm>
            <a:off x="1774080" y="6308640"/>
            <a:ext cx="128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cc"/>
                </a:solidFill>
                <a:latin typeface="Arial"/>
              </a:rPr>
              <a:t>米洛的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6600cc"/>
                </a:solidFill>
                <a:latin typeface="Arial"/>
              </a:rPr>
              <a:t>维纳斯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5705280" y="6308640"/>
            <a:ext cx="18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cc"/>
                </a:solidFill>
                <a:latin typeface="Arial"/>
              </a:rPr>
              <a:t>萨莫特拉斯的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6600cc"/>
                </a:solidFill>
                <a:latin typeface="Arial"/>
              </a:rPr>
              <a:t>胜利女神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AutoShape 8">
            <a:hlinkClick r:id="" action="ppaction://hlinkshowjump?jump=firstslide"/>
          </p:cNvPr>
          <p:cNvSpPr/>
          <p:nvPr/>
        </p:nvSpPr>
        <p:spPr>
          <a:xfrm>
            <a:off x="8604360" y="6453360"/>
            <a:ext cx="360360" cy="215640"/>
          </a:xfrm>
          <a:custGeom>
            <a:avLst/>
            <a:gdLst>
              <a:gd name="textAreaLeft" fmla="*/ 13680 w 360360"/>
              <a:gd name="textAreaRight" fmla="*/ 346680 w 36036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36072" h="21600">
                <a:moveTo>
                  <a:pt x="0" y="0"/>
                </a:moveTo>
                <a:lnTo>
                  <a:pt x="36072" y="0"/>
                </a:lnTo>
                <a:lnTo>
                  <a:pt x="36072" y="21600"/>
                </a:lnTo>
                <a:lnTo>
                  <a:pt x="0" y="21600"/>
                </a:lnTo>
                <a:close/>
              </a:path>
              <a:path fill="lightenLess" w="36072" h="21600">
                <a:moveTo>
                  <a:pt x="0" y="0"/>
                </a:moveTo>
                <a:lnTo>
                  <a:pt x="36072" y="0"/>
                </a:lnTo>
                <a:lnTo>
                  <a:pt x="34672" y="1400"/>
                </a:lnTo>
                <a:lnTo>
                  <a:pt x="1400" y="1400"/>
                </a:lnTo>
                <a:close/>
              </a:path>
              <a:path fill="darken" w="36072" h="21600">
                <a:moveTo>
                  <a:pt x="36072" y="0"/>
                </a:moveTo>
                <a:lnTo>
                  <a:pt x="36072" y="21600"/>
                </a:lnTo>
                <a:lnTo>
                  <a:pt x="34672" y="20200"/>
                </a:lnTo>
                <a:lnTo>
                  <a:pt x="34672" y="1400"/>
                </a:lnTo>
                <a:close/>
              </a:path>
              <a:path fill="darkenLess" w="36072" h="21600">
                <a:moveTo>
                  <a:pt x="3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72" y="20200"/>
                </a:lnTo>
                <a:close/>
              </a:path>
              <a:path fill="lighten" w="3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72" h="21600">
                <a:moveTo>
                  <a:pt x="14537" y="10800"/>
                </a:moveTo>
                <a:lnTo>
                  <a:pt x="25042" y="3794"/>
                </a:lnTo>
                <a:lnTo>
                  <a:pt x="25042" y="17806"/>
                </a:lnTo>
                <a:close/>
              </a:path>
              <a:path fill="darken" w="36072" h="21600">
                <a:moveTo>
                  <a:pt x="11030" y="3794"/>
                </a:moveTo>
                <a:lnTo>
                  <a:pt x="12692" y="3794"/>
                </a:lnTo>
                <a:lnTo>
                  <a:pt x="12692" y="17806"/>
                </a:lnTo>
                <a:lnTo>
                  <a:pt x="11030" y="17806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6"/>
          <p:cNvSpPr/>
          <p:nvPr/>
        </p:nvSpPr>
        <p:spPr>
          <a:xfrm>
            <a:off x="468360" y="907920"/>
            <a:ext cx="84247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纽约    探访    交涉    肖像   悄然赴约    陈列    脸颊    淡雅   捉摸   永恒    端庄    沐浴    细腻   衬托  幻觉    空旷    深远    风采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大摇大摆     无论如何    有朝一日  大洋彼岸     耐人寻味    转瞬即逝  永不磨灭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88" name="Group 15"/>
          <p:cNvGrpSpPr/>
          <p:nvPr/>
        </p:nvGrpSpPr>
        <p:grpSpPr>
          <a:xfrm>
            <a:off x="5580000" y="475920"/>
            <a:ext cx="2879640" cy="581760"/>
            <a:chOff x="5580000" y="475920"/>
            <a:chExt cx="2879640" cy="581760"/>
          </a:xfrm>
        </p:grpSpPr>
        <p:grpSp>
          <p:nvGrpSpPr>
            <p:cNvPr id="89" name="Group 10"/>
            <p:cNvGrpSpPr/>
            <p:nvPr/>
          </p:nvGrpSpPr>
          <p:grpSpPr>
            <a:xfrm>
              <a:off x="5580000" y="476280"/>
              <a:ext cx="1079640" cy="581400"/>
              <a:chOff x="5580000" y="476280"/>
              <a:chExt cx="1079640" cy="581400"/>
            </a:xfrm>
          </p:grpSpPr>
          <p:sp>
            <p:nvSpPr>
              <p:cNvPr id="90" name="Text Box 7"/>
              <p:cNvSpPr/>
              <p:nvPr/>
            </p:nvSpPr>
            <p:spPr>
              <a:xfrm>
                <a:off x="5580000" y="476280"/>
                <a:ext cx="1079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ff"/>
                    </a:solidFill>
                    <a:latin typeface="Arial"/>
                  </a:rPr>
                  <a:t>xiao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1" name="Line 9"/>
              <p:cNvSpPr/>
              <p:nvPr/>
            </p:nvSpPr>
            <p:spPr>
              <a:xfrm>
                <a:off x="5940360" y="476280"/>
                <a:ext cx="144360" cy="144360"/>
              </a:xfrm>
              <a:prstGeom prst="line">
                <a:avLst/>
              </a:prstGeom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14"/>
            <p:cNvGrpSpPr/>
            <p:nvPr/>
          </p:nvGrpSpPr>
          <p:grpSpPr>
            <a:xfrm>
              <a:off x="7164360" y="475920"/>
              <a:ext cx="1295280" cy="581760"/>
              <a:chOff x="7164360" y="475920"/>
              <a:chExt cx="1295280" cy="581760"/>
            </a:xfrm>
          </p:grpSpPr>
          <p:sp>
            <p:nvSpPr>
              <p:cNvPr id="93" name="Text Box 11"/>
              <p:cNvSpPr/>
              <p:nvPr/>
            </p:nvSpPr>
            <p:spPr>
              <a:xfrm>
                <a:off x="7164360" y="476280"/>
                <a:ext cx="1295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00ff"/>
                    </a:solidFill>
                    <a:latin typeface="Arial"/>
                  </a:rPr>
                  <a:t>qiao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4" name="Line 12"/>
              <p:cNvSpPr/>
              <p:nvPr/>
            </p:nvSpPr>
            <p:spPr>
              <a:xfrm>
                <a:off x="7596360" y="476280"/>
                <a:ext cx="71280" cy="142920"/>
              </a:xfrm>
              <a:prstGeom prst="line">
                <a:avLst/>
              </a:prstGeom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5" name="Line 13"/>
              <p:cNvSpPr/>
              <p:nvPr/>
            </p:nvSpPr>
            <p:spPr>
              <a:xfrm flipV="1">
                <a:off x="7667640" y="475920"/>
                <a:ext cx="73080" cy="142920"/>
              </a:xfrm>
              <a:prstGeom prst="line">
                <a:avLst/>
              </a:prstGeom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卢浮宫2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蒙娜丽莎的微笑"/>
          <p:cNvPicPr/>
          <p:nvPr/>
        </p:nvPicPr>
        <p:blipFill>
          <a:blip r:embed="rId2"/>
          <a:stretch/>
        </p:blipFill>
        <p:spPr>
          <a:xfrm>
            <a:off x="971640" y="0"/>
            <a:ext cx="4959360" cy="746136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10"/>
          <p:cNvGrpSpPr/>
          <p:nvPr/>
        </p:nvGrpSpPr>
        <p:grpSpPr>
          <a:xfrm>
            <a:off x="6372360" y="907920"/>
            <a:ext cx="2376360" cy="3097080"/>
            <a:chOff x="6372360" y="907920"/>
            <a:chExt cx="2376360" cy="3097080"/>
          </a:xfrm>
        </p:grpSpPr>
        <p:sp>
          <p:nvSpPr>
            <p:cNvPr id="99" name="AutoShape 8"/>
            <p:cNvSpPr/>
            <p:nvPr/>
          </p:nvSpPr>
          <p:spPr>
            <a:xfrm>
              <a:off x="6372360" y="907920"/>
              <a:ext cx="2376360" cy="3097080"/>
            </a:xfrm>
            <a:prstGeom prst="wedgeRoundRectCallout">
              <a:avLst>
                <a:gd name="adj1" fmla="val -47328"/>
                <a:gd name="adj2" fmla="val 88134"/>
                <a:gd name="adj3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0" name="Text Box 9"/>
            <p:cNvSpPr/>
            <p:nvPr/>
          </p:nvSpPr>
          <p:spPr>
            <a:xfrm>
              <a:off x="6516720" y="1052280"/>
              <a:ext cx="20163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a77"/>
                  </a:solidFill>
                  <a:latin typeface="Arial"/>
                </a:rPr>
                <a:t>自由观赏，谈谈感受！（可以谈</a:t>
              </a:r>
              <a:r>
                <a:rPr b="1" lang="zh-CN" sz="2000" spc="-1" strike="noStrike">
                  <a:solidFill>
                    <a:srgbClr val="6600cc"/>
                  </a:solidFill>
                  <a:latin typeface="Arial"/>
                </a:rPr>
                <a:t>画面内容</a:t>
              </a:r>
              <a:r>
                <a:rPr b="1" lang="zh-CN" sz="2000" spc="-1" strike="noStrike">
                  <a:solidFill>
                    <a:srgbClr val="007a77"/>
                  </a:solidFill>
                  <a:latin typeface="Arial"/>
                </a:rPr>
                <a:t>，也可以谈你对这幅画的</a:t>
              </a:r>
              <a:r>
                <a:rPr b="1" lang="zh-CN" sz="2000" spc="-1" strike="noStrike">
                  <a:solidFill>
                    <a:srgbClr val="6600cc"/>
                  </a:solidFill>
                  <a:latin typeface="Arial"/>
                </a:rPr>
                <a:t>评价</a:t>
              </a:r>
              <a:r>
                <a:rPr b="1" lang="zh-CN" sz="2000" spc="-1" strike="noStrike">
                  <a:solidFill>
                    <a:srgbClr val="007a77"/>
                  </a:solidFill>
                  <a:latin typeface="Arial"/>
                </a:rPr>
                <a:t>，还可以谈你知道的有关这幅画或作者的</a:t>
              </a:r>
              <a:r>
                <a:rPr b="1" lang="zh-CN" sz="2000" spc="-1" strike="noStrike">
                  <a:solidFill>
                    <a:srgbClr val="6600cc"/>
                  </a:solidFill>
                  <a:latin typeface="Arial"/>
                </a:rPr>
                <a:t>资料</a:t>
              </a:r>
              <a:r>
                <a:rPr b="1" lang="zh-CN" sz="2000" spc="-1" strike="noStrike">
                  <a:solidFill>
                    <a:srgbClr val="007a77"/>
                  </a:solidFill>
                  <a:latin typeface="Arial"/>
                </a:rPr>
                <a:t>）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蒙娜丽莎的微笑"/>
          <p:cNvPicPr/>
          <p:nvPr/>
        </p:nvPicPr>
        <p:blipFill>
          <a:blip r:embed="rId1"/>
          <a:stretch/>
        </p:blipFill>
        <p:spPr>
          <a:xfrm>
            <a:off x="0" y="0"/>
            <a:ext cx="45594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4716360" y="54936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788000" y="126828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、课文主要讲了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4822920" y="242100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、哪些自然段具体介绍了这幅名画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4894200" y="414972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、你还从哪里看出了“蒙娜丽莎”的魅力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788000" y="40464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快速阅读课文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799308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首先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描述了大家在纽约大都会博物馆前排队等候欣赏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蒙娜丽莎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的心情和此画来纽约展出的原因；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然后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细腻、传神地介绍了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蒙娜丽莎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画像；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最后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指出“蒙娜丽莎”给人带来了心灵的震撼，留下了永不磨灭的印象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8244000" y="6093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10800"/>
                </a:moveTo>
                <a:lnTo>
                  <a:pt x="19941" y="3794"/>
                </a:lnTo>
                <a:lnTo>
                  <a:pt x="19941" y="17806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学习 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5 — 7 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自然段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320" y="1905120"/>
            <a:ext cx="815796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、默读，用（   ）找出介绍画像内容的语句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、对照插图，读读语句，谈谈感受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蒙娜丽莎的微笑"/>
          <p:cNvPicPr/>
          <p:nvPr/>
        </p:nvPicPr>
        <p:blipFill>
          <a:blip r:embed="rId1"/>
          <a:stretch/>
        </p:blipFill>
        <p:spPr>
          <a:xfrm>
            <a:off x="0" y="0"/>
            <a:ext cx="45576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4716360" y="69228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那幅画不大，大概三英尺长、两英尺宽吧，整幅画几乎只是一种棕色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822920" y="249228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她的脸颊泛着红光，一头黑发轻松地垂落双肩。她的眼神是那样柔和与明亮，嘴唇看来不像是涂抹的色彩，而是真的血肉。仔细看她的颈项，你会怀疑血液真的在里面流动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蒙娜丽莎的微笑"/>
          <p:cNvPicPr/>
          <p:nvPr/>
        </p:nvPicPr>
        <p:blipFill>
          <a:blip r:embed="rId1"/>
          <a:stretch/>
        </p:blipFill>
        <p:spPr>
          <a:xfrm>
            <a:off x="0" y="0"/>
            <a:ext cx="45576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4716360" y="549360"/>
            <a:ext cx="44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蒙娜丽莎那微抿的双唇，微挑的嘴角，好像有话要跟你说。在那极富个性的嘴角和眼神里，悄然流露出恬静、淡雅的微笑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643280" y="249228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那微笑，有时让人觉得舒畅温柔，有时让人觉得略含哀伤，有时让人觉得十分亲切，有时又让人觉得有几分矜持。蒙娜丽莎那“神秘的微笑”是那样耐人寻味，难以捉摸。达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·</a:t>
            </a: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芬奇凭着他的天才想象力和他那神奇的画笔，使蒙娜丽莎转瞬即逝的面部表情，成了永恒的美的象征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蒙娜丽莎的微笑"/>
          <p:cNvPicPr/>
          <p:nvPr/>
        </p:nvPicPr>
        <p:blipFill>
          <a:blip r:embed="rId1"/>
          <a:stretch/>
        </p:blipFill>
        <p:spPr>
          <a:xfrm>
            <a:off x="0" y="0"/>
            <a:ext cx="45576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4643280" y="836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</a:rPr>
              <a:t>蒙娜丽莎的身姿和交搭的双臂使她显得大方、端庄。她的脸部、颈部和双手好像沐浴在阳光里，格外明亮动人；她的右手，刻画得极其清晰细腻，富有生命的活力；她的朴素的茶褐色衣服更加衬托出特有的生命力。她身后的背景充满着幻觉般的神秘感，山峦、石桥、流水、树丛、小径，在朦胧中向远方蜿蜒隐去。在这空旷而深远的背景里，蒙娜丽莎更加美丽动人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838836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10800"/>
                </a:moveTo>
                <a:lnTo>
                  <a:pt x="19941" y="3794"/>
                </a:lnTo>
                <a:lnTo>
                  <a:pt x="19941" y="17806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2:38:58Z</dcterms:created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10:08:39Z</dcterms:modified>
  <cp:revision>11</cp:revision>
  <dc:subject>六十铺中小学教育网http://www.lspjy.com</dc:subject>
  <dc:title>六十铺中小学教育网http://www.lspjy.com</dc:title>
</cp:coreProperties>
</file>