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94A-E248-4084-B30F-B5916142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20E-61C5-4288-A288-AE418D88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7AB1-2667-4068-99F8-0ECF939A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7DE-A915-4B9A-9F6A-708881E5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78C-9500-4253-BAE5-6EBAB755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C9EB-D0D3-46FE-8276-4CE38E06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209-28DF-470D-AAE9-EF535579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C7A-60B4-4CEA-AEDC-63ADA739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6DF-0AED-4E23-A17C-BC6C900A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C23-F495-41AE-81AD-FBCEB10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82D0-A0C8-4F40-A8AD-462BA8F1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3B1-6E1C-42FB-92EE-93042DE6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44B7-3CBD-4238-A938-E626E1257F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447920"/>
            <a:ext cx="7391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新宋体"/>
              </a:rPr>
              <a:t>这片土地是神圣的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094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600200"/>
            <a:ext cx="8305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我们是大地的一部分，大地也是我们的一部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１、交流自己的理解和体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２、用一两个词语来形容大地和我们的关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5256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1676520"/>
            <a:ext cx="76197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我们和大地上的山峦河流、动物植物共同属于一个家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１、共同属于哪一个家园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２、交流朗读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３、有感情地朗读第３自然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53352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60020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河水是我们的兄弟，也是你们的兄弟。你们应该像善待自己的兄弟那样，善待我们的河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１、交流感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２、为什么作者说要像善待兄弟一样地善待河水？读第４自然段，找到相关的句子谈谈自己的感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３、感情朗读第４、５自然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85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676520"/>
            <a:ext cx="7924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你们要照管好它，使你们也能够品尝风经过草地后的甜美味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、交流说说自己的感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、说说那是一种怎样的味道？文章里哪些句子可以体味到这种独特的味道？（读第５自然段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、为什么说要照管好它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４、有感情地朗读第６、７自然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685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75248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们一定要照顾好这片土地上的动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１、联系上下文谈谈自己的理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２、理解“降临到动物身上的命运终究也会降临到人类身上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３、有感情地朗读第８自然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68580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重点句子理解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752480"/>
            <a:ext cx="784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你们要像我们一样热爱它，照管它。为了子孙后代，你们要献出全部的力量和情感来保护大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１、交流自己的理解和感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２、说说我们是怎样热爱、照管这片神圣的土地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３、我们为什么要这样热爱、照管这片土地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85800"/>
            <a:ext cx="662940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板书设计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这片土地是神圣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善待河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神圣的土地 善待空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善待动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905120"/>
            <a:ext cx="8820000" cy="1015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１９世纪５０年代，“华盛顿特区”的白人领袖想购买美国西北部的印第安人领地。本文是根据当时印第安人酋长西雅图的回信编译的。西雅图对白人很友好，为了纪念他，美国西北最大的海岸城市命名为西雅图。白人居民还在他的墓地上建立了纪念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资料介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2120" y="1447920"/>
            <a:ext cx="7696080" cy="174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西雅图被称为常青城，是一个不可思议的城市。它海拔最低，却有古老的冰川，活跃的火山和终年积雪的山峰。西雅图又是一个得天独厚的城市，它拥有青山、湖泊，拥有港湾河道，拥有温润的气候，如春的四季。无论是在美国本土，还是在世界其他地方，几乎找不到第二个城市能像西雅图那样，山峦、平地都被密密的、几近原始的森林所覆盖。市区内外皆衬饰着幽静的港湾、河流、绿树，掩映着色彩丰富的街市。而在环绕着城市的青山之中，又错落地隐藏着几十个大小不等的湖泊。树木葱郁，草地青葱，甚至飘来飘去的雨，轻轻掠过的风，都带着青绿的颜色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7621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资料介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理清文章记叙顺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１～３自然段：总写这片土地的每一个部分都是神圣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４～８自然段：表达了西雅图酋长对白人的强烈要求，如果把土地转让了，希望白人能牢记这片土地是神圣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９～１１自然段：写人类和大地的关系，指出大地是人类的母亲，人类属于大地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4:10:44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9:33Z</dcterms:modified>
  <cp:revision>14</cp:revision>
  <dc:subject>六十铺中小学教育网http://www.lspjy.com</dc:subject>
  <dc:title>六十铺中小学教育网http://www.lspjy.com</dc:title>
</cp:coreProperties>
</file>