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F6E-616E-4248-B426-A928DEFE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C748-A9C9-44CD-988E-CA6ED6F1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4DFD-06A2-4554-B437-2FDE454BE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0FD-F57C-44AE-A139-60B4818C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0852-EACC-4F2A-8BAC-345DD5A0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92F1-0027-4901-AEDF-FFE938B3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B742-62F6-4BA2-A475-00475596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49E4-A788-425D-A14C-09815239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6F97C-C82E-4A8C-B4A8-263F55B7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910A-8C3D-4A2C-AD26-415C580B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9A24D-3732-47C2-846D-025A3F28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523-B045-47D9-9684-6CB17DA1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DC39-8B61-44E7-944F-8E0A3A27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D887-240F-4F2E-B8CF-FC8CCA80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08F8-CC56-4760-9539-65259B68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A486-8951-4489-A0D6-D08E0D32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8629-B268-41C4-A1CB-AF9A63A1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1068-90E9-465C-AA47-919DBB8F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DB7-D9D8-4100-8F78-69E426F8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C2C7-0EAA-4B05-9F97-724AEBC6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86FB-A8B4-4FA6-AB2F-E24AB585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A421-6547-47C8-956A-1E5F546C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1F6-8603-4C50-BBB9-23776778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6A7-8FC5-4BB6-87E8-BC8EC241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77EE-A10D-44FF-BF2A-81D808D8041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2781-2192-4CE6-98AB-DA637D9DA03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90720" y="1981080"/>
            <a:ext cx="7315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7a77"/>
                </a:solidFill>
                <a:latin typeface="Arial"/>
              </a:rPr>
              <a:t>16</a:t>
            </a:r>
            <a:r>
              <a:rPr b="1" lang="zh-CN" sz="8000" spc="-1" strike="noStrike">
                <a:solidFill>
                  <a:srgbClr val="007a77"/>
                </a:solidFill>
                <a:latin typeface="Arial"/>
              </a:rPr>
              <a:t>*  </a:t>
            </a:r>
            <a:r>
              <a:rPr b="1" lang="zh-CN" sz="8000" spc="-1" strike="noStrike">
                <a:solidFill>
                  <a:srgbClr val="007a77"/>
                </a:solidFill>
                <a:latin typeface="Arial"/>
              </a:rPr>
              <a:t>青山不老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57360" y="403848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2a0f"/>
                </a:solidFill>
                <a:latin typeface="Arial"/>
              </a:rPr>
              <a:t>马坡岭小学　　谭世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98560" y="1295280"/>
            <a:ext cx="702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作为一个山野老农，他就这样来实现自己的价值。他已经将自己的生命转化为另一种东西。他是真正与山川共存、与日月同辉了。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17985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a77"/>
                </a:solidFill>
                <a:latin typeface="Arial"/>
              </a:rPr>
              <a:t>课堂小练笔：以“青山是不会老的”写一段自己的感想。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05120" y="2209680"/>
            <a:ext cx="5486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谢谢指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914400"/>
            <a:ext cx="79246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阅读提示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默读课文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思考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这位老人创造了怎样的奇迹？这一奇迹是在什么样的情况下创造的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、联系课文想一想：作者为什么说“青山是不会老的”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10:00:03Z</dcterms:modified>
  <cp:revision>8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