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29E-F3CB-4064-BD08-B7151994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0AD-9942-40F4-A2D8-48F6ACDF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538-3CA6-496C-9FCB-1BC47DE6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1DA-4525-4822-AB96-857062DA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7A9-097B-4A2F-A051-899663AA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4C4-6C39-4D3B-930B-1976AC6A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829-935C-4163-B536-22845817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D15-63CD-47DC-8704-DB57105E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085-B3C0-44B2-A1CE-CCE76361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364-F36A-4A4B-B3F2-6805896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D17-3DAB-421A-A0CC-D0C3722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042-5A2B-4D8C-ABA8-CCCB216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C96A-2C94-4B98-A902-05BA75908E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4266720"/>
            <a:ext cx="6095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2016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276360" cy="250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到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坚持”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正面教育为主，用科学理论武装头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学用结合，知行合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问题导向，注重实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领导带头，以上率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从实际出发，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学习教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学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党章党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明确基本标准、树立行为规范，逐条逐句通读党章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认真学习《准则》和《条例》等党内法规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党的历史、革命先辈和先进典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周永康、薄熙来、徐才厚、郭伯雄、令计划等违纪违法案件中汲取教训，守住为人、做事的基准和底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系列讲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习近平总书记关于改革发展稳定、内政外交国防、治党治国治军的重要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以习近平同志为总书记的党中央治国理政新理念新思想新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指出，学习习近平总书记系列重要讲话要同学习马克思列宁主义、毛泽东思想、邓小平理论、“三个代表”重要思想、科学发展观结合起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区别普通党员和党员领导干部，确定学习的重点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“四讲四有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讲政治、有信念，讲规矩、有纪律，讲道德、有品行，讲奉献、有作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党员强化政治意识，保持政治本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党中央看齐，向党的理论和路线方针政策看齐，做政治上的明白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密切联系群众，全心全意为人民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强党性锻炼和道德修养，心存敬畏、手握戒尺，廉洁从政、从严治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干事创业、开拓进取的精气神，平常时候看得出来，关键时刻冲得上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696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主要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围绕专题学习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个人自学与集中学习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照“三会一课”制度，党小组要定期组织党员集中学习；不设党小组的，以党支部为单位集中学习。党支部每季度召开一次全体党员会议，每次围绕一个专题组织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学习讨论要做到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能否”，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坚守共产党人信仰信念宗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正确处理公与私、义与利、个人与组织、个人与群众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努力追求高尚道德、带头践行社会主义核心价值观、保持积极健康生活方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自觉做到党规党纪面前知敬畏守规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保持良好精神状态、积极为党的事业担当作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248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87692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开展背景及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“两学一做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党章党规、学系列讲话，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“两学一做”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深入学习贯彻习近平总书记系列重要讲话精神，推动全面从严治党向基层延伸，巩固拓展党的群众路线教育实践活动和“三严三实”专题教育成果，进一步解决党员队伍在思想、组织、作风、纪律等方面存在的问题，保持发展党的先进性和纯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开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党中央决定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全体党员中开展“学党章党规、学系列讲话，做合格党员”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方案》指出，“两学一做”学习教育不是一次活动，要突出正常教育，区分层次，有针对性地解决问题，用心用力，抓细抓实，真正把党的思想政治建设抓在日常、严在经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创新方式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创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员领导干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在所在党支部讲党课，到农村、社区、企业、学校等基层单位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校教师、讲师团成员、先进模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基层一线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鼓励和指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层党组织书记、普通党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实际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重运用身边事例、现身说法，强化互动交流、答疑释惑，增强党课的吸引力和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提出，“七一”前后，党支部要结合开展纪念建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年活动，集中安排一次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召开党支部专题组织生活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底前，党支部召开专题组织生活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部班子及其成员对照职能职责，进行党性分析，查摆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向党员和群众征求意见，开展批评和自我批评，针对突出问题和薄弱环节提出整改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织全体党员对支部班子的工作、作风等进行评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展民主评议党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党支部为单位召开全体党员会议，组织党员开展民主评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照党员标准，按照个人自评、党员互评、民主测评、组织评定的程序进行评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民主评议，支部班子成员要与每名党员谈心谈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支部综合民主评议情况和党员日常表现确定评议等次，对优秀党员予以表扬，对有不合格表现的党员，区别情况给予组织处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备注：党员人数较多的党支部，个人自评和党员互评可分党小组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足岗位作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不同群体党员实际情况，提出党员发挥作用的具体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村、社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设岗定责和承诺践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有企业和非公有制企业、社会组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示范岗和党员责任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窗口单位和服务行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挂牌上岗、亮明身份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机关事业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促进党员模范履行岗位职责，落实党员到社区报到、直接联系服务群众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学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要求党员增强党的意识，自觉爱党护党为党，敬业修德，奉献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648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领导机关领导干部作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党员领导干部要走在前面、深学一层，严格执行双重组织生活制度，以普通党员身份参加所在支部的组织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召开党委（党组）会，专题学习党章党规和习近平总书记系列重要讲话；要以党委（党组）中心组等形式组织集中研讨，深化学习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民主生活会要以“两学一做”为主题，领导班子和领导干部把自己摆进去，查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763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组织领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学习教育在中央政治局常委会领导下进行，由中央组织部牵头组织实施，中央纪委机关、中央宣传部、中央党校配合做好相关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层层落实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级党委（党组）要把开展“两学一做”学习教育作为一项重大政治任务，尽好责、抓到位、见实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（自治区、直辖市）和部门（系统）党委（党组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结合实际作出部署安排，加强具体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县级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制定具体实施方案，保障工作力量，加强督促指导把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层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进行全覆盖、全过程现场指导，帮助党支部制定学习教育计划，派员参加党支部各项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级党组织书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承担起主体责任，要管好干部、带好班子，管好党员、带好队伍，从严从实抓好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强化组织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大整顿软弱涣散基层党组织工作力度，配齐配强班子特别是带头人，健全工作制度，确保有人抓、有人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党员组织关系集中排查，摸清“口袋”党员、长期与党组织失去联系党员情况，理顺党员组织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对基层党组织书记、组织委员、组织员等党务骨干普遍进行培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重分类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层党委要根据不同特点，对学习教育内容安排等提出具体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公有制企业和社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因企、因岗制宜，灵活安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党员人数少、党员流动性强的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利用开放式组织生活等方式组织党员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动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按照流入地为主的原则，把流动党员编入一个支部，就近就便参加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退休干部职工党员及年老体弱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既体现从严要求又考虑实际，以适当方式组织他们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发挥媒体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共产党员网、手机报、电视栏目、微信易信和远程教育平台等，开发制作学习资源，推送学习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党员利用网络自主学习、互动交流，扩大学习教育覆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各类媒体，宣传做法和成效，加强舆论引导，营造良好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华文琥珀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总体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础在学，关键在做，实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“进一步”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坚定理想信念，提高党性觉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增强政治意识、大局意识、核心意识、看齐意识，坚定正确政治方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树立清风正气，严守政治纪律政治规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强化宗旨观念，勇于担当作为，在生产、工作、学习和社会生活中起先锋模范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学一做”针对的现实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，着力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问题：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理想信念模糊动摇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党的意识淡化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宗旨观念淡薄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精神不振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道德行为不端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科力</cp:lastModifiedBy>
  <dcterms:modified xsi:type="dcterms:W3CDTF">2016-03-03T01:13:58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