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CCA-613E-499D-8092-653990AF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31E-8B6B-4F36-8514-80967E39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A23-EB48-4382-8521-0D2B3B63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C63-6337-4716-A644-956E1F2A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9E5D-5FBA-4602-9674-8ED685BF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FDC-D855-4843-BEE2-03070CB5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092-8641-4C80-B6C7-14670915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842-DDB5-4F7E-BC5F-8806846D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57E-7303-4C72-8BFE-26CE4B29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EF7E-0876-4994-8FE6-5DC47D91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E9B-1943-4815-97B0-1749D4DC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408-D99C-4EC4-9A7F-D19DBFBE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0FEB-8A93-4EAD-B05D-45BA1D7CA9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4266720"/>
            <a:ext cx="6095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教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54100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2016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819520" y="1295280"/>
            <a:ext cx="3276360" cy="2505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到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坚持”，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正面教育为主，用科学理论武装头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学用结合，知行合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问题导向，注重实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领导带头，以上率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从实际出发，分类指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学习教育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体学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党章党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明确基本标准、树立行为规范，逐条逐句通读党章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认真学习《准则》和《条例》等党内法规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党的历史、革命先辈和先进典型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从周永康、薄熙来、徐才厚、郭伯雄、令计划等违纪违法案件中汲取教训，守住为人、做事的基准和底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系列讲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习近平总书记关于改革发展稳定、内政外交国防、治党治国治军的重要思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以习近平同志为总书记的党中央治国理政新理念新思想新战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方案》指出，学习习近平总书记系列重要讲话要同学习马克思列宁主义、毛泽东思想、邓小平理论、“三个代表”重要思想、科学发展观结合起来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区别普通党员和党员领导干部，确定学习的重点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做合格党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做到“四讲四有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讲政治、有信念，讲规矩、有纪律，讲道德、有品行，讲奉献、有作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做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方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引导党员强化政治意识，保持政治本色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向党中央看齐，向党的理论和路线方针政策看齐，做政治上的明白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密切联系群众，全心全意为人民服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强党性锻炼和道德修养，心存敬畏、手握戒尺，廉洁从政、从严治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持干事创业、开拓进取的精气神，平常时候看得出来，关键时刻冲得上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7696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6868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主要措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围绕专题学习讨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个人自学与集中学习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照“三会一课”制度，党小组要定期组织党员集中学习；不设党小组的，以党支部为单位集中学习。党支部每季度召开一次全体党员会议，每次围绕一个专题组织讨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学习讨论要做到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能否”，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坚守共产党人信仰信念宗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正确处理公与私、义与利、个人与组织、个人与群众的关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努力追求高尚道德、带头践行社会主义核心价值观、保持积极健康生活方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自觉做到党规党纪面前知敬畏守规矩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保持良好精神状态、积极为党的事业担当作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248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267080" y="2514600"/>
            <a:ext cx="487692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开展背景及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什么是“两学一做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党章党规、学系列讲话，做合格党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展“两学一做”的目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深入学习贯彻习近平总书记系列重要讲话精神，推动全面从严治党向基层延伸，巩固拓展党的群众路线教育实践活动和“三严三实”专题教育成果，进一步解决党员队伍在思想、组织、作风、纪律等方面存在的问题，保持发展党的先进性和纯洁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●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学一做”开展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党中央决定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全体党员中开展“学党章党规、学系列讲话，做合格党员”学习教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方案》指出，“两学一做”学习教育不是一次活动，要突出正常教育，区分层次，有针对性地解决问题，用心用力，抓细抓实，真正把党的思想政治建设抓在日常、严在经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创新方式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何创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党员领导干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在所在党支部讲党课，到农村、社区、企业、学校等基层单位党支部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党校教师、讲师团成员、先进模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基层一线党支部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鼓励和指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层党组织书记、普通党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联系实际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重运用身边事例、现身说法，强化互动交流、答疑释惑，增强党课的吸引力和感染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方案》提出，“七一”前后，党支部要结合开展纪念建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周年活动，集中安排一次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召开党支部专题组织生活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底前，党支部召开专题组织生活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支部班子及其成员对照职能职责，进行党性分析，查摆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向党员和群众征求意见，开展批评和自我批评，针对突出问题和薄弱环节提出整改措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织全体党员对支部班子的工作、作风等进行评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开展民主评议党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党支部为单位召开全体党员会议，组织党员开展民主评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照党员标准，按照个人自评、党员互评、民主测评、组织评定的程序进行评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合民主评议，支部班子成员要与每名党员谈心谈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党支部综合民主评议情况和党员日常表现确定评议等次，对优秀党员予以表扬，对有不合格表现的党员，区别情况给予组织处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备注：党员人数较多的党支部，个人自评和党员互评可分党小组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立足岗位作贡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针对不同群体党员实际情况，提出党员发挥作用的具体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农村、社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设岗定责和承诺践诺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国有企业和非公有制企业、社会组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示范岗和党员责任区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窗口单位和服务行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挂牌上岗、亮明身份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机关事业单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促进党员模范履行岗位职责，落实党员到社区报到、直接联系服务群众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学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要求党员增强党的意识，自觉爱党护党为党，敬业修德，奉献社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495680" y="228600"/>
            <a:ext cx="4648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领导机关领导干部作表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党员领导干部要走在前面、深学一层，严格执行双重组织生活制度，以普通党员身份参加所在支部的组织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召开党委（党组）会，专题学习党章党规和习近平总书记系列重要讲话；要以党委（党组）中心组等形式组织集中研讨，深化学习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度民主生活会要以“两学一做”为主题，领导班子和领导干部把自己摆进去，查找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76312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组织领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学一做”学习教育在中央政治局常委会领导下进行，由中央组织部牵头组织实施，中央纪委机关、中央宣传部、中央党校配合做好相关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层层落实责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各级党委（党组）要把开展“两学一做”学习教育作为一项重大政治任务，尽好责、抓到位、见实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省（自治区、直辖市）和部门（系统）党委（党组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结合实际作出部署安排，加强具体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县级党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制定具体实施方案，保障工作力量，加强督促指导把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层党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进行全覆盖、全过程现场指导，帮助党支部制定学习教育计划，派员参加党支部各项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各级党组织书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承担起主体责任，要管好干部、带好班子，管好党员、带好队伍，从严从实抓好学习教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8390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强化组织保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大整顿软弱涣散基层党组织工作力度，配齐配强班子特别是带头人，健全工作制度，确保有人抓、有人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展党员组织关系集中排查，摸清“口袋”党员、长期与党组织失去联系党员情况，理顺党员组织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对基层党组织书记、组织委员、组织员等党务骨干普遍进行培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注重分类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层党委要根据不同特点，对学习教育内容安排等提出具体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公有制企业和社会组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可因企、因岗制宜，灵活安排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党员人数少、党员流动性强的党组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利用开放式组织生活等方式组织党员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流动党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按照流入地为主的原则，把流动党员编入一个支部，就近就便参加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离退休干部职工党员及年老体弱党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既体现从严要求又考虑实际，以适当方式组织他们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发挥媒体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利用共产党员网、手机报、电视栏目、微信易信和远程教育平台等，开发制作学习资源，推送学习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导党员利用网络自主学习、互动交流，扩大学习教育覆盖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运用各类媒体，宣传做法和成效，加强舆论引导，营造良好氛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905120" y="2590560"/>
            <a:ext cx="5943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99"/>
                </a:solidFill>
                <a:latin typeface="Arial"/>
                <a:ea typeface="华文琥珀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总体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基础在学，关键在做，实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“进一步”，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坚定理想信念，提高党性觉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增强政治意识、大局意识、核心意识、看齐意识，坚定正确政治方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树立清风正气，严守政治纪律政治规矩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强化宗旨观念，勇于担当作为，在生产、工作、学习和社会生活中起先锋模范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●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学一做”针对的现实问题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，着力解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问题：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理想信念模糊动摇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党的意识淡化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宗旨观念淡薄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精神不振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道德行为不端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科力</cp:lastModifiedBy>
  <dcterms:modified xsi:type="dcterms:W3CDTF">2016-03-03T01:13:58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