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919-0EBF-427F-A1B7-92AA17E4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97E-5C69-4FDE-AB59-C567CE2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BC8-B462-42E7-9125-D3E125B2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BD1-C4AE-422C-BE27-2390FF40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4DC7E-FB04-4158-92D5-2175A050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13F66-3618-40D7-9396-AABE0AA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8B83B-7DA1-46A2-9471-97D3B720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2563-6F87-4035-96DE-76DE6A9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61EF9-8C58-4F95-AE65-7ED652C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7F79-5EAB-438A-AD1C-01394B3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CD62-2041-4D80-9BE7-00D79263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CC8-0E50-40F9-8CAE-BBA9F71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530B1-7BA5-4DF0-9BFC-EE1493E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305B-5175-46AC-B730-D190DF0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08CA2-7781-4C77-8B08-9ACE0DA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43C8B-C357-49EC-965A-1B67B669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53DEC-1C72-45E8-BFC2-0D1D4D5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B5B-7578-47DE-AE61-68032C6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5E1-CCD4-4383-A094-AAC3F58A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E10-A103-4FC1-990E-4B78DE8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1CA-BAF5-4B99-9950-07D73455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592-787A-4A56-AFC1-50530D3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3DD-F6FE-4E36-81BD-5AE80FD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BDF-D2E7-435C-A387-8E11752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D8A6-AA32-4AB1-8776-B42A9576527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5BF-C310-4CF4-8B1F-3CE9FC806FC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1773360"/>
            <a:ext cx="7200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Enjoy my English class</a:t>
            </a:r>
            <a:endParaRPr b="0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734080"/>
            <a:ext cx="4105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044720" y="-316080"/>
            <a:ext cx="5616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黑体"/>
                <a:ea typeface="黑体"/>
              </a:rPr>
              <a:t>上课要求：</a:t>
            </a:r>
            <a:endParaRPr b="0" lang="en-US" sz="4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56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认真听讲，积极发言，</a:t>
            </a:r>
            <a:r>
              <a:rPr b="1" lang="zh-CN" sz="3200" spc="-1" strike="noStrike" u="sng">
                <a:solidFill>
                  <a:srgbClr val="3399ff"/>
                </a:solidFill>
                <a:uFillTx/>
                <a:latin typeface="黑体"/>
                <a:ea typeface="黑体"/>
              </a:rPr>
              <a:t>英语课堂上尽量使用英语进行讨论和回答问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声音洪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互相尊重，别人发言的时候认真倾听，积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；互相鼓励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Enjoy losing fa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做好笔记：写在书上，便于以后复习。字迹工整，清晰、有条理。老师定期检查，不合格者扣分、批评、重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回去整理课堂笔记，按要求写在英语笔记本上（软皮抄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24000" y="772920"/>
            <a:ext cx="39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作业要求：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课后必须及时复习，多记单词，多背课文！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会用听写、课堂和课后抽背、小组比赛等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式考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时并高质量地完成作业，绝不拖拉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每次作业、听写、练习等都要用英文写日期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期格式：写在开头，独占一行，右对齐。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g.1</a:t>
            </a:r>
            <a:r>
              <a:rPr b="0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epte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是附有答案的练习，要求用红笔修正，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视为未完成作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8000" y="76464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准备好以下学习用具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8996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五本英语练习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业本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写本，１堂上练习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英汉字典一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tips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牛津字典第三版初中适用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黑色笔、红色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适合自己水平的课外英语阅读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二本大硬皮抄。（一本错题集，一本笔记本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8000" y="115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本学期学习计划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会音标，掌握拼读规律，学会自行拼读和记忆单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完成初一上册内容。 （初定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时刻为考试做准备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（第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周中段考；第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周期末考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两次进行英语早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两次进行英语听力训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每周一次整理一次笔记（周末作业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26920" y="1152360"/>
            <a:ext cx="266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etition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565360"/>
            <a:ext cx="92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华文新魏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音标，流利朗读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华文新魏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音标，拼单词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c) </a:t>
            </a:r>
            <a:r>
              <a:rPr b="1" lang="zh-CN" sz="3600" spc="-1" strike="noStrike">
                <a:solidFill>
                  <a:srgbClr val="463416"/>
                </a:solidFill>
                <a:latin typeface="华文新魏"/>
                <a:ea typeface="华文新魏"/>
              </a:rPr>
              <a:t>给生词，确定读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280" y="5013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背书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5805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“故事大王”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1640" y="1989000"/>
            <a:ext cx="26575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音标大比拼</a:t>
            </a: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: 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627280" y="144360"/>
            <a:ext cx="4465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本学期活动安排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593360" y="4292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英语书法比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08000" y="2852640"/>
            <a:ext cx="55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joy studying here !!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619280" y="62064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lf-Introduction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1484280"/>
            <a:ext cx="3313080" cy="93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06920" y="1700280"/>
            <a:ext cx="20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自我介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" y="2708280"/>
            <a:ext cx="88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o be your English teacher is my pleas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360" y="3573360"/>
            <a:ext cx="5210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ve English, love me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4000" y="4724280"/>
            <a:ext cx="448956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ve me, love English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87280" y="620640"/>
            <a:ext cx="655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ave a try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1119600" y="2205000"/>
            <a:ext cx="731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Introduce yourself in Englis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r write an English sente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on the blackbo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79736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hat is your English N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4508640"/>
            <a:ext cx="8222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63640" y="1052640"/>
            <a:ext cx="5832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Knowing English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686520" y="2349360"/>
            <a:ext cx="79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you study Englis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you learn it w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1052640"/>
            <a:ext cx="374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ardworking</a:t>
            </a:r>
            <a:endParaRPr b="1" lang="en-US" sz="1800" spc="1" strike="noStrike">
              <a:ln w="381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76720" y="270828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rave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47640" y="4221000"/>
            <a:ext cx="383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elf-confident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35640" y="5516640"/>
            <a:ext cx="345744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 habit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42920" y="1413000"/>
            <a:ext cx="705816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初中与小学英语学习的区别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4360" y="4005360"/>
            <a:ext cx="77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lieve yourself you can do it .</a:t>
            </a:r>
            <a:endParaRPr b="1" lang="en-US" sz="1800" spc="1" strike="noStrike">
              <a:ln w="3816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989000"/>
            <a:ext cx="914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Nothing is difficult if you are brave or careful enough.</a:t>
            </a:r>
            <a:endParaRPr b="1" lang="en-US" sz="1800" spc="1" strike="noStrike">
              <a:ln w="3816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0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懂老师用英语教学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敢用英语进行会话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口标准的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。每天坚持清晰大声快速地读英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多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书籍和杂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手漂亮的英语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33336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初一英语要达到的水平：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978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预习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借用字典或资料，认识生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要标注新、难单词音标和中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思，并会读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认真完成预习任务，并记录预习过程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遇到的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84360" y="189000"/>
            <a:ext cx="439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英语学习要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48120"/>
            <a:ext cx="9144000" cy="2288520"/>
          </a:xfrm>
          <a:prstGeom prst="rect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前要求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准备好英语课堂学习用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提前准备好课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跟着科代表大声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学唱英文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7:07:33Z</dcterms:created>
  <dc:creator>YlmF</dc:creator>
  <dc:description/>
  <dc:language>en-US</dc:language>
  <cp:lastModifiedBy>USER</cp:lastModifiedBy>
  <dcterms:modified xsi:type="dcterms:W3CDTF">2012-09-11T02:43:01Z</dcterms:modified>
  <cp:revision>34</cp:revision>
  <dc:subject/>
  <dc:title>幻灯片 1</dc:title>
</cp:coreProperties>
</file>