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23.png" ContentType="image/png"/>
  <Override PartName="/ppt/media/image13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wmf" ContentType="image/x-wmf"/>
  <Override PartName="/ppt/media/image20.png" ContentType="image/png"/>
  <Override PartName="/ppt/media/image2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jpeg" ContentType="image/jpeg"/>
  <Override PartName="/ppt/media/image42.wmf" ContentType="image/x-wmf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BD9-D8C5-4AF4-A7FA-8B9828CF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FA3-C93F-48D4-A0A4-10F111ED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F33-5448-44EF-A02E-58E9CE40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F45-B3F6-4565-9313-62B3B1A0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AE3-1BDA-4493-A781-37BCBB85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603-D4B6-4259-8CE3-929A1061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C4A-1121-42DF-81A9-977489B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263-8EF1-4B76-B5F7-292BC98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A41-87C7-4208-9E88-93A8DEC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551-6116-4D2D-B109-732E714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F2F-391D-4DDF-8FCF-DA90ED0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06F-09C5-4939-A305-33D971F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934A-1127-4AF1-BD59-C63349C94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file:///tmp/home/.config/libreoffice/4/user/gallery/type.wav" TargetMode="External"/><Relationship Id="rId4" Type="http://schemas.microsoft.com/office/2007/relationships/media" Target="file:///tmp/home/.config/libreoffice/4/user/gallery/type.wav" TargetMode="Externa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otoshop.201202.com/u/o/List_2.html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wlt.cn/join1.a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ju002378/album/item/0e5e96fbc55e9376024f5673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6143;&#38632;&#33437;&#26790;/album/item/58bd05ef45daa9face1b3eba.html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6143;&#38632;&#33437;&#26790;/album/item/49afe68d066a3707b31bba84.html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0339;&#22768;&#32852;&#30431;/album/item/a0b69a8a809242c4fd1f1095.html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6480;&#23453;&#24800;&#23376;/album/item/f24b5bec3e2ff728279791d4.html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&#26480;&#23453;&#35799;&#29748;/album/item/b0b02c72ea730d098601b078.html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6085;&#26376;&#28525;&#35838;&#25991;&#21160;&#30011;.ex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381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第三单元单元导语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91200" y="31417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夸一夸我们美丽的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1052640"/>
            <a:ext cx="7561440" cy="16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日月潭是台湾省著名的风景区之一。日月潭是日山和阿里山之间的断裂盆地积水形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日月潭的风景有什么特色呢？我们一起来看课文的介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05960" y="603396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群山环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596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月潭是我国台湾省最大的一个湖。它在台中附近的高山上。那里群山环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树木茂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周围有许多名胜古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560" y="2997360"/>
            <a:ext cx="8569440" cy="283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的文字共有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句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省最大的湖是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,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位置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山多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多的词分别是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99280" y="234936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考问题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03640" y="0"/>
            <a:ext cx="6840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潭很深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水碧绿。湖中央有个美丽的小岛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华岛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小岛把湖水分成两半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边像圆圆的太阳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日潭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边像弯弯的月亮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叫月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1080" y="604044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中央有个美丽的小岛，叫光华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2852640"/>
            <a:ext cx="1584360" cy="647640"/>
          </a:xfrm>
          <a:prstGeom prst="wedgeRectCallout">
            <a:avLst>
              <a:gd name="adj1" fmla="val 51601"/>
              <a:gd name="adj2" fmla="val 143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华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-1519200" y="-633240"/>
            <a:ext cx="12182400" cy="812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35840" y="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光华岛（湖中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57760" y="61452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岛把湖水分成两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5640" y="3573360"/>
            <a:ext cx="1368360" cy="576360"/>
          </a:xfrm>
          <a:prstGeom prst="wedgeRectCallout">
            <a:avLst>
              <a:gd name="adj1" fmla="val -86078"/>
              <a:gd name="adj2" fmla="val -114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光华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25120" y="19162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  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7080" y="3211200"/>
            <a:ext cx="729000" cy="188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  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79640" y="2637000"/>
            <a:ext cx="71280" cy="7189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4292640"/>
            <a:ext cx="71280" cy="7189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470600" y="2276640"/>
            <a:ext cx="5440680" cy="1300680"/>
            <a:chOff x="1470600" y="2276640"/>
            <a:chExt cx="5440680" cy="1300680"/>
          </a:xfrm>
        </p:grpSpPr>
        <p:sp>
          <p:nvSpPr>
            <p:cNvPr id="106" name=""/>
            <p:cNvSpPr/>
            <p:nvPr/>
          </p:nvSpPr>
          <p:spPr>
            <a:xfrm>
              <a:off x="4313520" y="2276640"/>
              <a:ext cx="2597760" cy="1300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湖的北边像太阳，叫日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湖的北边像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圆圆的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太阳，叫日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70600" y="2559240"/>
              <a:ext cx="5814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49880" y="4005360"/>
            <a:ext cx="5544720" cy="1191240"/>
            <a:chOff x="1649880" y="4005360"/>
            <a:chExt cx="5544720" cy="1191240"/>
          </a:xfrm>
        </p:grpSpPr>
        <p:sp>
          <p:nvSpPr>
            <p:cNvPr id="109" name=""/>
            <p:cNvSpPr/>
            <p:nvPr/>
          </p:nvSpPr>
          <p:spPr>
            <a:xfrm>
              <a:off x="4372920" y="4005360"/>
              <a:ext cx="28216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湖的南边像月亮，叫月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湖的南边像</a:t>
              </a:r>
              <a:r>
                <a:rPr b="1" lang="zh-CN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弯弯的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月亮，叫月潭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9880" y="4300560"/>
              <a:ext cx="5785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516920" y="83664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</a:rPr>
              <a:t>读句子，说出每组两句话的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376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56520" y="3789360"/>
            <a:ext cx="4935600" cy="2287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月潭这个名字是根据什么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命名的呢？颜色、位置还是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4360" y="2349360"/>
            <a:ext cx="817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喜欢什么时候的景色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0600" y="155736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读第三、四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30520" y="3213000"/>
            <a:ext cx="995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你喜欢的景色大声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0040" y="1890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26028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清晨，湖面上飘着薄薄的雾。天边的晨星和山上的点点灯光，隐隐约约地倒映在湖水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765000"/>
            <a:ext cx="71294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湾是我国的第一大岛，那里风光秀丽，物产丰富。两岸人民日日夜夜都在盼望着祖国早点统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，我们要学习一篇介绍我国宝岛台湾秀美山川的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8900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，湖面上飘着雾。天边的晨星和山上的灯光，倒映在湖水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421000"/>
            <a:ext cx="79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晨，湖面上飘着薄薄的雾。天边的 晨 星 和 山 上的点点灯光，  隐隐约约地倒映在湖水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2421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＿＿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3141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＿＿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71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</a:rPr>
              <a:t>＿＿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260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午，太阳高照，整个日月潭的美景和周围的建筑，都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清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展现在眼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332000" y="260280"/>
            <a:ext cx="604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上到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空（白云、阳光、鸟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面（树木、小湖、古迹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60000" cy="6848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50920" y="1890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下起蒙蒙细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好像披上轻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围的景物一片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朦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童话中的仙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333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月潭好像披上轻纱，周围的景物一片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朦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就像童话中的仙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7209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88508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84245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71640" y="765000"/>
            <a:ext cx="6480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83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到了这么美丽的景物，你会怎么赞美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260280"/>
            <a:ext cx="734544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里有起伏的群山，茂盛的树木，古代留下来的遗迹和建筑物。真是个旅游的好地方！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难怪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4400" y="33336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357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月潭风光秀丽，吸引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许多多的中外游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971640" y="2276640"/>
            <a:ext cx="662472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欣赏日月潭美景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8329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832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9840" y="4894200"/>
            <a:ext cx="1197000" cy="1249560"/>
          </a:xfrm>
          <a:custGeom>
            <a:avLst/>
            <a:gdLst/>
            <a:ahLst/>
            <a:rect l="l" t="t" r="r" b="b"/>
            <a:pathLst>
              <a:path w="3325" h="3474">
                <a:moveTo>
                  <a:pt x="20861" y="13643"/>
                </a:moveTo>
                <a:cubicBezTo>
                  <a:pt x="20805" y="13718"/>
                  <a:pt x="20759" y="13785"/>
                  <a:pt x="20712" y="13866"/>
                </a:cubicBezTo>
                <a:cubicBezTo>
                  <a:pt x="20619" y="14025"/>
                  <a:pt x="20506" y="14155"/>
                  <a:pt x="20414" y="14312"/>
                </a:cubicBezTo>
                <a:cubicBezTo>
                  <a:pt x="20328" y="14459"/>
                  <a:pt x="20231" y="14594"/>
                  <a:pt x="20141" y="14734"/>
                </a:cubicBezTo>
                <a:cubicBezTo>
                  <a:pt x="20049" y="14877"/>
                  <a:pt x="19950" y="15005"/>
                  <a:pt x="19869" y="15156"/>
                </a:cubicBezTo>
                <a:cubicBezTo>
                  <a:pt x="19787" y="15308"/>
                  <a:pt x="19757" y="15391"/>
                  <a:pt x="19720" y="15553"/>
                </a:cubicBezTo>
                <a:cubicBezTo>
                  <a:pt x="19692" y="15674"/>
                  <a:pt x="19685" y="15800"/>
                  <a:pt x="19695" y="15925"/>
                </a:cubicBezTo>
                <a:cubicBezTo>
                  <a:pt x="19705" y="16049"/>
                  <a:pt x="19871" y="16237"/>
                  <a:pt x="19943" y="16346"/>
                </a:cubicBezTo>
                <a:cubicBezTo>
                  <a:pt x="20100" y="16583"/>
                  <a:pt x="20340" y="16649"/>
                  <a:pt x="20538" y="16818"/>
                </a:cubicBezTo>
                <a:cubicBezTo>
                  <a:pt x="20711" y="16965"/>
                  <a:pt x="20771" y="17047"/>
                  <a:pt x="21010" y="17066"/>
                </a:cubicBezTo>
                <a:cubicBezTo>
                  <a:pt x="21235" y="17084"/>
                  <a:pt x="21486" y="17079"/>
                  <a:pt x="21704" y="17041"/>
                </a:cubicBezTo>
                <a:cubicBezTo>
                  <a:pt x="21802" y="17024"/>
                  <a:pt x="22019" y="16970"/>
                  <a:pt x="22101" y="16917"/>
                </a:cubicBezTo>
                <a:cubicBezTo>
                  <a:pt x="22220" y="16840"/>
                  <a:pt x="22430" y="16705"/>
                  <a:pt x="22523" y="16594"/>
                </a:cubicBezTo>
                <a:cubicBezTo>
                  <a:pt x="22623" y="16475"/>
                  <a:pt x="22718" y="16308"/>
                  <a:pt x="22796" y="16173"/>
                </a:cubicBezTo>
                <a:cubicBezTo>
                  <a:pt x="22883" y="16023"/>
                  <a:pt x="22997" y="15748"/>
                  <a:pt x="23019" y="15577"/>
                </a:cubicBezTo>
                <a:cubicBezTo>
                  <a:pt x="23043" y="15384"/>
                  <a:pt x="23049" y="15094"/>
                  <a:pt x="22994" y="14908"/>
                </a:cubicBezTo>
                <a:cubicBezTo>
                  <a:pt x="22951" y="14763"/>
                  <a:pt x="22888" y="14643"/>
                  <a:pt x="22820" y="14511"/>
                </a:cubicBezTo>
                <a:cubicBezTo>
                  <a:pt x="22745" y="14364"/>
                  <a:pt x="22669" y="14207"/>
                  <a:pt x="22523" y="14114"/>
                </a:cubicBezTo>
                <a:cubicBezTo>
                  <a:pt x="22350" y="14004"/>
                  <a:pt x="22140" y="13920"/>
                  <a:pt x="21977" y="13791"/>
                </a:cubicBezTo>
                <a:cubicBezTo>
                  <a:pt x="21875" y="13710"/>
                  <a:pt x="21822" y="13678"/>
                  <a:pt x="21679" y="13643"/>
                </a:cubicBezTo>
                <a:cubicBezTo>
                  <a:pt x="21548" y="13611"/>
                  <a:pt x="21441" y="13596"/>
                  <a:pt x="21307" y="13593"/>
                </a:cubicBezTo>
                <a:cubicBezTo>
                  <a:pt x="21186" y="13591"/>
                  <a:pt x="21078" y="13592"/>
                  <a:pt x="20960" y="13618"/>
                </a:cubicBezTo>
                <a:cubicBezTo>
                  <a:pt x="20924" y="13626"/>
                  <a:pt x="20891" y="13635"/>
                  <a:pt x="20861" y="13643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22.0)">
                                      <p:cBhvr>
                                        <p:cTn id="418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10240" y="364500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Times New Roman"/>
              </a:rPr>
              <a:t>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796000" cy="491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73840" y="784080"/>
            <a:ext cx="88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33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月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05960" y="603396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树木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005960" y="603396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名胜古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476280"/>
            <a:ext cx="9144000" cy="6381720"/>
            <a:chOff x="0" y="476280"/>
            <a:chExt cx="9144000" cy="638172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9144000" cy="63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24720" y="6093000"/>
              <a:ext cx="1150920" cy="504720"/>
            </a:xfrm>
            <a:prstGeom prst="rect">
              <a:avLst/>
            </a:prstGeom>
            <a:solidFill>
              <a:srgbClr val="065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55120" y="604044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月潭很深，湖水碧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8493120" y="6103800"/>
            <a:ext cx="65088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8458200" y="6465960"/>
            <a:ext cx="3826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58920" y="1557360"/>
            <a:ext cx="6858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学习了这篇课文，你想对台湾的小朋友说点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9760" y="62064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11280" y="333360"/>
            <a:ext cx="85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黑体"/>
              </a:rPr>
              <a:t>我们能写好字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6000" y="4437000"/>
            <a:ext cx="2592360" cy="22050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1628640"/>
            <a:ext cx="7632720" cy="197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</a:t>
            </a: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月潭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2"/>
          </p:cNvPr>
          <p:cNvPicPr/>
          <p:nvPr/>
        </p:nvPicPr>
        <p:blipFill>
          <a:blip r:embed="rId3"/>
          <a:srcRect l="15998" t="30650" r="21140" b="11427"/>
          <a:stretch/>
        </p:blipFill>
        <p:spPr>
          <a:xfrm>
            <a:off x="0" y="0"/>
            <a:ext cx="10188720" cy="68421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bbe0e3"/>
            </a:outerShdw>
          </a:effectLst>
        </p:spPr>
      </p:pic>
      <p:sp>
        <p:nvSpPr>
          <p:cNvPr id="59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260280"/>
            <a:ext cx="8640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取名叫日月潭？</a:t>
            </a: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262400" y="6602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会读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114560"/>
            <a:ext cx="8964720" cy="520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u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ǐ</a:t>
            </a: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4400" spc="-1" strike="noStrike">
                <a:solidFill>
                  <a:srgbClr val="ff3300"/>
                </a:solidFill>
                <a:latin typeface="Shruti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Shruti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   绕   茂   隐   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é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4400" spc="-1" strike="noStrike">
                <a:solidFill>
                  <a:srgbClr val="ff3300"/>
                </a:solidFill>
                <a:latin typeface="Shruti"/>
                <a:ea typeface="楷体_GB2312"/>
              </a:rPr>
              <a:t>g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4400" spc="-1" strike="noStrike">
                <a:solidFill>
                  <a:srgbClr val="ff3300"/>
                </a:solidFill>
                <a:latin typeface="Shruti"/>
                <a:ea typeface="楷体_GB2312"/>
              </a:rPr>
              <a:t>g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4400" spc="-1" strike="noStrike">
                <a:solidFill>
                  <a:srgbClr val="ff3300"/>
                </a:solidFill>
                <a:latin typeface="Shruti"/>
                <a:ea typeface="楷体_GB2312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晰   朦   胧   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76360" y="4149720"/>
            <a:ext cx="180720" cy="265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87280" y="0"/>
            <a:ext cx="3960720" cy="2449440"/>
            <a:chOff x="1187280" y="0"/>
            <a:chExt cx="3960720" cy="2449440"/>
          </a:xfrm>
        </p:grpSpPr>
        <p:sp>
          <p:nvSpPr>
            <p:cNvPr id="70" name=""/>
            <p:cNvSpPr/>
            <p:nvPr/>
          </p:nvSpPr>
          <p:spPr>
            <a:xfrm>
              <a:off x="1187280" y="0"/>
              <a:ext cx="3960720" cy="244944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122200" y="649440"/>
              <a:ext cx="208944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99cc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楷体_GB2312"/>
                </a:rPr>
                <a:t>我会读</a:t>
              </a:r>
              <a:endParaRPr b="1" lang="en-US" sz="1800" spc="-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116000" y="299736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小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1440" y="3068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展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3068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建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4720" y="4076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轻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81440" y="4076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环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16720" y="407664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名胜古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4720" y="515628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隐隐约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1440" y="515628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台湾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5156280"/>
            <a:ext cx="2519280" cy="72072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  <a:effectLst>
            <a:outerShdw dist="52300" dir="4563564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树木茂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hcxx</cp:lastModifiedBy>
  <dcterms:modified xsi:type="dcterms:W3CDTF">2015-03-11T23:57:50Z</dcterms:modified>
  <cp:revision>1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