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F4DA-9F25-4EAE-AAAA-9ABB0A09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BDE-ACC9-4D99-8A30-59409F32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7A1B-46EB-42CA-B8C0-44965036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B97-B5E9-40BE-A0A2-7F27F080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B692-9712-4C73-82D0-ABCABAB4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D772-019B-4A1D-AEF3-9F1088D4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568A-2F48-49E9-BFAD-7562D80D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9C1D-E7C5-4396-8A6A-BFCBFA20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3FBC-1689-4D53-9AF8-E9D8A4CA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A7DF-4546-43C9-9B66-0A5C9019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DACD-5B22-45C6-835D-494B9242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4BD-E254-4C63-A2CF-710AF5DA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A375-0C30-4E04-B969-3649D762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EBBD-DC38-422A-8F98-ABC1C239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BE19-3834-4729-AF61-DDDA3855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056B-271E-4D3E-A8D4-2F2BF4BD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4277-1863-4BE3-9339-12CAF4A4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856-E1C7-4065-BE43-A6BFCA50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780A-E7E5-4B96-8961-D27E43FC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834-04B6-4242-A7A6-2EC44794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C3D-D288-45C9-8D8B-C4B92738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0F2-EF13-42F4-BA92-ACCFEEE1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9FED-49CD-45FF-9CC9-2270D080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1B7-3C45-4185-9234-74C8EDD4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987B-395D-4497-8AF8-F88E2D2B60D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922E-DBC7-40DE-AD50-6E2C1B13C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AAE0-F326-465E-8C26-52CF45CF19D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C791-C081-4FBE-B68B-4373B7B1D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4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少年正是读书时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92360" y="1503360"/>
            <a:ext cx="61214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程门立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6840" y="1417680"/>
            <a:ext cx="50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  <a:ea typeface="Tahoma"/>
              </a:rPr>
              <a:t>程门立雪： 旧指学生恭敬受教。现比喻尊敬师长。比喻求学心切和对有学问长者的尊敬。成语出自《宋史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·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  <a:ea typeface="Tahoma"/>
              </a:rPr>
              <a:t>杨时传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  <a:ea typeface="Tahoma"/>
              </a:rPr>
              <a:t>　“程门立雪”这个成语家喻户晓。它出自宋代著名理学家将乐县人杨时求学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  <a:ea typeface="Tahoma"/>
              </a:rPr>
              <a:t>　　杨时从小就聪明伶俐，四岁入村学习，七岁就能写诗，八岁就能作赋，人称神童。他十五岁时攻读经史，熙宁九年登进士榜。他一生立志著书立说，曾在许多地方讲学，备受欢迎。居家时，长期在含云寺和龟山书院，潜心攻读，写作教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3457440"/>
            <a:ext cx="31496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12700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有一年，杨时赴浏阳县令途中，不辞劳苦，绕道洛阳，拜师程颐，以求学问上进一步深造。有一天，杨时与他的学友游酢，因对某问题有不同看法，为了求得一个正确答案，他俩一起去老师家请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　　时值隆冬，天寒地冻，浓云密布。他们行至半途，朔风凛凛，瑞雪霏霏，冷飕飕的寒风肆无忌惮地灌进他们的领口。他们把衣服裹得紧紧的，匆匆赶路。来到程颐家时，适逢先生坐在炉旁打坐养神。杨时二人不敢惊动打扰老师，就恭恭敬敬侍立在门外，等候先生醒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二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名人读书的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1080" y="1628640"/>
            <a:ext cx="87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黄侃误把墨汁当小菜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19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，著名学者黄侃在北大主讲国学。他住在北京白庙胡同大同公寓，终日潜心研究“国学”，有时吃饭也不出门，准备了馒头和辣椒、酱油等佐料，摆在书桌上，饿了便啃馒头，边吃边看书，吃吃停停，看到妙处就大叫：“妙极了！”有一次，看书入迷，竟把馒头伸进了砚台、朱砂盒，啃了多时，涂成花脸，也未觉察，一位朋友来访，捧腹大笑，他还不知笑他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692280"/>
            <a:ext cx="8229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曹禺真读书假洗澡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Tahoma"/>
                <a:ea typeface="Tahoma"/>
              </a:rPr>
              <a:t>抗日战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期间，曹禺在四川江安国立剧专任教。一年夏天，有一次曹禺的家属准备了澡盆和热水，要他去洗澡，此时曹禺正在看书，爱不释手，一推再推，最后在家属的再三催促下，他才一手拿着毛巾，一手拿着书步入内室。一个钟头过去了，未见人出来，房内不时传出稀落的水响声，又一个钟头过去了，情况依旧。曹禺的家属顿生疑惑，推门一看，原来曹禺坐在澡盆里，一手拿着书看，另一只手拿着毛巾在有意无意地拍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221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爱迪生以书为枕 大名鼎鼎的美国科学家爱迪生，一生的发明多达近二千项，被誉为“发明大王”。这与他的勤奋读书是分不开的，他常常通宵达旦地读书，查资料，困极了，他就以书当枕，在实验室躺一会儿。因此，有人风趣地说：“怪不得爱迪生有那么多的知识，原来他在睡梦中也还要从书本里吸取营养哩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名人读书名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4176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立身以立学为先，立学以读书为本。——欧阳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　　读万卷书，行万里路。——刘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　　黑发不知勤学早，白首方悔读书迟。——颜真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97440" y="3679920"/>
            <a:ext cx="4689360" cy="2765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3776760"/>
            <a:ext cx="3024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1685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读书百遍，其义自见。——《三国志》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205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奇文共欣赏，疑义相与析。——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982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书到用时方恨少，事非经过不知难——陆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35020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非学无以广才，非志无以成学。——诸葛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国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熟读唐诗三百首，不会作诗也会吟——孙洙《唐诗三百首序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40464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发奋识遍天下字，立志读尽人间书。——苏轼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[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宋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　　鸟欲高飞先振翅，人求上进先读书。——李苦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240" y="2203560"/>
            <a:ext cx="899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书籍是朋友，虽然没有热情，但是非常忠实。——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                             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雨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书籍是青年人不可分离的生活伴侣和导师。——高尔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221000"/>
            <a:ext cx="82296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  <a:ea typeface="Tahoma"/>
              </a:rPr>
              <a:t>　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书籍是培植智慧的工具。——夸美绍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　　一本书像一艘船，带领我们从狭獈的地方，驶向生活的无限广阔的海洋。——凯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　　读一本好书，就是和许多高尚的人谈话。——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ahoma"/>
                <a:ea typeface="Tahoma"/>
              </a:rPr>
              <a:t>歌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读书方法举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00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读书有三到，谓心到、眼到、口到。——朱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117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读书之法，在循序而渐进，熟读而精思。—— 朱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2637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读书不要贪多，而是要多加思索，这样的读书使我获益不少。——卢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3581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读书是易事，思索是难事，但两者缺一，便全无用处。——富兰克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25920"/>
            <a:ext cx="914400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" y="27612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229600" cy="78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一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有关读书的典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知道它们与谁有关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头悬梁、锥刺股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囊萤映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凿壁偷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韦编三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程门立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53080" y="22050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孙敬、苏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10160" y="2852640"/>
            <a:ext cx="14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车胤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00920" y="285264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孙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3080" y="342900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匡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3080" y="4076640"/>
            <a:ext cx="18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  <a:ea typeface="Tahoma"/>
              </a:rPr>
              <a:t>孔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1800" y="4656240"/>
            <a:ext cx="18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  <a:ea typeface="Tahoma"/>
              </a:rPr>
              <a:t>杨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思我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喜欢看什么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平时看过什么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看书时动笔作批注、写读书笔记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于图画阅读与文本阅读，我喜欢哪一 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的阅读目标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子阅读有何利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507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对于图画阅读与文本阅读，各有什么长处和局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58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图更易思维上的理解，能使人更清楚的了解事物的本质现象，并且信息量增大，解说更快。但从另一方面来讲，读图又会使人缺少想象力，缺少自己的思维，阅读水平的确会有些下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读文就不同了，它可以提高自身的阅读水平和自己的品味。但同时可能会有些不形象。所以有利就有弊，要正确看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50752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网上阅读和纸质阅读各自的优缺点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怎样处理读流行作品与读经典名著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41768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人认为，应该多读流行作品。流行作品 用的是现代生活中鲜活的语言，反映的是当代人的思想感情，读起来轻松省力，有兴趣，吸收快。而经典名著往往艰深难懂，离现实生活较远，因此少读为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有人认为，应该多读经典名著。名著是经时间筛选留下的硕果，是古今中外文化的精华。它们和一般作品在文化品味上是不相等的，它们好像军事上的的制高点，占领了它，其他就不在活下了。读名著，有以一当十的价值。尤其是，名著为很多人反复阅读，已成为当代人共同的文化素养，不了解名著，就会在文化沟通中产生严重障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2376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师寄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" y="1052640"/>
            <a:ext cx="8229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8640" y="1197000"/>
            <a:ext cx="82314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悬梁刺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8280" y="1701720"/>
            <a:ext cx="507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发音：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Tahoma"/>
              </a:rPr>
              <a:t>xu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á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Tahoma"/>
              </a:rPr>
              <a:t>n li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á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Tahoma"/>
              </a:rPr>
              <a:t>ng c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ì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Tahoma"/>
              </a:rPr>
              <a:t>g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ǔ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。 释义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Tahoma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形容刻苦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　　出处：西汉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Tahoma"/>
              </a:rPr>
              <a:t>·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刘向《战国策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Tahoma"/>
              </a:rPr>
              <a:t>·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秦策一》：“（苏秦）读书欲睡，引锥自刺其股，血流至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　　东汉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Tahoma"/>
              </a:rPr>
              <a:t>·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班固《汉书》：“孙敬，字文宝，好学，晨夕不休。及至眠睡疲寝，以绳系头，悬屋梁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920" y="620640"/>
            <a:ext cx="3152880" cy="2592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4920" y="3654360"/>
            <a:ext cx="31478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1413000"/>
            <a:ext cx="82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汉朝有个叫孙敬的人，从小勤奋好学，他每天晚上学到深夜，为了避免发困，他用绳子的一头拴柱头发，一头拴在房梁上。战国时，有个名叫苏秦的人，想干一番大事业，便刻苦读书。每当深夜读书时，他总爱打盹。于是，他就在自己打盹的时候，用锥子往大腿上刺一下，以提精神。孙敬和苏秦的故事感动了后人，人们用“悬梁刺股”来表示刻苦学习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车胤囊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孙康映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1080" y="1055520"/>
            <a:ext cx="85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车胤囊萤我国晋代有个清贫好学的车胤，从小爱读书，但他家里很穷，点不起灯，于是，他就用很薄的纱布，做了个小口袋，把萤火虫捉来放在里面，晚上便利用闪闪荧光来勤奋读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854440"/>
            <a:ext cx="54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晋代孙康因为家贫没钱买灯油，晚上不能看书，他觉得非常可惜，白白地浪费光阴。一天外面下起了很大的雪，半夜梦醒，见一丝亮光从窗缝里钻进来，原来是大雪映出来的，他起身对着亮光看起书来。经过他夜夜刻苦努力终于成为饱学之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942160" y="2854440"/>
            <a:ext cx="27460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4176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晋朝人孙康从小喜欢读书，贫穷。为了维持生计家人不得不在白天都干活，孙康年纪小，但是不例外。白天没有时间，晚上家里没有灯不能读书。孙康问父亲：“为什么别人家里有油灯，而我们没有呢？”父亲回答说：“油灯很贵，咱们要买油灯全家都要饿肚子。”小孙康很懂事，从此就不再提此事。　　读的书都是 借的，又很讲信誉，到时间一定要还，常常因为没有时间看书而发愁。他曾经尝试在月光下读书，但是太暗，眼睛疲劳。　　有一年冬天，下大雪。月光皎洁。他忽然发现，书上的字在雪地里看得很清楚，孙康非常高兴，忙坐雪地里看书，坐累了就躺在雪地里，映着雪的反射光线读书。此后，每遇到下雪，孙康不顾严寒，躺在雪地里读书，时间长了手脚都长满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Tahoma"/>
                <a:ea typeface="Tahoma"/>
              </a:rPr>
              <a:t>冻疮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，但是通过这种方法他读了很多的书。最后官拜御史大夫。 许多人知道这个故事之后，感动得泪流满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04720" y="907920"/>
            <a:ext cx="5761080" cy="57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凿壁偷光的故事发生在山东省邹城市钢山街道杨下村。据《汉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匡衡列传》记载，西汉丞相匡衡幼年时期，由东海郡逃荒迁居此地，因家贫，白天打工干活，夜晚凿壁借邻居杨老太纺线灯光读书。后匡衡封为丞相。为报杨老太借灯读书之恩，专程回故里探望，此时杨老太已故去。后来此村改名为杨下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189000"/>
            <a:ext cx="3384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凿壁偷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160" y="1798560"/>
            <a:ext cx="34542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韦编三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189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1.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  <a:ea typeface="Tahoma"/>
              </a:rPr>
              <a:t>韦编三绝，出于《史记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  <a:ea typeface="Tahoma"/>
              </a:rPr>
              <a:t>·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  <a:ea typeface="Tahoma"/>
              </a:rPr>
              <a:t>孔子世家》的典故，原为孔子为读《易》而翻断了多次牛皮带子的简，现用于比喻读书勤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8640" y="2422440"/>
            <a:ext cx="82314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067280" y="260280"/>
            <a:ext cx="484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孔子“晚年喜易”，花了很大的精力，反反复复把《易》全部读了许多遍，又附注了许多内容，不知翻开来又卷回去地阅读了多少遍。通常认为，孔子这样读来读去，把串连竹简的牛皮带子也给磨断了几次，不得不多次换上新的再使用。以此比喻读书勤奋用功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即使读书读到了这样的地步，孔子还谦虚地说：“假如让我多活几年，我就可以完全掌握《易》的文与质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了。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8000" y="2781360"/>
            <a:ext cx="35290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cp:lastPrinted>1899-12-30T00:00:00Z</cp:lastPrinted>
  <dcterms:modified xsi:type="dcterms:W3CDTF">2013-12-13T03:41:4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09</vt:lpwstr>
  </property>
</Properties>
</file>