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5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7" descr="tax_logo"/>
          <p:cNvPicPr/>
          <p:nvPr/>
        </p:nvPicPr>
        <p:blipFill>
          <a:blip r:embed="rId2"/>
          <a:stretch/>
        </p:blipFill>
        <p:spPr>
          <a:xfrm>
            <a:off x="468360" y="333360"/>
            <a:ext cx="615960" cy="792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logo"/>
          <p:cNvPicPr/>
          <p:nvPr/>
        </p:nvPicPr>
        <p:blipFill>
          <a:blip r:embed="rId3"/>
          <a:stretch/>
        </p:blipFill>
        <p:spPr>
          <a:xfrm>
            <a:off x="7308720" y="6308640"/>
            <a:ext cx="136692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5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tax_logo"/>
          <p:cNvPicPr/>
          <p:nvPr/>
        </p:nvPicPr>
        <p:blipFill>
          <a:blip r:embed="rId2"/>
          <a:stretch/>
        </p:blipFill>
        <p:spPr>
          <a:xfrm>
            <a:off x="324000" y="333360"/>
            <a:ext cx="950760" cy="1224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logo"/>
          <p:cNvPicPr/>
          <p:nvPr/>
        </p:nvPicPr>
        <p:blipFill>
          <a:blip r:embed="rId3"/>
          <a:stretch/>
        </p:blipFill>
        <p:spPr>
          <a:xfrm>
            <a:off x="6732720" y="6093000"/>
            <a:ext cx="2133360" cy="514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神州浩天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税收数据采集申报系统</a:t>
            </a:r>
            <a:br>
              <a:rPr sz="54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（营改增试点典型户调查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操作说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初始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黑体"/>
                <a:ea typeface="黑体"/>
              </a:rPr>
              <a:t>使用纳税申报客户端初始化文件，如果丢失，可到税务大厅重新获取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网上申报企业，使用初始化文件中的注册文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注：必须为最新的注册文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介质申报企业，使用原初始化文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网络配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4619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块：系统设置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参数配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操作：首先保证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神州浩天纳税申报系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安装在同一台计算机上，介质申报用户选中“介质申报连接”，网上申报用户选中“网络申报连接”，然后点击“连接”按钮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5137200" y="1728720"/>
            <a:ext cx="217152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5121360" y="3284640"/>
            <a:ext cx="39146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导入申报表模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黑体"/>
                <a:ea typeface="黑体"/>
              </a:rPr>
              <a:t>打开软件，使用“报表管理 </a:t>
            </a:r>
            <a:r>
              <a:rPr b="1" lang="en-US" sz="3200" spc="-1" strike="noStrike">
                <a:solidFill>
                  <a:srgbClr val="ffc000"/>
                </a:solidFill>
                <a:latin typeface="黑体"/>
                <a:ea typeface="黑体"/>
              </a:rPr>
              <a:t>– </a:t>
            </a:r>
            <a:r>
              <a:rPr b="1" lang="zh-CN" sz="3200" spc="-1" strike="noStrike">
                <a:solidFill>
                  <a:srgbClr val="ffc000"/>
                </a:solidFill>
                <a:latin typeface="黑体"/>
                <a:ea typeface="黑体"/>
              </a:rPr>
              <a:t>模板导入”功能，三张申报表分别导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1838160" cy="283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2790720" y="3068640"/>
            <a:ext cx="53816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申报表录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月申报，局端未审核时可以重复申报，审核后不允许再次申报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提供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神州浩天纳税申报系统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导入数据的功能，需要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神州浩天税收数据采集申报系统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神州浩天纳税申报系统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安装在同一台计算机上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存时系统自动审核，如果审核未通过会高亮显示并给出提示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申报表录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黑体"/>
                <a:ea typeface="黑体"/>
              </a:rPr>
              <a:t>申报表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2205000"/>
          <a:ext cx="7345440" cy="3960720"/>
        </p:xfrm>
        <a:graphic>
          <a:graphicData uri="http://schemas.openxmlformats.org/drawingml/2006/table">
            <a:tbl>
              <a:tblPr/>
              <a:tblGrid>
                <a:gridCol w="3673440"/>
                <a:gridCol w="3672000"/>
              </a:tblGrid>
              <a:tr h="39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首次录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保存成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2847960" cy="305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432320" y="2781360"/>
            <a:ext cx="28764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申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黑体"/>
                <a:ea typeface="黑体"/>
              </a:rPr>
              <a:t>根据电子申报平台的申报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介质申报：携带申报文件到办税大厅窗口进行申报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网上申报：登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网上纳税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报接收系统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使用“纳税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税收数据申报”模块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6227640" y="2746440"/>
            <a:ext cx="23814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客服电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000"/>
                </a:solidFill>
                <a:latin typeface="黑体"/>
                <a:ea typeface="黑体"/>
              </a:rPr>
              <a:t>400733333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000"/>
                </a:solidFill>
                <a:latin typeface="黑体"/>
                <a:ea typeface="黑体"/>
              </a:rPr>
              <a:t>请说明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000"/>
                </a:solidFill>
                <a:latin typeface="黑体"/>
                <a:ea typeface="黑体"/>
              </a:rPr>
              <a:t>咨询“税收数据采集平台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67984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c000"/>
                </a:solidFill>
                <a:latin typeface="Arial"/>
              </a:rPr>
              <a:t>谢谢大家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目  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获取软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文件列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安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初始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导入报表模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填写申报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申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获取软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访问天津国税官方网站下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网址：</a:t>
            </a:r>
            <a:r>
              <a:rPr b="1" lang="en-US" sz="3200" spc="-1" strike="noStrike">
                <a:solidFill>
                  <a:srgbClr val="ffc000"/>
                </a:solidFill>
                <a:latin typeface="黑体"/>
                <a:ea typeface="黑体"/>
              </a:rPr>
              <a:t>www.tjsat.gov.c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栏目：</a:t>
            </a:r>
            <a:r>
              <a:rPr b="1" lang="zh-CN" sz="3200" spc="-1" strike="noStrike">
                <a:solidFill>
                  <a:srgbClr val="ffc000"/>
                </a:solidFill>
                <a:latin typeface="黑体"/>
                <a:ea typeface="黑体"/>
              </a:rPr>
              <a:t>办税服务</a:t>
            </a:r>
            <a:r>
              <a:rPr b="1" lang="en-US" sz="3200" spc="-1" strike="noStrike">
                <a:solidFill>
                  <a:srgbClr val="ffc000"/>
                </a:solidFill>
                <a:latin typeface="黑体"/>
                <a:ea typeface="黑体"/>
              </a:rPr>
              <a:t> – </a:t>
            </a:r>
            <a:r>
              <a:rPr b="1" lang="zh-CN" sz="3200" spc="-1" strike="noStrike">
                <a:solidFill>
                  <a:srgbClr val="ffc000"/>
                </a:solidFill>
                <a:latin typeface="黑体"/>
                <a:ea typeface="黑体"/>
              </a:rPr>
              <a:t>软件下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获取软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图片 3" descr=""/>
          <p:cNvPicPr/>
          <p:nvPr/>
        </p:nvPicPr>
        <p:blipFill>
          <a:blip r:embed="rId1"/>
          <a:stretch/>
        </p:blipFill>
        <p:spPr>
          <a:xfrm>
            <a:off x="395280" y="1251000"/>
            <a:ext cx="5264280" cy="32893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" descr=""/>
          <p:cNvPicPr/>
          <p:nvPr/>
        </p:nvPicPr>
        <p:blipFill>
          <a:blip r:embed="rId2"/>
          <a:stretch/>
        </p:blipFill>
        <p:spPr>
          <a:xfrm>
            <a:off x="1619280" y="2060640"/>
            <a:ext cx="684036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整体流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内容占位符 3"/>
          <p:cNvGraphicFramePr/>
          <p:nvPr/>
        </p:nvGraphicFramePr>
        <p:xfrm>
          <a:off x="457200" y="2281320"/>
          <a:ext cx="8229600" cy="31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1320"/>
                    <a:ext cx="822960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文件列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安装文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注：应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州浩天纳税申报系统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安装在同一台计算机上，否则无法导入申报表数据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976560" y="2565360"/>
            <a:ext cx="1171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文件列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初始化文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企业申报方式，分为网上申报和介质申报两种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网上申报：纳税申报客户端注册文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介质申报：纳税申报客户端初始化文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74960" y="3860640"/>
            <a:ext cx="3394080" cy="36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874960" y="5084640"/>
            <a:ext cx="3394080" cy="3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文件列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申报表模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营改增试点典型户应税服务调查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z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交通运输企业成本费用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z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融资租赁企业营改增税负分析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z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124000" y="2766960"/>
            <a:ext cx="2995560" cy="2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2124000" y="3755880"/>
            <a:ext cx="2879640" cy="257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2117880" y="4797360"/>
            <a:ext cx="241776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软件安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黑体"/>
                <a:ea typeface="黑体"/>
              </a:rPr>
              <a:t>操作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s 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黑体"/>
                <a:ea typeface="黑体"/>
              </a:rPr>
              <a:t>神州浩天税收数据采集申报系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包含运行环境和核心软件两部分，按默认设置安装即可，安装后桌面图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443640" y="4653000"/>
            <a:ext cx="866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6:33:02Z</dcterms:created>
  <dc:creator>微软用户</dc:creator>
  <dc:description/>
  <dc:language>en-US</dc:language>
  <cp:lastModifiedBy>微软用户</cp:lastModifiedBy>
  <dcterms:modified xsi:type="dcterms:W3CDTF">2013-06-08T00:16:11Z</dcterms:modified>
  <cp:revision>141</cp:revision>
  <dc:subject/>
  <dc:title>代开货物运输业专用发票</dc:title>
</cp:coreProperties>
</file>