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F25-44D4-4680-A516-2EE5598A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7AC-3678-4D7C-BCB6-A6DE05F1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55A-53D1-456B-ABF1-66B04218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410-6345-4EDE-9084-78E8A2F9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94F3-62B6-49DC-A54D-CD45C3C4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AE00-C614-45D5-A96F-33389F8D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36E5-EF35-45F5-A8E6-5DA36A5E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4A6E-0AFE-41CB-953F-EB8F08A4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B167-6082-42DB-BC25-40C2B914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C452-4FCE-4102-83BA-17F58E3D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A983-01CD-44F2-BC55-DD4F4D29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67C-15EF-47FA-9713-7C663D7C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F0C9-A439-4E2C-8059-3F10DF97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B1FB-C8B0-437D-AD84-C2C9386E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2E77-8275-4FD8-9C98-C900DF7E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AB80-FAC8-4EC1-852C-28B1CA02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900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440" y="177300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6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900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440" y="4029480"/>
            <a:ext cx="264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AA6B-E4A7-4C26-9069-A1895471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C9D-5681-485D-A6CF-48B397C4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0DB-1E09-4579-B71E-69C357F1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B84-A754-4A95-903C-D463371F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A52-F9B0-46B7-81D8-D98564C8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5C4-9526-46C6-9C20-D8431875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0" y="402948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28E0-E84F-403F-BC89-9F3ED2B6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773000"/>
            <a:ext cx="40158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60" y="4029480"/>
            <a:ext cx="8229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577-EFBD-4D0F-A6BF-EF4D988A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10D8-99B1-434E-A2CA-80D4457BC5A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8A4B-A7CB-47C7-B789-BF39B2802D1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77840" y="-168120"/>
            <a:ext cx="9429840" cy="7270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Arial"/>
                <a:ea typeface="新宋体"/>
              </a:rPr>
              <a:t>不知所措的心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3440" y="4412880"/>
            <a:ext cx="76320" cy="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王光良 - 右手边 - 光良" descr="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-177840" y="-95400"/>
            <a:ext cx="9671040" cy="709776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6560" y="2061720"/>
            <a:ext cx="727416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</a:rPr>
              <a:t>如果你想要撒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</a:rPr>
              <a:t>我会温情的呵护着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96720" y="-2910240"/>
            <a:ext cx="763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38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29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0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29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6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3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2997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3" descr=""/>
          <p:cNvPicPr/>
          <p:nvPr/>
        </p:nvPicPr>
        <p:blipFill>
          <a:blip r:embed="rId1"/>
          <a:stretch/>
        </p:blipFill>
        <p:spPr>
          <a:xfrm>
            <a:off x="-176040" y="-166680"/>
            <a:ext cx="9644040" cy="7234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6560" y="1701720"/>
            <a:ext cx="633744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如果你想要依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我会是你一辈子的港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5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i="1" lang="zh-CN" sz="8000" spc="-1" strike="noStrike">
                <a:solidFill>
                  <a:srgbClr val="ff0000"/>
                </a:solidFill>
                <a:latin typeface="Arial"/>
              </a:rPr>
              <a:t>羞  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企盼的眼神中交织千万欲诉的字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Arial"/>
              </a:rPr>
              <a:t>冲不出迟滞的咽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3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" dur="5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5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9600"/>
                            </p:stCondLst>
                            <p:childTnLst>
                              <p:par>
                                <p:cTn id="60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" dur="3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3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7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3" descr=""/>
          <p:cNvPicPr/>
          <p:nvPr/>
        </p:nvPicPr>
        <p:blipFill>
          <a:blip r:embed="rId1"/>
          <a:stretch/>
        </p:blipFill>
        <p:spPr>
          <a:xfrm>
            <a:off x="-101520" y="-92160"/>
            <a:ext cx="12018960" cy="8029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6200" y="1773000"/>
            <a:ext cx="40388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00"/>
                </a:solidFill>
                <a:latin typeface="Arial"/>
                <a:ea typeface="Kozuka Mincho Pro H"/>
              </a:rPr>
              <a:t>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00"/>
                </a:solidFill>
                <a:latin typeface="Arial"/>
                <a:ea typeface="Kozuka Mincho Pro H"/>
              </a:rPr>
              <a:t>寞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藏                                                                               在                                  心                              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68360" y="-2911320"/>
            <a:ext cx="763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" dur="3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xit" presetID="5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3" descr=""/>
          <p:cNvPicPr/>
          <p:nvPr/>
        </p:nvPicPr>
        <p:blipFill>
          <a:blip r:embed="rId1"/>
          <a:stretch/>
        </p:blipFill>
        <p:spPr>
          <a:xfrm>
            <a:off x="-249120" y="-239760"/>
            <a:ext cx="9574200" cy="7180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6560" y="1630440"/>
            <a:ext cx="799488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望着你离开的背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00"/>
                </a:solidFill>
                <a:latin typeface="Arial"/>
                <a:ea typeface="MingLiU_HKSCS-ExtB"/>
              </a:rPr>
              <a:t>抓不住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00"/>
                </a:solidFill>
                <a:latin typeface="Arial"/>
                <a:ea typeface="MingLiU_HKSCS-ExtB"/>
              </a:rPr>
              <a:t>             </a:t>
            </a:r>
            <a:r>
              <a:rPr b="1" lang="zh-CN" sz="8800" spc="-1" strike="noStrike">
                <a:solidFill>
                  <a:srgbClr val="333300"/>
                </a:solidFill>
                <a:latin typeface="Arial"/>
                <a:ea typeface="MingLiU_HKSCS-ExtB"/>
              </a:rPr>
              <a:t>抱不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5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" dur="3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" nodeType="after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6" dur="3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2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3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3200"/>
                            </p:stCondLst>
                            <p:childTnLst>
                              <p:par>
                                <p:cTn id="11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118" dur="3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7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6200"/>
                            </p:stCondLst>
                            <p:childTnLst>
                              <p:par>
                                <p:cTn id="121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4" dur="123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5" dur="123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27" dur="123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3" descr=""/>
          <p:cNvPicPr/>
          <p:nvPr/>
        </p:nvPicPr>
        <p:blipFill>
          <a:blip r:embed="rId1"/>
          <a:stretch/>
        </p:blipFill>
        <p:spPr>
          <a:xfrm>
            <a:off x="-317520" y="-309600"/>
            <a:ext cx="13026960" cy="8885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03640" y="692280"/>
            <a:ext cx="1513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Kozuka Mincho Pro M"/>
              </a:rPr>
              <a:t>挣扎的心只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Kozuka Mincho Pro M"/>
              </a:rPr>
              <a:t>爱   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23640" y="-2910240"/>
            <a:ext cx="14580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5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5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5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6720" y="-2910240"/>
            <a:ext cx="763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6560" y="117000"/>
            <a:ext cx="822960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cc00"/>
                </a:solidFill>
                <a:latin typeface="Arial"/>
              </a:rPr>
              <a:t>我是王福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3" descr=""/>
          <p:cNvPicPr/>
          <p:nvPr/>
        </p:nvPicPr>
        <p:blipFill>
          <a:blip r:embed="rId1"/>
          <a:stretch/>
        </p:blipFill>
        <p:spPr>
          <a:xfrm>
            <a:off x="-320760" y="-239760"/>
            <a:ext cx="10004400" cy="7270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4428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66ff33"/>
                </a:solidFill>
                <a:latin typeface="Arial"/>
              </a:rPr>
              <a:t>天上的星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66ff33"/>
                </a:solidFill>
                <a:latin typeface="Arial"/>
              </a:rPr>
              <a:t>             </a:t>
            </a:r>
            <a:r>
              <a:rPr b="0" i="1" lang="zh-CN" sz="5400" spc="-1" strike="noStrike">
                <a:solidFill>
                  <a:srgbClr val="66ff33"/>
                </a:solidFill>
                <a:latin typeface="Arial"/>
              </a:rPr>
              <a:t>千千万万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96720" y="-3270240"/>
            <a:ext cx="763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3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235080" cy="187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19640" y="2925720"/>
            <a:ext cx="235080" cy="187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66560" y="4005360"/>
            <a:ext cx="235080" cy="187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763640" y="981000"/>
            <a:ext cx="23508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1187280" y="3213000"/>
            <a:ext cx="235080" cy="187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6804000" y="2997360"/>
            <a:ext cx="235080" cy="187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4932360" y="549360"/>
            <a:ext cx="235080" cy="187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8893080" y="1270080"/>
            <a:ext cx="235080" cy="1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5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1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2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5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1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3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7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9000"/>
                            </p:stCondLst>
                            <p:childTnLst>
                              <p:par>
                                <p:cTn id="24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2000"/>
                            </p:stCondLst>
                            <p:childTnLst>
                              <p:par>
                                <p:cTn id="25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6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6500"/>
                            </p:stCondLst>
                            <p:childTnLst>
                              <p:par>
                                <p:cTn id="278" nodeType="after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27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282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8500"/>
                            </p:stCondLst>
                            <p:childTnLst>
                              <p:par>
                                <p:cTn id="28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8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3" descr=""/>
          <p:cNvPicPr/>
          <p:nvPr/>
        </p:nvPicPr>
        <p:blipFill>
          <a:blip r:embed="rId1"/>
          <a:srcRect l="570" t="0" r="0" b="6679"/>
          <a:stretch/>
        </p:blipFill>
        <p:spPr>
          <a:xfrm>
            <a:off x="-101520" y="-668160"/>
            <a:ext cx="12668040" cy="8469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6560" y="765000"/>
            <a:ext cx="84981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cc00"/>
                </a:solidFill>
                <a:latin typeface="Arial"/>
              </a:rPr>
              <a:t>我只要看懂你一颗就够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396720" y="-2910240"/>
            <a:ext cx="763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66ff33"/>
                </a:solidFill>
                <a:latin typeface="Arial"/>
                <a:ea typeface="MS Mincho"/>
              </a:rPr>
              <a:t>我想对你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9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4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4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4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4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4:09:06Z</dcterms:created>
  <dc:creator>felix</dc:creator>
  <dc:description/>
  <cp:keywords/>
  <dc:language>en-US</dc:language>
  <cp:lastModifiedBy>User</cp:lastModifiedBy>
  <cp:lastPrinted>1899-12-30T00:00:00Z</cp:lastPrinted>
  <dcterms:modified xsi:type="dcterms:W3CDTF">2013-10-19T15:17:53Z</dcterms:modified>
  <cp:revision>1</cp:revision>
  <dc:subject/>
  <dc:title>不知所措的心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