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D7325-61A7-456C-87EC-73245C025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9AB02-2219-469C-9BBE-709090BEC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F6C24-BA90-4CAB-8FEA-CFC6016E7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E2FF3-D522-403D-B8C5-511DF1C35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85B99-9C35-4515-A89C-AC2F38DFE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4889F-E87D-4376-8E48-04D7093C4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1A6C5-9246-44EF-AB72-D3CA9609F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5AC5F-45F8-4875-A6FF-ED7C52FF4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F37C6-577C-4363-96BA-1949F45CB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84987-9112-4CD5-AE5C-CD9C205AE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80EBB-8331-48A8-B942-14DFE4AFE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A5817-7D9D-4814-AF7C-7B1ACBBC7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C3EC3-56A4-4DBC-840B-3C2951B7D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32F80-F656-4166-A24D-E79DF3ABE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7AA21-E45A-42C4-9F18-9D8FDAB19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FDA45-DD2C-4C14-B13F-7C84AB16C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19701-82EB-47F7-BD6B-44C0509A5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B274A-92C2-4830-AF6C-D4D41CAD9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D592B-EFB9-4317-9296-A19189F30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1A727-B59A-4E44-AD62-857533E0C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FAD3E-4B7C-4EE0-9A71-DA7B34E9B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2F59D-B2B2-4EF1-82CD-DD59A179F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2327A-918C-4CE0-AA52-88E30D9C2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9A25A-7884-4665-B090-9423F4C83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D770A-3A2F-4C51-9D29-E40E9E0240E8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FC65B-D3D5-4705-BCA7-AB2F03C37D5C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635280" y="549360"/>
            <a:ext cx="550872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Arial Black"/>
              </a:rPr>
              <a:t>开学第一课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476360" y="2276280"/>
            <a:ext cx="518328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数学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03640" y="4941720"/>
            <a:ext cx="172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Math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Arial Black"/>
              </a:rPr>
              <a:t>作业要求：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课堂作业：及时，独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课后作业：独立，质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Arial Black"/>
              </a:rPr>
              <a:t>自我介绍</a:t>
            </a: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36520" y="3933720"/>
            <a:ext cx="7539120" cy="202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很高兴认识大家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很荣幸能担任五（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）班数学老师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55640" y="1773360"/>
            <a:ext cx="48243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姓名：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电话：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b7"/>
                </a:solidFill>
                <a:latin typeface="Arial Black"/>
              </a:rPr>
              <a:t>班级的简单情况：</a:t>
            </a: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人数：</a:t>
            </a: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48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男生：</a:t>
            </a: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4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女生：</a:t>
            </a: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5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26560" y="177300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它就是一门学科，一个需要我们去认识，去了解、掌握并加以应用的一个工具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从另一个角度来看，就像一扇门，看谁先进入它的世界，有人先进去了，有人刚踏进一只脚，还有人还徘徊在数学大门之外，想要学好数学就看谁先走到门口并找对工具，打开开这扇小门。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68360" y="549360"/>
            <a:ext cx="518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对数学的看法：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5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5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5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5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b7"/>
                </a:solidFill>
                <a:latin typeface="Arial Black"/>
              </a:rPr>
              <a:t>学生如何学好数学</a:t>
            </a: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12880" y="1830240"/>
            <a:ext cx="80071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方法很重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练习是保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思考是关键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作业是检测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Arial Black"/>
              </a:rPr>
              <a:t>怎样对待数学：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可谓众说纷纭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我之观：数学是一门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Arial"/>
              </a:rPr>
              <a:t>规律性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的学科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1256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b7"/>
                </a:solidFill>
                <a:latin typeface="Arial Black"/>
              </a:rPr>
              <a:t>优秀生</a:t>
            </a:r>
            <a:r>
              <a:rPr b="1" lang="zh-CN" sz="4000" spc="-1" strike="noStrike">
                <a:solidFill>
                  <a:srgbClr val="ffffb7"/>
                </a:solidFill>
                <a:latin typeface="Arial Black"/>
              </a:rPr>
              <a:t>VS</a:t>
            </a:r>
            <a:r>
              <a:rPr b="1" lang="zh-CN" sz="4000" spc="-1" strike="noStrike">
                <a:solidFill>
                  <a:srgbClr val="ffffb7"/>
                </a:solidFill>
                <a:latin typeface="Arial Black"/>
              </a:rPr>
              <a:t>后进生，</a:t>
            </a:r>
            <a:br>
              <a:rPr sz="4000"/>
            </a:br>
            <a:r>
              <a:rPr b="1" lang="zh-CN" sz="4000" spc="-1" strike="noStrike">
                <a:solidFill>
                  <a:srgbClr val="ffffb7"/>
                </a:solidFill>
                <a:latin typeface="Arial Black"/>
              </a:rPr>
              <a:t>            谁决定谁的前途</a:t>
            </a: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行楷"/>
              </a:rPr>
              <a:t>“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行楷"/>
              </a:rPr>
              <a:t>天生我材必有用”，“闻到有先后，术业有专攻”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行楷"/>
              </a:rPr>
              <a:t>同样一道题目，只是你比我先知道而已，问问同学或者老师，我也就知道了，你只是比我早知道一天而已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行楷"/>
              </a:rPr>
              <a:t>你昨天会了，我今天也会了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Arial Black"/>
              </a:rPr>
              <a:t>学生常见心理问题：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自大心理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自卑心理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畏惧心理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Arial Black"/>
              </a:rPr>
              <a:t>课堂要求：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注意听讲    不做小动作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做好笔记    不浪费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Arial"/>
              </a:rPr>
              <a:t>时间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积极思考    不随意走神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主动发言    发言请举手    声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坐姿端正    不东张西望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30T10:10:50Z</dcterms:created>
  <dc:creator>Tclsevers</dc:creator>
  <dc:description/>
  <dc:language>en-US</dc:language>
  <cp:lastModifiedBy>Tclsevers</cp:lastModifiedBy>
  <dcterms:modified xsi:type="dcterms:W3CDTF">2012-08-31T01:27:08Z</dcterms:modified>
  <cp:revision>5</cp:revision>
  <dc:subject/>
  <dc:title>开学第一课</dc:title>
</cp:coreProperties>
</file>