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10.png" ContentType="image/png"/>
  <Override PartName="/ppt/media/image8.gif" ContentType="image/gif"/>
  <Override PartName="/ppt/media/image30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6.gif" ContentType="image/gif"/>
  <Override PartName="/ppt/media/image19.png" ContentType="image/png"/>
  <Override PartName="/ppt/media/image17.png" ContentType="image/png"/>
  <Override PartName="/ppt/media/image22.jpeg" ContentType="image/jpe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685B-6F08-41D7-BA1D-1539EE1A3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2ACF-F125-4D5D-A318-939F34F4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3DB3-28A4-44C3-A3E1-FF144F16C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ACF-05DF-4803-B4F6-958DEB3A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0EB-CBD6-4440-803A-8DC14C54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E60-98CD-4E6D-93CD-DA06477D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24E-963B-4966-8BF2-EF617B5E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AFD1-B261-404E-A813-64F5F0CF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2DCF-454B-40E7-A805-BDF6B57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9071-1264-41F2-B5BC-BE0D1B05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93C3-0D4B-48AF-9214-BB36032C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C07-5647-4070-948A-3D305DEA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B21C-5676-4F5A-81BD-F6A65580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D30E-434A-4AE6-B42C-A23D95C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600-B9DE-4E13-ACC6-8C806228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8893-8DBB-45BC-9367-C59664E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A4ED-C6EF-401B-953A-A7C8DFD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3FA9-82F8-42DA-87D8-9A287CFA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DA52-33D4-45F6-BE16-7F5CA420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5D84-FA0A-45F5-AE0B-6E2B75CE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9D26-6018-4522-99E6-3A9B9DD0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FC9E-BB23-4E91-AF85-359BB01A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D8CBE-62C0-4A17-9D52-32DB3E65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62DD-E620-410C-A47F-8FD0FA90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C22F-340B-440B-943D-9935A3B4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9C4-A608-40CA-9884-8DB141DF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D100-F5DA-4955-BCE8-264B25D7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5689-EB23-4C13-95B1-C22AB381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526E0-6518-44D5-89BF-8D408115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B5B1-B543-4F55-9736-6C62793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ED10-1457-4F90-9A6B-66EB599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D9E2-E033-4C45-8A0C-A1C0189B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8218-92CF-4C73-9D4C-B9B36B2E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D971C-9719-4C61-938C-F727EF4E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B59E-EA92-4586-A57A-82FA7939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EFC1-037E-443A-921E-E4F33BE0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EB9-3FDC-478F-82BF-38F3AE56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4949-D95E-44FE-9AD9-9ED66A84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6921-E724-437E-9582-CAFC79B1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0B9B-97E1-40C0-A4BD-264A5686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83F3-3DF5-4DE1-A15D-540DA097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7973-10F3-4AD4-9DFF-79507AC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2C1C-5FCE-4141-B56D-5C66CE7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0F53-51BE-4407-8A4D-71606C66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C711-0032-41EB-866D-112A97B4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BAD46-30AE-4B3F-96B4-41AED37E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0588E-4A99-4B25-8DB7-2F55A05D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6ED-DD00-4BB4-99D8-81067EE9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60DB-DDBB-4EC3-A27A-76C2B81D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0F2F4-EE7A-4E98-A36D-64AF02AE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A1F7-8669-420B-9F06-7DFE7BB5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B6103-633D-4FB3-B673-1B518248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AB2D4-2988-49E5-B172-F55666A9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63894-D1D7-45A6-AED5-35EB0C7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DA0A-3F88-4F4B-85DC-2F845CC0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AD3E-82FE-4958-A58B-636D90D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9954-DC77-4939-B28F-E39B1868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441E-9A2C-4C74-B2BE-1BD957D1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8AE-9D06-4EC1-BA3E-990810EB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34BCE-2FF1-4762-861D-68238DE0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B1D9-037C-40BF-BE4D-F96031C0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60AE-5E21-41E7-AE93-0592AEB3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21111-2759-4051-AADE-DA1EF99C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094B-3BB5-4F94-867C-D0D0C1DD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44A3-6BF8-4306-BDC5-5D470BEC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B3E1-8920-405D-969A-4937D7BB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CB482-5FF0-4B41-A688-D2CE4AE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FD7E-290B-4510-994E-A337641C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499E-D3A8-4DE5-A937-168C67A1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12C-EA98-4460-8C89-05AC5774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B30D3-98AA-486A-8986-A34DF9A5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60716-AF37-4849-9701-BEA7CD82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EAA0-ACF5-4B70-8562-D5598390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315D9-010B-485E-94D6-42FA7CC8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187E2-607A-4669-B0B6-7C16339E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88511-736F-40BA-BB9F-7DD54A43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9F6C-28B0-4161-A27E-1DB2BA6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6D54-B680-423F-8167-9710B286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B9F6-4AF9-49BD-9546-64986F8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0E30D-D9D3-4380-B9A0-74761038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F8C-8C51-409A-83CB-7C9F14D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DC3C-1C97-4C84-9A25-F34D4E9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42517-2DBA-4C7D-8405-B32DDD7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AB8D3-CDFD-4515-B06F-AA0CA39D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030C-54F5-40C6-B9F7-FD148B85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FC1AC-F3A3-436F-B314-C531A021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FDA64-1609-4F7A-968B-5F307CE4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A8BED-EB85-48E9-AA51-1C718DD7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07013-72C5-40DF-945C-AD6C9DCC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2B53E-D171-4AFC-84CA-D9F59016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BFD72-311F-44A4-8835-6B82139F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F8B-356A-4B13-A6A1-20EBBCF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D9187-8BB1-48FF-8198-9292BEFA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36377-4B90-45C2-830B-2F1CA0B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B6223-93F1-4259-A505-7B50AA2A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E302A-200D-41F8-8EE1-3E07337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4331D-27AE-4033-A365-A928C5E7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F9A2E-522C-4FC2-BF38-53C9424B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89DF1-8751-4FF3-9ECB-D2529E01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7CE2-AA10-4432-9D9B-944FBA66B0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50F-FACD-4171-9C6A-EA7C992F9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297C-EB40-46E8-9575-16A31D28A9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D6E6-1C87-4C33-ACAB-B5C0E8761A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68E-440E-45D1-B427-06DCE8AC63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5818-4545-4AEA-87FB-3D4604B178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504C-231B-42DC-8B44-B7D5EE5EBA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BA2B-88C4-4829-BFE2-EC567A3B3D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18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4"/>
          <p:cNvSpPr txBox="1"/>
          <p:nvPr/>
        </p:nvSpPr>
        <p:spPr>
          <a:xfrm>
            <a:off x="1476360" y="1628640"/>
            <a:ext cx="683748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新学期、新气象、新目标 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642960" y="135720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不可能事事行，也不可能事事不行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事行不等于事事行，一事不行不等于事事不行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天行不等于明天行，今天不行不等于明天不行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事不行不等于做人不行。虽然成功未必在我，但努力一定有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image0187"/>
          <p:cNvPicPr/>
          <p:nvPr/>
        </p:nvPicPr>
        <p:blipFill>
          <a:blip r:embed="rId1"/>
          <a:stretch/>
        </p:blipFill>
        <p:spPr>
          <a:xfrm>
            <a:off x="500040" y="50004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1212"/>
          <p:cNvPicPr/>
          <p:nvPr/>
        </p:nvPicPr>
        <p:blipFill>
          <a:blip r:embed="rId2"/>
          <a:stretch/>
        </p:blipFill>
        <p:spPr>
          <a:xfrm>
            <a:off x="7667640" y="5661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二、成功在于有明确的目标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-262080" y="493560"/>
            <a:ext cx="916164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560" y="259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华文中宋"/>
              </a:rPr>
              <a:t>美国著名的成人教育专家卡耐基曾对世界上一万个不同种族、年龄与性别的人进行过一次关于人生目标的调查。他发现：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7%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人，没有目标；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60%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人，目标模糊；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0%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人，有比较清晰的短期目标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3%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人，有十分清晰的长期目标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0" y="49968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的跟踪调查发现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他们的生活状况十分有意思。那</a:t>
            </a: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3%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人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来几乎都不曾更改过自己的人生目标，他们始终朝着同一个方向不懈地努力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后，他们几乎都成了社会各界顶尖成功人士，他们中不乏白手创业者、行业领袖、社会精英。那</a:t>
            </a: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10%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人，大都生活在社会的中上层。他们的共同特点是，那些短期目标不断地被达到，生活质量稳步上升。他们成为各行各业不可缺少的专业人士，如医生、律师、工程师、高级主管等等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60%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人，几乎都生活在社会的中下层面。他们能安稳地生活与工作，但都没有什么特别的成绩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剩下的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27%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人，他们几乎都生活在社会的最底层，他们的生活都过得很不如意，常常失业，靠社会救济，并且常常在抱怨他人，抱怨社会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调查者因此得出结论：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目标对人生有巨大的导向性作用。成功在一开始仅仅是一个选择。你选择什么样的目标，就会有什么样的成就，就会有什么样的人生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952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日清晨，美国加利福尼亚海岸笼罩在浓雾中。在海岸以西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英里的卡塔林纳岛上，一位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34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的妇女跃入太平洋海水中，开始向加州海岸游去。要是成功的话，她就是第一个游过这个海峡的妇女。这名妇女叫弗罗伦丝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查德威克。在此之前，她是游过英吉利海峡的第一个妇女。那天早晨，海水冻得她全身发麻。雾很大，她连护送她的船都几乎看不到。时间一个小时一个小时地过去，千千万万人在电视上看着。有几次，鲨鱼靠近了她，被人开枪吓跑了。她仍然在游着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小时之后，她又累又冷，她知道自己不能再游了，就叫人拉她上船。她的母亲和教练在另一条船上。他们都告诉她离海岸很近了，叫她不要放弃。但她朝加州海岸望去，除了浓雾什么也看不到。几十分钟后——从她出发算起是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小时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钟之后——人们把她拉上船。又过了几个小时，她渐渐觉得暖和多了，这时却开始感到失败的打击。她不假思索地对记者说：“说实在的，我不是为自己找借口。如果当时我能看见陆地，也许我能坚持下来。”人们拉她上船的地点，离加州海岸只有半英里！查德威克一生中就只有这么一次没有坚持到底。两个月之后，她成功地游过同一个海峡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“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我认为她失败的原因是因为她在浓雾中看不到目的地。如果那天没有大雾，她就不会丧失信心而放弃最后的努力。这个故事给我的启示是：要想获得成功，就必须要确定一个清晰可见的目标，因为目标是人奋勇向前的动力源泉。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311040" y="-55440"/>
            <a:ext cx="84679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50560" y="761760"/>
            <a:ext cx="87627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da1f28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da1f28"/>
                </a:solidFill>
                <a:latin typeface="宋体"/>
              </a:rPr>
              <a:t>新目标</a:t>
            </a:r>
            <a:r>
              <a:rPr b="1" lang="zh-CN" sz="4400" spc="-1" strike="noStrike">
                <a:solidFill>
                  <a:srgbClr val="da1f28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da1f28"/>
                </a:solidFill>
                <a:latin typeface="Lucida Sans Unicode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da1f28"/>
                </a:solidFill>
                <a:latin typeface="Lucida Sans Unicode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昨天的辉煌凝固成永恒的美丽，今日的期待孕育着明天的丰碑。同学们，琴弦松弛，奏不出动听的乐曲；纪律散漫，点不燃生命的火焰。如果你希望成功，当以组织纪律为保证，以创新理论为指导，以师生互动为动力，以质量成绩为目标，勇于超越自己的昨天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da1f28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自己把自己说服，是一种理智的胜利；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自己被自己感动，是一种心灵的升华；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自己把自己征服，是一种人生的成熟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。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65240" y="-146160"/>
            <a:ext cx="880740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713880"/>
            <a:ext cx="936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从这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目标中，选择一个作为你的核心目标。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“所谓核心目标就是最重要的目标，如果你实现了这个目标，那么你的其他目标都能因此而实现。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每定下一个目标，尤其是具有挑战性的目标，请务必列出为何要实现它的十条以上的理由或好处，而且好处越多越好，越清楚越好。因为对你没有好处的目标，你的潜意识会认为没有必要为它做出太多的牺牲，这也就意味着它被实现的可能性已经不大了。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37960" y="96840"/>
            <a:ext cx="8467920" cy="811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合理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比如说你一节课能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英语单词，那你就不要给自己定下一节课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单词的目标，因为它远远超出了你的能力范围，你根本不可能实现它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有一个时间期限。从严格意义上讲，没有时间期限的目标等于没有目标，它只是一个梦想，因为它无法衡量进度，也无法衡量结果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明确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诸如“我想考上好高中学、“我希望过幸福的生活”此类的目标都是不明确的。你究竟想考什么样的高中？什么样的生活才算是幸福的生活？这些必须要弄清楚。目标越明确越容易实现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3d12fc8c386c50e7f3e6f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971280" y="1412640"/>
            <a:ext cx="7186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018bc"/>
                </a:solidFill>
                <a:latin typeface="Lucida Sans Unicode"/>
              </a:rPr>
              <a:t>同学们</a:t>
            </a:r>
            <a:r>
              <a:rPr b="1" lang="en-US" sz="4400" spc="-1" strike="noStrike">
                <a:solidFill>
                  <a:srgbClr val="1018bc"/>
                </a:solidFill>
                <a:latin typeface="Lucida Sans Unicode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018bc"/>
                </a:solidFill>
                <a:latin typeface="Lucida Sans Unicode"/>
              </a:rPr>
              <a:t>           </a:t>
            </a:r>
            <a:r>
              <a:rPr b="1" lang="zh-CN" sz="2700" spc="-1" strike="noStrike">
                <a:solidFill>
                  <a:srgbClr val="1018bc"/>
                </a:solidFill>
                <a:latin typeface="Lucida Sans Unicode"/>
              </a:rPr>
              <a:t>时光流逝， 转眼间我们已经走过了小学四年级的上学期 </a:t>
            </a:r>
            <a:r>
              <a:rPr b="1" lang="en-US" sz="2700" spc="-1" strike="noStrike">
                <a:solidFill>
                  <a:srgbClr val="1018bc"/>
                </a:solidFill>
                <a:latin typeface="Lucida Sans Unicode"/>
              </a:rPr>
              <a:t>,</a:t>
            </a:r>
            <a:r>
              <a:rPr b="1" lang="zh-CN" sz="2700" spc="-1" strike="noStrike">
                <a:solidFill>
                  <a:srgbClr val="1018bc"/>
                </a:solidFill>
                <a:latin typeface="Lucida Sans Unicode"/>
              </a:rPr>
              <a:t>五彩缤纷的寒假已经过去了，希望大家把精力多放在学习上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285840" y="500040"/>
            <a:ext cx="8858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④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把目标写在纸上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白纸黑字，具有巨大的开发潜能的力量。如果你不把目标写下来，并且每天温习的话，它们很容易被你遗忘，它们就不是真的目标，它们只是愿望而已。实际证明，写下自己目标的人比没有写下目标的人更容易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⑤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把目标视觉化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所谓目标视觉化是指你要经常在脑海中想象你达到目标时的情景，情景越生动逼真，你越能体验到成功的喜悦，这就越能激发你追求成功的欲望。正如《谁动了我的奶酪》这本书中所写的：“在我发现奶酪之前，想象我正在享受奶酪，这会帮助我找到新的奶酪。”另外，你还可以把你的目标用图片的形式表现出来，比如你的目标是考取北京大学，你不妨找来有关北京大学校园风景的图片，贴在墙壁上或桌子上，时时看，天天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⑥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制订一个详细达到目标的计划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如果没有一个切实可行的计划，你的目标只能是空中楼阁、海市蜃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⑦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严格执行计划，每日检查计划的落实情况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并且时常这样问自己：“我现在做的事情会使我更接近我的目标吗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班会4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5"/>
          <p:cNvSpPr txBox="1"/>
          <p:nvPr/>
        </p:nvSpPr>
        <p:spPr>
          <a:xfrm>
            <a:off x="1116000" y="1268280"/>
            <a:ext cx="5904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>
                    <a:alphaModFix amt="97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琥珀"/>
              </a:rPr>
              <a:t>主动出击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>
                  <a:alphaModFix amt="97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>
                    <a:alphaModFix amt="97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琥珀"/>
              </a:rPr>
              <a:t>       </a:t>
            </a: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5">
                    <a:alphaModFix amt="97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6">
                  <a:alphaModFix amt="97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857160" y="1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在新的学期，我们要：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（</a:t>
            </a:r>
            <a:r>
              <a:rPr b="1" lang="en-US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1</a:t>
            </a: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）养成良好的习惯，使自己终身受益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（</a:t>
            </a:r>
            <a:r>
              <a:rPr b="1" lang="en-US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2</a:t>
            </a: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）学习上尽力而为，要有阶段性目标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以自己最优异的成绩回报自己的父母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5" descr="image0187"/>
          <p:cNvPicPr/>
          <p:nvPr/>
        </p:nvPicPr>
        <p:blipFill>
          <a:blip r:embed="rId2"/>
          <a:stretch/>
        </p:blipFill>
        <p:spPr>
          <a:xfrm>
            <a:off x="428760" y="1428840"/>
            <a:ext cx="608040" cy="565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image0187"/>
          <p:cNvPicPr/>
          <p:nvPr/>
        </p:nvPicPr>
        <p:blipFill>
          <a:blip r:embed="rId3"/>
          <a:stretch/>
        </p:blipFill>
        <p:spPr>
          <a:xfrm>
            <a:off x="500040" y="2286000"/>
            <a:ext cx="5716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571320" y="642960"/>
            <a:ext cx="83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）从今天开始我们要做到以下几点</a:t>
            </a:r>
            <a:r>
              <a:rPr b="0" lang="zh-CN" sz="36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入楼即静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入室即坐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入座即学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入学即专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4" descr="image0187"/>
          <p:cNvPicPr/>
          <p:nvPr/>
        </p:nvPicPr>
        <p:blipFill>
          <a:blip r:embed="rId2"/>
          <a:stretch/>
        </p:blipFill>
        <p:spPr>
          <a:xfrm>
            <a:off x="0" y="1268280"/>
            <a:ext cx="838080" cy="7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468360" y="2602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自己是聪明人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95280" y="11970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18bc"/>
                </a:solidFill>
                <a:latin typeface="Arial"/>
                <a:ea typeface="楷体_GB2312"/>
              </a:rPr>
              <a:t>越是聪明人越要懂得下苦工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39640" y="2133720"/>
            <a:ext cx="57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自己是笨人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95280" y="3141720"/>
            <a:ext cx="686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18bc"/>
                </a:solidFill>
                <a:latin typeface="Arial"/>
                <a:ea typeface="楷体_GB2312"/>
              </a:rPr>
              <a:t>笨鸟永远必须先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539640" y="400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自己是一般人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468360" y="48690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前有堵截</a:t>
            </a:r>
            <a:r>
              <a:rPr b="1" lang="en-US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后有追兵</a:t>
            </a:r>
            <a:r>
              <a:rPr b="1" lang="en-US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你能做的只有奔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三、成功在于尽早做好计划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500040" y="2162520"/>
            <a:ext cx="837900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计划是实现目标的前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百无聊赖地坐在桌前，对着那一摞摞教科书、习题册呆望了一会儿，从中捡出一本，乱翻了几页，从中挑出一道题，结果半个小时也没能做出结果，然后只有没好气地把它再丢回书堆中去，再捡起一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这简单的重复劳动中，时间匆匆而过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这样的经历，你是否有过？这是心理空虚和急躁的表现：一方面想抓紧时间，努力学习；另一方面，又常常举棋不定，不知从何下手，往往由于一些小难题而自暴自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面对这种困境，我们该采取怎样的办法？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365040" y="523800"/>
            <a:ext cx="3348000" cy="1231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0098-4159w"/>
          <p:cNvPicPr/>
          <p:nvPr/>
        </p:nvPicPr>
        <p:blipFill>
          <a:blip r:embed="rId2"/>
          <a:stretch/>
        </p:blipFill>
        <p:spPr>
          <a:xfrm>
            <a:off x="3924360" y="2703600"/>
            <a:ext cx="5219640" cy="41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571680" y="2086920"/>
            <a:ext cx="8064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最好的解决方法，就是使学习具有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计划性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计划是实现目标的前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，没有计划，目标就成了水上浮萍，没有根基。做事没有计划，结果不是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眉毛胡子一把抓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，就是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盲人摸象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一样，只见树木，不见森林。生活对于没有计划的人来说，就是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走一步看一步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当一天和尚撞一天钟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85800" y="198072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怎样制定适合自己的学习计划？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365040" y="523800"/>
            <a:ext cx="2664000" cy="1231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0098-4159w"/>
          <p:cNvPicPr/>
          <p:nvPr/>
        </p:nvPicPr>
        <p:blipFill>
          <a:blip r:embed="rId2"/>
          <a:stretch/>
        </p:blipFill>
        <p:spPr>
          <a:xfrm>
            <a:off x="4246560" y="2960640"/>
            <a:ext cx="489744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5"/>
          <p:cNvPicPr/>
          <p:nvPr/>
        </p:nvPicPr>
        <p:blipFill>
          <a:blip r:embed="rId1"/>
          <a:stretch/>
        </p:blipFill>
        <p:spPr>
          <a:xfrm>
            <a:off x="4356000" y="1916280"/>
            <a:ext cx="4237200" cy="465264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250920" y="105264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 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成功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=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标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划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714240" y="1455480"/>
            <a:ext cx="8064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制定适合自己的学习计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作战讲究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知彼，百战不殆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。学习也是一场战斗，计划就是做到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，因为要制定出符合自己实际情况的学习计划，必须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包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三层含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：明确地估计自己的能力，了解当时学习情况，明确学习的目标。做到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后，我们就可以制定计划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428760" y="5000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别人告诉你的方法是很难完全套用的。只有自己去试着做，摸索出自己的完整方法，才是最有用的。而别人告诉你的方法，最多只能充当一个指路标的作用。 所以，不要过于重视它的形式。只要是能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达到目的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计划都是好计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要让自己知道，每天你具体干些什么，知道每周、每月的安排等。一句话，就是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做到心中有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计划的安排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应合理、科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尽量不要让你的时间浪费。应该说明的是，不浪费时间并不是把所有时间都用来学习，也不是说打球、洗衣服等时间都是浪费。很多事不能不做，但要放在合适的时候做，黄金时间都应用来学习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</a:rPr>
              <a:t>有同学说：老师，要我们做计划你都念叨一百遍了，它真的那么有用么？好处是什么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365040" y="530280"/>
            <a:ext cx="320688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0" y="428760"/>
            <a:ext cx="91440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严格遵守学习计划有很多好处</a:t>
            </a:r>
            <a:r>
              <a:rPr b="0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1200"/>
            </a:b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计划表可以帮助你克服惰性和倦怠，尤其是当它配合一个自我奖励制度时会更加有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你能按部就班、循序渐进地完成你的学习，那么学习便不会给你带来太大的压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计划表可以确保你不会浪费时间，使你有时间做其他该做的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计划表可以使你了解自己的学习进度，让你清楚地知道哪些事等着做；又可以帮助自己对先前的学习做个评价。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光有计划还不行，有了它之后我们还需要做些什么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20840" y="603360"/>
            <a:ext cx="2792160" cy="1158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0098-4159w"/>
          <p:cNvPicPr/>
          <p:nvPr/>
        </p:nvPicPr>
        <p:blipFill>
          <a:blip r:embed="rId2"/>
          <a:stretch/>
        </p:blipFill>
        <p:spPr>
          <a:xfrm>
            <a:off x="4427640" y="3105000"/>
            <a:ext cx="471636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四、成功在于良好的学习习惯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250920" y="1642320"/>
            <a:ext cx="26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真诚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668400" y="1654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诚实守信</a:t>
            </a:r>
            <a:r>
              <a:rPr b="1" lang="zh-CN" sz="3200" spc="-1" strike="noStrike">
                <a:solidFill>
                  <a:srgbClr val="da1f28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867280" y="1642320"/>
            <a:ext cx="26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认真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143160" y="5000040"/>
            <a:ext cx="27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自信自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79280" y="2714040"/>
            <a:ext cx="28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遵守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059280" y="2655000"/>
            <a:ext cx="28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讲究效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5940360" y="2642400"/>
            <a:ext cx="26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友善合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214200" y="501264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合理消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357120" y="37854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主动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3677760" y="385704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独立思考</a:t>
            </a:r>
            <a:r>
              <a:rPr b="1" lang="zh-CN" sz="3200" spc="-1" strike="noStrike">
                <a:solidFill>
                  <a:srgbClr val="da1f28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6530040" y="385704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勇于实践</a:t>
            </a:r>
            <a:r>
              <a:rPr b="1" lang="zh-CN" sz="4000" spc="-1" strike="noStrike">
                <a:solidFill>
                  <a:srgbClr val="da1f28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6143760" y="5000040"/>
            <a:ext cx="25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总结反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1748160" y="50004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99"/>
                </a:solidFill>
                <a:latin typeface="黑体"/>
                <a:ea typeface="黑体"/>
              </a:rPr>
              <a:t>人格化好习惯的</a:t>
            </a:r>
            <a:r>
              <a:rPr b="1" lang="en-US" sz="4800" spc="-1" strike="noStrike">
                <a:solidFill>
                  <a:srgbClr val="cc3399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cc3399"/>
                </a:solidFill>
                <a:latin typeface="黑体"/>
                <a:ea typeface="黑体"/>
              </a:rPr>
              <a:t>指标 </a:t>
            </a:r>
            <a:r>
              <a:rPr b="1" lang="en-US" sz="4800" spc="-1" strike="noStrike">
                <a:solidFill>
                  <a:srgbClr val="cc3399"/>
                </a:solidFill>
                <a:latin typeface=".number one.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85840" y="15717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Lucida Sans Unicode"/>
                <a:ea typeface="楷体_GB2312"/>
              </a:rPr>
              <a:t>交一些能够管住自己的朋友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Lucida Sans Unicode"/>
                <a:ea typeface="楷体_GB2312"/>
              </a:rPr>
              <a:t>用写座右铭，挂字画等来提醒约束自己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Lucida Sans Unicode"/>
                <a:ea typeface="楷体_GB2312"/>
              </a:rPr>
              <a:t>用写日记来管住自己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86997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4360" y="980640"/>
            <a:ext cx="7920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是不是预习要学的功课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上课的时候，注意力是否集中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学过的功课，是不是加以复习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是否喜欢回答老师的问题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上自习课的时候是否自觉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不懂的功课，是否向别人请教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是不是按时完成作业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-365040" y="-165240"/>
            <a:ext cx="98694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109440" y="0"/>
            <a:ext cx="8820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成功在于坚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学第一天，古希腊大哲学家苏格拉底对学生们说：“今天咱们只学一件最简单也是最最容易做的事儿。每人把胳膊尽量往前甩，然后再尽量往后甩。”说着，苏格拉底示范了一遍。“从今天开始，每天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。大家能做到吗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生们都笑了。这么简单的事，有什么做不到的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过了一个月，苏格拉底问学生们：“每天甩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，哪些同学坚持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％的同学骄傲地举起了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0098-4159w"/>
          <p:cNvPicPr/>
          <p:nvPr/>
        </p:nvPicPr>
        <p:blipFill>
          <a:blip r:embed="rId1"/>
          <a:stretch/>
        </p:blipFill>
        <p:spPr>
          <a:xfrm>
            <a:off x="684360" y="3268800"/>
            <a:ext cx="8459640" cy="3589200"/>
          </a:xfrm>
          <a:prstGeom prst="rect">
            <a:avLst/>
          </a:prstGeom>
          <a:ln w="0">
            <a:noFill/>
          </a:ln>
        </p:spPr>
      </p:pic>
      <p:sp>
        <p:nvSpPr>
          <p:cNvPr id="384" name="WordArt 4"/>
          <p:cNvSpPr txBox="1"/>
          <p:nvPr/>
        </p:nvSpPr>
        <p:spPr>
          <a:xfrm>
            <a:off x="357120" y="357120"/>
            <a:ext cx="84978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黑体"/>
              </a:rPr>
              <a:t>良好的开端是成功的一半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1197000"/>
            <a:ext cx="79246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又过了一个月，苏格拉底又问，这回，坚持下来的学生只剩下八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年过后，苏格拉底再一次问大家：“请告诉我，最简单的甩手运动，还有哪几位同学坚持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时，整个教室里，只有一人举起了手。这个学生就是后来成为古希腊另一位大哲学家的柏拉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71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Lucida Sans Unicode"/>
              </a:rPr>
              <a:t>听完这个故事后，你有什么想法，怎样的心得？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2"/>
          <a:stretch/>
        </p:blipFill>
        <p:spPr>
          <a:xfrm>
            <a:off x="420840" y="512640"/>
            <a:ext cx="2931840" cy="10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26920" y="1844640"/>
            <a:ext cx="769788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世间最容易的事是坚持，最难的事也是坚持。说它容易，是因为只要愿意做，人人能做到；说它难，是因为真正能做到的，终究只是少数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成功在于坚持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是一个并不神秘的秘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68360" y="476280"/>
            <a:ext cx="2590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心得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13840" y="1785600"/>
            <a:ext cx="854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2329"/>
                </a:solidFill>
                <a:latin typeface="黑体"/>
              </a:rPr>
              <a:t>     </a:t>
            </a:r>
            <a:r>
              <a:rPr b="1" lang="zh-CN" sz="4400" spc="-1" strike="noStrike">
                <a:solidFill>
                  <a:srgbClr val="062329"/>
                </a:solidFill>
                <a:latin typeface="楷体_GB2312"/>
                <a:ea typeface="楷体_GB2312"/>
              </a:rPr>
              <a:t>用你的表现来证明你的与众不同；用你的行动证明你关心与爱护我们的集体；用你对他人的理解与宽容来赢得别人的尊重。</a:t>
            </a:r>
            <a:r>
              <a:rPr b="1" lang="zh-CN" sz="4000" spc="-1" strike="noStrike">
                <a:solidFill>
                  <a:srgbClr val="062329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6516720" y="0"/>
            <a:ext cx="2627280" cy="620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WordArt 5"/>
          <p:cNvSpPr txBox="1"/>
          <p:nvPr/>
        </p:nvSpPr>
        <p:spPr>
          <a:xfrm>
            <a:off x="785880" y="571680"/>
            <a:ext cx="75596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5385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我始终相信，你们会做得更好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35385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亲爱的同学，看，新的征程已经开始，听，前进的号角已经吹响，赶快行动起来吧，让我们扬起自信的风帆，向理想的彼岸胜利前行！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50004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Lucida Sans Unicode"/>
              </a:rPr>
              <a:t>良好的开始是成功的一半。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328680" y="-212760"/>
            <a:ext cx="87962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0" y="1412640"/>
            <a:ext cx="795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3399"/>
                </a:solidFill>
                <a:latin typeface="宋体"/>
              </a:rPr>
              <a:t>新学期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1f28"/>
                </a:solidFill>
                <a:latin typeface="Comic Sans MS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标志着松散、高度自我的寒假生活的结束，忙碌、规范、自律的新学年的开始。从现在开始，全校师生要消除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寒假综合症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，以崭新的姿态、满腔的热忱、饱满的精神投入到新的工作学习生活之中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班会3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90" name="WordArt 5"/>
          <p:cNvSpPr txBox="1"/>
          <p:nvPr/>
        </p:nvSpPr>
        <p:spPr>
          <a:xfrm>
            <a:off x="324000" y="2565360"/>
            <a:ext cx="85723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黑体"/>
              </a:rPr>
              <a:t>想想关于新开始我们应该怎样做？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5280" y="1268280"/>
            <a:ext cx="874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新气象、新起点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ff00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机遇与挑战并存，压力与动力同在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相信，我们有信心、有能力，能在新的起点上赢得新的胜利，续写新的篇章。</a:t>
            </a:r>
            <a:r>
              <a:rPr b="1" lang="zh-CN" sz="4000" spc="-1" strike="noStrike">
                <a:solidFill>
                  <a:srgbClr val="da1f28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4"/>
          <p:cNvPicPr/>
          <p:nvPr/>
        </p:nvPicPr>
        <p:blipFill>
          <a:blip r:embed="rId1"/>
          <a:stretch/>
        </p:blipFill>
        <p:spPr>
          <a:xfrm>
            <a:off x="-396720" y="0"/>
            <a:ext cx="9901080" cy="74264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5"/>
          <p:cNvSpPr/>
          <p:nvPr/>
        </p:nvSpPr>
        <p:spPr>
          <a:xfrm>
            <a:off x="539640" y="620640"/>
            <a:ext cx="8136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4646"/>
                </a:solidFill>
                <a:latin typeface="Times New Roman"/>
              </a:rPr>
              <a:t>我们的态度决定一切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怎样对待生活，生活就怎样对待我们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怎样对待别人，别人就怎样对待我们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在一项任务刚开始时的态度就决定了最后的多大成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的环境完全由我们自己的态度来创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4:10:23Z</dcterms:created>
  <dc:creator>CHangJianGuo</dc:creator>
  <dc:description/>
  <dc:language>en-US</dc:language>
  <cp:lastModifiedBy>USER-</cp:lastModifiedBy>
  <dcterms:modified xsi:type="dcterms:W3CDTF">2014-02-17T06:25:23Z</dcterms:modified>
  <cp:revision>37</cp:revision>
  <dc:subject/>
  <dc:title>PowerPoint 演示文稿</dc:title>
</cp:coreProperties>
</file>