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5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50.png" ContentType="image/png"/>
  <Override PartName="/ppt/media/image5.jpeg" ContentType="image/jpeg"/>
  <Override PartName="/ppt/media/image26.jpeg" ContentType="image/jpeg"/>
  <Override PartName="/ppt/media/image48.gif" ContentType="image/gif"/>
  <Override PartName="/ppt/media/image49.jpeg" ContentType="image/jpeg"/>
  <Override PartName="/ppt/media/image53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28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F3C-9A9A-4C20-838D-3D160230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436-1E7C-428F-9F3E-AC005DCD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66E-DD35-4939-AB21-09331309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396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160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396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160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EAD-9D60-42C5-B47E-AB1662D0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DB7C-AD1F-4CFB-BFB4-2FAFC4D0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4AA3-985B-40B5-AD17-D9CAEA41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1EED-A456-4B8A-8B1C-9FF14151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1DB2-03E4-41F9-B577-AB9C0F98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BAE8-4B29-4FEB-8003-1890E3EE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D05B-8787-4FCE-8B4B-6A7D6E95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264D-4644-432B-A35B-90C7E835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FAB-8E32-4DA9-8485-82644E67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9038-8CA5-42EB-92CC-1130C417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FCCC-5F8C-4303-8F56-E3D5E220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E1D0-C1C9-4C03-ACBF-A927AE69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B7EB-4BA4-45C5-BE38-51C1CAC2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1396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160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06632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1396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160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7A72-3FFF-4888-A575-C0945C3A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279B-F14A-4B0D-A7AB-47BE3432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BE162-FBAD-4778-9BCE-7D802B0F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B0E0-50C3-420A-8CF6-6E887111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1F63D-0397-4CFA-9D96-7405459B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F9C25-F19E-4E5A-A8E7-8EDC0544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B7B-2545-4BB5-87A1-69DE773D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DA1E-94F1-43A6-AFD3-9909F4CA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E466-E4A1-4C0F-8FAB-15EF8DE1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A521-BBF5-40C3-97B6-165707F8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67D82-A2A3-4940-94B1-B16CFE25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3587E-C335-44F7-BEE9-7EA8768F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253B-FDAE-4736-AC5C-B3168241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1396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160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6632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1396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6160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FFFA9-8AC8-411E-9707-0790AC40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28842-E90A-4F44-8E5D-7801CC1F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B8033-B640-4672-9CF2-1F33A8EE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2DB73-836B-4B43-B845-133252CA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4C7-D683-4AA1-ABEF-8ADAB246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040AF-3DC5-43E9-92A6-ECD44182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995DF-9740-412F-B6DE-489FAACD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FAF27-1389-4C33-B709-26AF3FB3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A6633-5DE0-4CB2-8EE1-FAA14E97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4EE3-977C-4D69-A0B6-0CDCB855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FDD2-F2F5-4C76-B870-45E3F1A6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C6D5F-D664-45F4-8840-92E51FC2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6D94-35F5-4749-B216-35721DDB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1396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6160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06632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1396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6160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6AA2-AD99-44DD-AF54-4467126F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745-B415-4CA9-8FB4-8D74D453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76F-5FF1-45BF-9371-66298AAA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E1C-F37D-4695-85CB-D851787B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A78-AFCE-4311-8E3F-AB030F59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5AF-0F3B-4F65-8882-646B823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6CA2-CE7E-46B2-9F70-05AAB17E4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1676520" y="1066680"/>
            <a:ext cx="6629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pettals_falling"/>
          <p:cNvPicPr/>
          <p:nvPr/>
        </p:nvPicPr>
        <p:blipFill>
          <a:blip r:embed="rId4"/>
          <a:stretch/>
        </p:blipFill>
        <p:spPr>
          <a:xfrm>
            <a:off x="8448840" y="0"/>
            <a:ext cx="695160" cy="571500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8458200" y="0"/>
            <a:ext cx="0" cy="6858000"/>
          </a:xfrm>
          <a:prstGeom prst="line">
            <a:avLst/>
          </a:prstGeom>
          <a:ln w="57240">
            <a:solidFill>
              <a:srgbClr val="850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rose_flower"/>
          <p:cNvPicPr/>
          <p:nvPr/>
        </p:nvPicPr>
        <p:blipFill>
          <a:blip r:embed="rId5"/>
          <a:stretch/>
        </p:blipFill>
        <p:spPr>
          <a:xfrm>
            <a:off x="7162920" y="5181480"/>
            <a:ext cx="3047760" cy="236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2336-2056-404E-A85D-F0CB49C8D8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4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1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Text Box 53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7"/>
          <p:cNvSpPr/>
          <p:nvPr/>
        </p:nvSpPr>
        <p:spPr>
          <a:xfrm>
            <a:off x="2209680" y="2133720"/>
            <a:ext cx="6324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CE0A-88AC-4EF5-A1F4-7292CA03D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7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7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F36F-4EB8-4425-83EE-1BD2AF16EB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hi.baidu.com/songsongspace/album/item/ef2738efe108e9f4cf1b3e44.html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6.xm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&#22763;&#20853;&#31361;&#20987;%20&#24449;&#26381;&#22825;&#22530;.wma" TargetMode="External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中开学主题班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1763640" y="2997360"/>
            <a:ext cx="633744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高中，我来了！</a:t>
            </a:r>
            <a:endParaRPr b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5" descr="02"/>
          <p:cNvPicPr/>
          <p:nvPr/>
        </p:nvPicPr>
        <p:blipFill>
          <a:blip r:embed="rId1"/>
          <a:srcRect l="0" t="0" r="0" b="3656"/>
          <a:stretch/>
        </p:blipFill>
        <p:spPr>
          <a:xfrm>
            <a:off x="2195640" y="1692360"/>
            <a:ext cx="6480000" cy="497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06"/>
          <p:cNvPicPr/>
          <p:nvPr/>
        </p:nvPicPr>
        <p:blipFill>
          <a:blip r:embed="rId1"/>
          <a:srcRect l="0" t="0" r="0" b="3521"/>
          <a:stretch/>
        </p:blipFill>
        <p:spPr>
          <a:xfrm>
            <a:off x="1908000" y="1773360"/>
            <a:ext cx="6840720" cy="4824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820800" y="692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的生活会怎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3" descr="W020060711832149210200"/>
          <p:cNvPicPr/>
          <p:nvPr/>
        </p:nvPicPr>
        <p:blipFill>
          <a:blip r:embed="rId1"/>
          <a:stretch/>
        </p:blipFill>
        <p:spPr>
          <a:xfrm>
            <a:off x="4495680" y="54000"/>
            <a:ext cx="4648320" cy="3014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zjoyz2001_1155942112"/>
          <p:cNvPicPr/>
          <p:nvPr/>
        </p:nvPicPr>
        <p:blipFill>
          <a:blip r:embed="rId2"/>
          <a:stretch/>
        </p:blipFill>
        <p:spPr>
          <a:xfrm>
            <a:off x="0" y="2349360"/>
            <a:ext cx="4495680" cy="4496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200621385859873"/>
          <p:cNvPicPr/>
          <p:nvPr/>
        </p:nvPicPr>
        <p:blipFill>
          <a:blip r:embed="rId3"/>
          <a:stretch/>
        </p:blipFill>
        <p:spPr>
          <a:xfrm>
            <a:off x="4495680" y="3263760"/>
            <a:ext cx="4648320" cy="35499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6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866c5a3196bdefb1aedc1410b262a1d2"/>
          <p:cNvPicPr/>
          <p:nvPr/>
        </p:nvPicPr>
        <p:blipFill>
          <a:blip r:embed="rId1"/>
          <a:stretch/>
        </p:blipFill>
        <p:spPr>
          <a:xfrm>
            <a:off x="304920" y="247680"/>
            <a:ext cx="8305560" cy="54864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1476360" y="58770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这就是我的生活，我的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bf2b98b1b25e1816c6b75f784bf00d92"/>
          <p:cNvPicPr/>
          <p:nvPr/>
        </p:nvPicPr>
        <p:blipFill>
          <a:blip r:embed="rId1"/>
          <a:stretch/>
        </p:blipFill>
        <p:spPr>
          <a:xfrm>
            <a:off x="179280" y="163440"/>
            <a:ext cx="8839440" cy="57135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"/>
          <p:cNvSpPr/>
          <p:nvPr/>
        </p:nvSpPr>
        <p:spPr>
          <a:xfrm>
            <a:off x="3486960" y="6021360"/>
            <a:ext cx="2257560" cy="581400"/>
          </a:xfrm>
          <a:prstGeom prst="rect">
            <a:avLst/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出粮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个月的收入还比不上以前的零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6252840" y="-503280"/>
            <a:ext cx="729000" cy="77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样的生活，我也得选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3" descr="图片2"/>
          <p:cNvPicPr/>
          <p:nvPr/>
        </p:nvPicPr>
        <p:blipFill>
          <a:blip r:embed="rId1"/>
          <a:srcRect l="10604" t="2217" r="0" b="0"/>
          <a:stretch/>
        </p:blipFill>
        <p:spPr>
          <a:xfrm>
            <a:off x="927000" y="503280"/>
            <a:ext cx="4162680" cy="59580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Img227693969"/>
          <p:cNvPicPr/>
          <p:nvPr/>
        </p:nvPicPr>
        <p:blipFill>
          <a:blip r:embed="rId1"/>
          <a:stretch/>
        </p:blipFill>
        <p:spPr>
          <a:xfrm>
            <a:off x="468360" y="0"/>
            <a:ext cx="7986600" cy="58053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2744640" y="5867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后悔啊！只怪当初的选择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wm050221_03_1"/>
          <p:cNvPicPr/>
          <p:nvPr/>
        </p:nvPicPr>
        <p:blipFill>
          <a:blip r:embed="rId1"/>
          <a:stretch/>
        </p:blipFill>
        <p:spPr>
          <a:xfrm>
            <a:off x="0" y="42840"/>
            <a:ext cx="5181480" cy="3890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1a802e581a9ae6bf025769999d283b9b"/>
          <p:cNvPicPr/>
          <p:nvPr/>
        </p:nvPicPr>
        <p:blipFill>
          <a:blip r:embed="rId2"/>
          <a:stretch/>
        </p:blipFill>
        <p:spPr>
          <a:xfrm>
            <a:off x="5327640" y="2819520"/>
            <a:ext cx="3781440" cy="40384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2451960" y="4572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寻寻觅觅，只怨当初不努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5911920" y="1197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资本不足，怎么选择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752004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对于别人的选择，你有何感想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50920" y="2852640"/>
            <a:ext cx="849780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人生，是一场又一场的选择，你准备好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peedoSSi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考</a:t>
            </a:r>
            <a:r>
              <a:rPr b="1" lang="zh-CN" sz="4800" spc="-1" strike="noStrike">
                <a:solidFill>
                  <a:srgbClr val="ff0000"/>
                </a:solidFill>
                <a:latin typeface="SpeedoSSi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考的是家长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家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图片1"/>
          <p:cNvPicPr/>
          <p:nvPr/>
        </p:nvPicPr>
        <p:blipFill>
          <a:blip r:embed="rId1"/>
          <a:stretch/>
        </p:blipFill>
        <p:spPr>
          <a:xfrm>
            <a:off x="2050920" y="1940040"/>
            <a:ext cx="6769080" cy="4584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395280" y="1052640"/>
            <a:ext cx="7704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生的道路虽然很漫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紧要处常常只有几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别是当人年轻的时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没有一个人的生活道路是笔直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没有岔道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些岔道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如政治上的岔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业上的岔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人生活上的岔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走错一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影响人生的一个时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可以影响一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记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peedoSSi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考</a:t>
            </a:r>
            <a:r>
              <a:rPr b="1" lang="zh-CN" sz="4800" spc="-1" strike="noStrike">
                <a:solidFill>
                  <a:srgbClr val="ff0000"/>
                </a:solidFill>
                <a:latin typeface="SpeedoSSi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考的是家长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家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5" descr="秦皇岛：学生与家长高考第一天两种心态(组图)"/>
          <p:cNvPicPr/>
          <p:nvPr/>
        </p:nvPicPr>
        <p:blipFill>
          <a:blip r:embed="rId1"/>
          <a:stretch/>
        </p:blipFill>
        <p:spPr>
          <a:xfrm>
            <a:off x="2195640" y="1844640"/>
            <a:ext cx="6408720" cy="488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家长叮咛"/>
          <p:cNvPicPr/>
          <p:nvPr/>
        </p:nvPicPr>
        <p:blipFill>
          <a:blip r:embed="rId1"/>
          <a:stretch/>
        </p:blipFill>
        <p:spPr>
          <a:xfrm>
            <a:off x="0" y="1413000"/>
            <a:ext cx="4456080" cy="5400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家长送2"/>
          <p:cNvPicPr/>
          <p:nvPr/>
        </p:nvPicPr>
        <p:blipFill>
          <a:blip r:embed="rId2"/>
          <a:stretch/>
        </p:blipFill>
        <p:spPr>
          <a:xfrm>
            <a:off x="4429080" y="1414440"/>
            <a:ext cx="4680000" cy="54007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</a:rPr>
              <a:t>家长叮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7000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母亲目送孩子进考场"/>
          <p:cNvPicPr/>
          <p:nvPr/>
        </p:nvPicPr>
        <p:blipFill>
          <a:blip r:embed="rId1"/>
          <a:stretch/>
        </p:blipFill>
        <p:spPr>
          <a:xfrm>
            <a:off x="34920" y="1414440"/>
            <a:ext cx="4537080" cy="5443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家长送"/>
          <p:cNvPicPr/>
          <p:nvPr/>
        </p:nvPicPr>
        <p:blipFill>
          <a:blip r:embed="rId2"/>
          <a:stretch/>
        </p:blipFill>
        <p:spPr>
          <a:xfrm>
            <a:off x="4572000" y="1414440"/>
            <a:ext cx="4537080" cy="5445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眼神中是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6000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家长向考场张望"/>
          <p:cNvPicPr/>
          <p:nvPr/>
        </p:nvPicPr>
        <p:blipFill>
          <a:blip r:embed="rId1"/>
          <a:stretch/>
        </p:blipFill>
        <p:spPr>
          <a:xfrm>
            <a:off x="1440" y="1341360"/>
            <a:ext cx="4786560" cy="5475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翘首企盼的家长"/>
          <p:cNvPicPr/>
          <p:nvPr/>
        </p:nvPicPr>
        <p:blipFill>
          <a:blip r:embed="rId2"/>
          <a:stretch/>
        </p:blipFill>
        <p:spPr>
          <a:xfrm>
            <a:off x="4789440" y="1341360"/>
            <a:ext cx="4357800" cy="54723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急切的心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4000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等孩子"/>
          <p:cNvPicPr/>
          <p:nvPr/>
        </p:nvPicPr>
        <p:blipFill>
          <a:blip r:embed="rId1"/>
          <a:stretch/>
        </p:blipFill>
        <p:spPr>
          <a:xfrm>
            <a:off x="34920" y="1413000"/>
            <a:ext cx="4460760" cy="5400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雨中等"/>
          <p:cNvPicPr/>
          <p:nvPr/>
        </p:nvPicPr>
        <p:blipFill>
          <a:blip r:embed="rId2"/>
          <a:stretch/>
        </p:blipFill>
        <p:spPr>
          <a:xfrm>
            <a:off x="4500720" y="1413000"/>
            <a:ext cx="4608360" cy="5400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5000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家长在烈日下等待"/>
          <p:cNvPicPr/>
          <p:nvPr/>
        </p:nvPicPr>
        <p:blipFill>
          <a:blip r:embed="rId1"/>
          <a:stretch/>
        </p:blipFill>
        <p:spPr>
          <a:xfrm>
            <a:off x="36360" y="1413000"/>
            <a:ext cx="4824720" cy="5400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焦急等待"/>
          <p:cNvPicPr/>
          <p:nvPr/>
        </p:nvPicPr>
        <p:blipFill>
          <a:blip r:embed="rId2"/>
          <a:stretch/>
        </p:blipFill>
        <p:spPr>
          <a:xfrm>
            <a:off x="4861080" y="1414440"/>
            <a:ext cx="4248000" cy="54007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烈日下焦急等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7000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父亲送水"/>
          <p:cNvPicPr/>
          <p:nvPr/>
        </p:nvPicPr>
        <p:blipFill>
          <a:blip r:embed="rId1"/>
          <a:stretch/>
        </p:blipFill>
        <p:spPr>
          <a:xfrm>
            <a:off x="34920" y="1341360"/>
            <a:ext cx="4321080" cy="5472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家长照顾"/>
          <p:cNvPicPr/>
          <p:nvPr/>
        </p:nvPicPr>
        <p:blipFill>
          <a:blip r:embed="rId2"/>
          <a:stretch/>
        </p:blipFill>
        <p:spPr>
          <a:xfrm>
            <a:off x="4356000" y="1343160"/>
            <a:ext cx="4753080" cy="2446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母亲打伞"/>
          <p:cNvPicPr/>
          <p:nvPr/>
        </p:nvPicPr>
        <p:blipFill>
          <a:blip r:embed="rId3"/>
          <a:stretch/>
        </p:blipFill>
        <p:spPr>
          <a:xfrm>
            <a:off x="4357800" y="3789360"/>
            <a:ext cx="4752720" cy="30258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无微不至的关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6000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几分苦涩几分迷茫"/>
          <p:cNvPicPr/>
          <p:nvPr/>
        </p:nvPicPr>
        <p:blipFill>
          <a:blip r:embed="rId1"/>
          <a:stretch/>
        </p:blipFill>
        <p:spPr>
          <a:xfrm>
            <a:off x="0" y="1414440"/>
            <a:ext cx="9110520" cy="54007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几分苦涩，几分迷茫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5000"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考场内外几家欢笑几家愁，有人一脸严肃有人笑容灿烂"/>
          <p:cNvPicPr/>
          <p:nvPr/>
        </p:nvPicPr>
        <p:blipFill>
          <a:blip r:embed="rId1"/>
          <a:stretch/>
        </p:blipFill>
        <p:spPr>
          <a:xfrm>
            <a:off x="36360" y="1414440"/>
            <a:ext cx="8856720" cy="5400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885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有人一脸严肃，有人笑容灿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5000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高中是快乐，是享受，不是活受罪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乐观面对，永不言弃，不管怎么考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冷静看待竞争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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细化过程，淡化结果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想：明年落榜怎办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想：这个题目怎解？有几解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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以后留点深刻的印象：摸爬滚打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411280" y="333360"/>
            <a:ext cx="395928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主任的赠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我们年轻，我们有青春的激昂；我们向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海阔凭鱼跃，天高任鸟飞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的所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那么，一路风雨走过来，应该有所选择，有所放弃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539640" y="1557360"/>
            <a:ext cx="7467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中就是一次对自己身体、心理、意志品质的全面考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中意味了成长，成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64072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高一年级：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基础薄弱者的</a:t>
            </a:r>
            <a:r>
              <a:rPr b="0" lang="zh-CN" sz="6600" spc="-1" strike="noStrike">
                <a:solidFill>
                  <a:srgbClr val="ff0000"/>
                </a:solidFill>
                <a:latin typeface="华文琥珀"/>
                <a:ea typeface="华文琥珀"/>
              </a:rPr>
              <a:t>机会</a:t>
            </a: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黑体"/>
              </a:rPr>
              <a:t>我要成功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黑体"/>
              </a:rPr>
              <a:t>我能成功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黑体"/>
              </a:rPr>
              <a:t>我肯定会成功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6659640" y="292428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7524720" y="292428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银装素裹2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82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371600" y="5181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如果你不知道你的方向，你就永远不可能到达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忘了我自己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8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1835280" y="522936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生命会把我们所要求的给予我们。如果你的要求很模糊，你所得到的也会很模糊。如果你只要求一点点，你就会得到一点点。但不要惊讶你只得到一点点，毕竟，那就是你所要求的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未命名4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676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1371600" y="5181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只有对心灵力量有信心的人，才能达到成功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红玫瑰2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67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295280" y="51814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每一个考验，每一个问题，每一个错误，有一天都会变成美丽的玫瑰花瓣，就像枝干上都是刺，痛苦会导向光明，使你看见美丽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未命名2"/>
          <p:cNvPicPr/>
          <p:nvPr/>
        </p:nvPicPr>
        <p:blipFill>
          <a:blip r:embed="rId1"/>
          <a:stretch/>
        </p:blipFill>
        <p:spPr>
          <a:xfrm>
            <a:off x="1452600" y="457200"/>
            <a:ext cx="6237360" cy="4676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1330200" y="51814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专注是生活中所有成功的关键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群峰云海"/>
          <p:cNvPicPr/>
          <p:nvPr/>
        </p:nvPicPr>
        <p:blipFill>
          <a:blip r:embed="rId1"/>
          <a:stretch/>
        </p:blipFill>
        <p:spPr>
          <a:xfrm>
            <a:off x="1452600" y="457200"/>
            <a:ext cx="6237360" cy="46782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"/>
          <p:cNvSpPr/>
          <p:nvPr/>
        </p:nvSpPr>
        <p:spPr>
          <a:xfrm>
            <a:off x="1619280" y="52419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永远要记住，在某个高度之上，就没有风雨云层。如果你生命中的云层遮蔽了阳光，那是因为你的心灵飞得还不够高。大多数人所犯的错误是去抗拒问题，他们努力试图消灭云层。正确的做法是发现使你上升到云层之上的途径，那里的天空永远是碧蓝的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1890720" y="1260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3" descr="21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WordArt 4"/>
          <p:cNvSpPr txBox="1"/>
          <p:nvPr/>
        </p:nvSpPr>
        <p:spPr>
          <a:xfrm>
            <a:off x="1258920" y="692280"/>
            <a:ext cx="67816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宋体"/>
              </a:rPr>
              <a:t>让我们荡起双浆</a:t>
            </a:r>
            <a:endParaRPr b="1" lang="en-US" sz="36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宋体"/>
              <a:ea typeface="宋体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中是什么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050920" y="1916280"/>
            <a:ext cx="684216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高中是人生的转折，是紧张的，充实的，是富有挑战性的，也是一个人坚强的毅力和顽强生命力的形成的重要阶段，也是一生中最美好的回忆阶段，因为她是成功与挫折，喜悦与悲伤的混合体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770760" y="2781360"/>
            <a:ext cx="789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53262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思考、讨论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mic Sans MS"/>
                <a:ea typeface="黑体"/>
              </a:rPr>
              <a:t>怎么度过？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mic Sans MS"/>
                <a:ea typeface="黑体"/>
              </a:rPr>
              <a:t>心理准备？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mic Sans MS"/>
                <a:ea typeface="黑体"/>
              </a:rPr>
              <a:t>身体准备？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738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Comic Sans MS"/>
                <a:ea typeface="华文行楷"/>
              </a:rPr>
              <a:t>高中的道路是不平坦的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谁要是怕走这崎岖的山道，谁就只好留在山下</a:t>
            </a:r>
            <a:r>
              <a:rPr b="0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04920" y="5181480"/>
            <a:ext cx="287964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179280" y="18900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有人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成绩差，我没有谈及大学的资格，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 于是，你颓废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你错了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因为你不是没有这样的资格，而是你过早的将这种资格给放弃了。仔细回想，小学你没有优秀过吗？初中你没有担任过班长吗？某一科成绩你没有拿过前几名吗？有的，当然有！想一想，你是哪一天开始学会的偷懒，哪一天学会了说谎，哪一天上课走神，又是哪一天放弃了学业？那么你今天还要继续吗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知道，你已没有退路，只要前进的勇气，就是进步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勇气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毅力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成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即便进步不多，那也是成功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7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3124080" y="5638680"/>
            <a:ext cx="2880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179280" y="1159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有人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居于中游，前边的人成绩太好了，我超不过了。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于是，你沮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你错了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因为你你没有乐观的面对自己，在你后面有很多人崇拜你，就像你崇拜你前面的人一样。殊不知，他们也梦想能达到你的水平。所以你不要忽略了自己榜样的力量。其次，你前面确实有许多人，你也不晓得，他们中有多少人在担心， 担心像你这样的厚积薄发者会超过他们。在他们的世界里也不尽是骄傲与坦然，也有惊恐与不安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知道，你前有劲敌，后有效仿。你只有坚信自己榜样的力量，又同时怀揣着一个让高手惊恐的决心，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信心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决心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成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即便稍有意外，等待你的也将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成功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7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3851280" y="5229360"/>
            <a:ext cx="288144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287280" y="260280"/>
            <a:ext cx="86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有人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成绩现在可以，但是我怕退步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于是，你焦虑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你错了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因为你不知道有多少人羡慕你这种焦虑，因为他们也梦想能站在你这样的高位，哪怕一次也好，至少证明过。如果这次名次下降了，那就大方的表示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暂借给他们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下次再拿回来，因为别人也在进步，只要你问心无愧；如果不想失去，那就凭尽全力，做出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誓死保卫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而且坚信自己，记住，狭路相逢，勇者胜；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知道，你也没有退路，你前有理想，后有劲敌，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坚持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自信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成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。即便再差，也应该是本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7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181440" y="2492280"/>
            <a:ext cx="9325080" cy="14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Comic Sans MS"/>
                <a:ea typeface="华文琥珀"/>
              </a:rPr>
              <a:t>把握生命里的每一分钟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Comic Sans MS"/>
                <a:ea typeface="华文琥珀"/>
              </a:rPr>
              <a:t>全力以赴我们心中的梦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Comic Sans MS"/>
                <a:ea typeface="华文琥珀"/>
              </a:rPr>
              <a:t>不经历风雨怎么见彩虹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Comic Sans MS"/>
                <a:ea typeface="华文琥珀"/>
              </a:rPr>
              <a:t>没有人能随随遍遍成功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427640" y="429264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香港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0" lang="zh-CN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成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3348000" y="479736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华文琥珀"/>
              </a:rPr>
              <a:t>赢在高一起跑线</a:t>
            </a:r>
            <a:br>
              <a:rPr sz="6000"/>
            </a:br>
            <a:br>
              <a:rPr sz="6000"/>
            </a:b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火热的六月已走进我们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必将点燃青春的激情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送走高三的师兄姐师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我们迎来了生命的黄金岁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40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一时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遇和挑战并存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收获与失落 同在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特别的日子送给特别的你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378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壮志凌云 豪情万丈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心驰神往 斗志昂扬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跃跃欲试 摩拳擦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养精蓄锐 积蓄力量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也许我走得慢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但我决不会停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可能会输给现在的你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但我战胜了昨天的自己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如果挥别昨日是新的开始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那把握今天就将创造新的奇迹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在高一的起跑线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心潮澎湃 感慨万千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何物动人 二月杏花八月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谁摧我 三更灯火五更鸡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招聘启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47640" y="1658880"/>
            <a:ext cx="7417080" cy="37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银行招聘公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应聘条件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１．具有良好的思想道德修养和强烈的事业心、责任心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２．身体健康，能胜任正常工作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３．品行端正，无不良行为记录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４．服从工作分配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５．具备以下条件中的任意一条：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１）全国“２１１工程”学校２００９年全日制应届本科及以上毕业生，专业不限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（２）山东财政学院、山东经济学院、山东师范大学、青岛大学、济南大学、曲阜师范大学、山东农业大学、山东科技大学八所院校的２００９年全日制应届本科及以上毕业生，专业限定为：金融、财会、经济管理、计算机、文秘、法律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备注：上述院校的毕业生必须是本科二批（含）及以上的录取批次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不包括专升本毕业生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28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我们播种梦想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我们挖掘潜能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我们挥洒汗水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我们追逐成功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2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这就是勇敢者的游戏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就是奋斗者的步履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也必将是成功者的足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仰天大笑出门去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我辈岂是蓬蒿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问句天多高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心中斗志比天高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自信永不输的心态活到老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凭激情爬高中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借汗水染青春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待到金榜题名时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你在榜上笑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中应如何渡过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907640" y="2276280"/>
            <a:ext cx="6627960" cy="18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人的潜能是无限的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你有多大目标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就会有多大收获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9600" y="242100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中应如何渡过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050920" y="2708280"/>
            <a:ext cx="6408720" cy="24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我们要</a:t>
            </a: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全力以赴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绝不能尽力而为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要做行动的巨人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高中应如何渡过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759600" y="1484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6" descr="10195707867_500X667"/>
          <p:cNvPicPr/>
          <p:nvPr/>
        </p:nvPicPr>
        <p:blipFill>
          <a:blip r:embed="rId1"/>
          <a:stretch/>
        </p:blipFill>
        <p:spPr>
          <a:xfrm>
            <a:off x="1908000" y="1052640"/>
            <a:ext cx="3103560" cy="3671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292360" y="1268280"/>
            <a:ext cx="3529080" cy="36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大爷，你别看我年龄小，其实我总结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高中可短暂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和睡觉是一样一样的。眼一闭一睁大一就到了，嗯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1476360" y="5300640"/>
            <a:ext cx="76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不论你的行动是不是现在开始的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重要的是开始以后就不要停止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中应如何渡过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2843280" y="2637000"/>
            <a:ext cx="55450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决杜绝“三闲” 现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闲聊、 闲玩、闲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闲来闲去失前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中应如何渡过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2195640" y="2421000"/>
            <a:ext cx="64087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克服不了的困难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过不去的火焰山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荡平不了的荆棘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中应如何渡过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2195640" y="2205000"/>
            <a:ext cx="640872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榜样学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容面对挫折和伤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满怀激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定的朝着自己的目标前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http://hiphotos.baidu.com/songsongspace/pic/item/ef2738efe108e9f4cf1b3e4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誓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84360" y="1701360"/>
            <a:ext cx="410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脚踏实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奋力拼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敢立壮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坚守目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亮剑高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我要成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-210960" y="-14400"/>
            <a:ext cx="1033560" cy="68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志者事竟成，卧薪尝胆三千越甲可吞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8321760" y="0"/>
            <a:ext cx="103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心人天不负，破釜沉舟百二秦关终属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830880" y="206064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5" descr="01"/>
          <p:cNvPicPr/>
          <p:nvPr/>
        </p:nvPicPr>
        <p:blipFill>
          <a:blip r:embed="rId1"/>
          <a:stretch/>
        </p:blipFill>
        <p:spPr>
          <a:xfrm>
            <a:off x="2124000" y="1341360"/>
            <a:ext cx="6120000" cy="513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1165320" y="284040"/>
          <a:ext cx="7543800" cy="6494760"/>
        </p:xfrm>
        <a:graphic>
          <a:graphicData uri="http://schemas.openxmlformats.org/drawingml/2006/table">
            <a:tbl>
              <a:tblPr/>
              <a:tblGrid>
                <a:gridCol w="1676160"/>
                <a:gridCol w="914400"/>
                <a:gridCol w="914400"/>
                <a:gridCol w="990720"/>
                <a:gridCol w="914400"/>
                <a:gridCol w="990720"/>
                <a:gridCol w="1143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调查项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影响很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影响较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影响中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影响较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影响很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重要性排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考场心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考前心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学习方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学习基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学习态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努力学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临场发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复习方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思维能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自学能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omic Sans MS"/>
                          <a:ea typeface="黑体"/>
                        </a:rPr>
                        <a:t>老师指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父母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考试策略技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班级学习氛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想象能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记忆能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考前营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考试居住环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同学帮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身体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Rectangle 182"/>
          <p:cNvSpPr/>
          <p:nvPr/>
        </p:nvSpPr>
        <p:spPr>
          <a:xfrm>
            <a:off x="250920" y="404640"/>
            <a:ext cx="609480" cy="5562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[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１１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3"/>
          <p:cNvSpPr/>
          <p:nvPr/>
        </p:nvSpPr>
        <p:spPr>
          <a:xfrm>
            <a:off x="1981080" y="6922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我们的一生中，有很多事物是值得我们去珍惜和认真对待的，请仔细看下面五种事物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楷体_GB2312"/>
              </a:rPr>
              <a:t>爱情、亲情、友谊、理想、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0" y="3716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在请同学们拿出纸和笔，在这五种事物中，迅速划去一个你认为不是很重要的事物，注意你只有一次选择的机会，不可以后悔。以此类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50920" y="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互动环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029200" y="2667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最后我们来看看结果。大部分同学留下来的也许都是时间，因为只要还有时间，我们就有希望去获取其他四样我们认为重要的事物。可是现实却是最残酷的，我们恰恰最留不住的就是－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3" descr="20060429120342324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u=4014694299,487499785&amp;gp=0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3"/>
          <p:cNvSpPr/>
          <p:nvPr/>
        </p:nvSpPr>
        <p:spPr>
          <a:xfrm>
            <a:off x="304920" y="12952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一分钟时间给你们，仔细回想一下，你最初希望用这半个学期的时间做什么？最后你用这些时间做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谁偷走了我们的时间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547640" y="58770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懒惰、拖拉、半途而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D000"/>
          <p:cNvPicPr/>
          <p:nvPr/>
        </p:nvPicPr>
        <p:blipFill>
          <a:blip r:embed="rId1"/>
          <a:stretch/>
        </p:blipFill>
        <p:spPr>
          <a:xfrm>
            <a:off x="0" y="228600"/>
            <a:ext cx="8964720" cy="64008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1447920" y="762120"/>
            <a:ext cx="4924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就是这样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只好那样做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是不会同意那样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该多好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没办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把我气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1295280" y="1752480"/>
            <a:ext cx="0" cy="2667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-72000" y="1295280"/>
            <a:ext cx="1399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消极被动的语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" descr="按钮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388800" cy="38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684360" y="115920"/>
            <a:ext cx="7561080" cy="5329080"/>
            <a:chOff x="684360" y="115920"/>
            <a:chExt cx="7561080" cy="5329080"/>
          </a:xfrm>
        </p:grpSpPr>
        <p:sp>
          <p:nvSpPr>
            <p:cNvPr id="412" name="AutoShape 3"/>
            <p:cNvSpPr/>
            <p:nvPr/>
          </p:nvSpPr>
          <p:spPr>
            <a:xfrm>
              <a:off x="684360" y="115920"/>
              <a:ext cx="7561080" cy="5329080"/>
            </a:xfrm>
            <a:prstGeom prst="pi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4"/>
            <p:cNvSpPr/>
            <p:nvPr/>
          </p:nvSpPr>
          <p:spPr>
            <a:xfrm>
              <a:off x="1763640" y="3932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5"/>
            <p:cNvSpPr/>
            <p:nvPr/>
          </p:nvSpPr>
          <p:spPr>
            <a:xfrm>
              <a:off x="1332000" y="33638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6"/>
            <p:cNvSpPr/>
            <p:nvPr/>
          </p:nvSpPr>
          <p:spPr>
            <a:xfrm>
              <a:off x="900000" y="270828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自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7"/>
            <p:cNvSpPr/>
            <p:nvPr/>
          </p:nvSpPr>
          <p:spPr>
            <a:xfrm>
              <a:off x="1042920" y="20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或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8"/>
            <p:cNvSpPr/>
            <p:nvPr/>
          </p:nvSpPr>
          <p:spPr>
            <a:xfrm>
              <a:off x="1332000" y="14191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9"/>
            <p:cNvSpPr/>
            <p:nvPr/>
          </p:nvSpPr>
          <p:spPr>
            <a:xfrm>
              <a:off x="2484360" y="62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10"/>
            <p:cNvSpPr/>
            <p:nvPr/>
          </p:nvSpPr>
          <p:spPr>
            <a:xfrm>
              <a:off x="3059280" y="47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3780000" y="40464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12"/>
            <p:cNvSpPr/>
            <p:nvPr/>
          </p:nvSpPr>
          <p:spPr>
            <a:xfrm>
              <a:off x="4572000" y="4111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5364000" y="6271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5940360" y="9079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6516720" y="1268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6948360" y="1700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730872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18"/>
            <p:cNvSpPr/>
            <p:nvPr/>
          </p:nvSpPr>
          <p:spPr>
            <a:xfrm>
              <a:off x="7236000" y="285912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9"/>
            <p:cNvSpPr/>
            <p:nvPr/>
          </p:nvSpPr>
          <p:spPr>
            <a:xfrm>
              <a:off x="7093080" y="3500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20"/>
            <p:cNvSpPr/>
            <p:nvPr/>
          </p:nvSpPr>
          <p:spPr>
            <a:xfrm>
              <a:off x="1835280" y="8431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21"/>
            <p:cNvSpPr/>
            <p:nvPr/>
          </p:nvSpPr>
          <p:spPr>
            <a:xfrm>
              <a:off x="6948360" y="3932280"/>
              <a:ext cx="93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66"/>
                  </a:solidFill>
                  <a:latin typeface="Times New Roman"/>
                </a:rPr>
                <a:t>！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WordArt 22"/>
          <p:cNvSpPr txBox="1"/>
          <p:nvPr/>
        </p:nvSpPr>
        <p:spPr>
          <a:xfrm>
            <a:off x="762120" y="3886200"/>
            <a:ext cx="7848360" cy="23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埋怨如毒瘤，制约着我们的发展！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32" name="WordArt 23"/>
          <p:cNvSpPr txBox="1"/>
          <p:nvPr/>
        </p:nvSpPr>
        <p:spPr>
          <a:xfrm rot="493800">
            <a:off x="2773080" y="1915920"/>
            <a:ext cx="33112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4368000"/>
                </a:gradFill>
                <a:latin typeface="宋体"/>
              </a:rPr>
              <a:t>埋怨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4368000"/>
              </a:gra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152280" y="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埋怨自己生不逢时，社会竞争太激烈，心理压力太大，没有宽松的学习环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79280" y="114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埋怨父母对自己不理解，期望值过高，也不能给自己什么具体的指导和帮助，或者认为父母素质太低，不能以身作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埋怨老师对自己太苛求，学习负担过重；埋怨老师教学方法死板，不合自己口味，学习生活枯燥单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066680" y="47242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…… 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304920" y="5410080"/>
            <a:ext cx="826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些埋怨的共同点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zh-CN" sz="3600" spc="-1" strike="noStrike">
                <a:solidFill>
                  <a:srgbClr val="ff33cc"/>
                </a:solidFill>
                <a:latin typeface="Times New Roman"/>
              </a:rPr>
              <a:t>将不好的行为归因于外部环境，为自己推卸应负的责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533520" y="4343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埋怨是责任感薄弱的表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0WK23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40" name="WordArt 3"/>
          <p:cNvSpPr txBox="1"/>
          <p:nvPr/>
        </p:nvSpPr>
        <p:spPr>
          <a:xfrm>
            <a:off x="1905120" y="0"/>
            <a:ext cx="4647960" cy="13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25560">
                  <a:solidFill>
                    <a:srgbClr val="00cc66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做一个有责任感的人</a:t>
            </a:r>
            <a:endParaRPr b="1" lang="en-US" sz="3600" spc="1" strike="noStrike">
              <a:ln w="25560">
                <a:solidFill>
                  <a:srgbClr val="00cc66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1371600" y="190512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改变自己的语言习惯，多说积极主动的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1295280" y="3276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改变自己的归因方式，不要抱怨无能为力的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icture 6" descr="feas197"/>
          <p:cNvPicPr/>
          <p:nvPr/>
        </p:nvPicPr>
        <p:blipFill>
          <a:blip r:embed="rId2"/>
          <a:stretch/>
        </p:blipFill>
        <p:spPr>
          <a:xfrm>
            <a:off x="609480" y="17524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feas197"/>
          <p:cNvPicPr/>
          <p:nvPr/>
        </p:nvPicPr>
        <p:blipFill>
          <a:blip r:embed="rId3"/>
          <a:stretch/>
        </p:blipFill>
        <p:spPr>
          <a:xfrm>
            <a:off x="457200" y="403848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684036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200"/>
                </a:solidFill>
                <a:latin typeface="Comic Sans MS"/>
              </a:rPr>
              <a:t>所以，我说，高中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WordArt 3"/>
          <p:cNvSpPr txBox="1"/>
          <p:nvPr/>
        </p:nvSpPr>
        <p:spPr>
          <a:xfrm>
            <a:off x="-1332000" y="328464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</a:t>
            </a:r>
            <a:r>
              <a:rPr b="0" lang="zh-CN" sz="36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心态</a:t>
            </a:r>
            <a:endParaRPr b="0" lang="en-US" sz="3600" spc="1" strike="noStrike">
              <a:ln w="19080">
                <a:solidFill>
                  <a:srgbClr val="cc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3419640" y="3284640"/>
            <a:ext cx="208908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决 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WordArt 5"/>
          <p:cNvSpPr txBox="1"/>
          <p:nvPr/>
        </p:nvSpPr>
        <p:spPr>
          <a:xfrm>
            <a:off x="5796000" y="321300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成功</a:t>
            </a:r>
            <a:endParaRPr b="0" lang="en-US" sz="3600" spc="1" strike="noStrike">
              <a:ln w="19080">
                <a:solidFill>
                  <a:srgbClr val="cc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23888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>
              <a:lnSpc>
                <a:spcPct val="80000"/>
              </a:lnSpc>
              <a:spcBef>
                <a:spcPts val="901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行楷"/>
              </a:rPr>
              <a:t>祝大家笑到最后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>
              <a:lnSpc>
                <a:spcPct val="80000"/>
              </a:lnSpc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cript MT Bold"/>
                <a:ea typeface="华文行楷"/>
              </a:rPr>
              <a:t>期待着高中的辉煌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547640" y="148428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327600" y="213372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5" descr="03"/>
          <p:cNvPicPr/>
          <p:nvPr/>
        </p:nvPicPr>
        <p:blipFill>
          <a:blip r:embed="rId1"/>
          <a:srcRect l="0" t="0" r="0" b="3619"/>
          <a:stretch/>
        </p:blipFill>
        <p:spPr>
          <a:xfrm>
            <a:off x="1116000" y="1628640"/>
            <a:ext cx="7596360" cy="482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WordArt 2"/>
          <p:cNvSpPr txBox="1"/>
          <p:nvPr/>
        </p:nvSpPr>
        <p:spPr>
          <a:xfrm>
            <a:off x="901800" y="1197000"/>
            <a:ext cx="7416720" cy="42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知识改变命运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高考决定未来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51000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66560" y="404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800" spc="-1" strike="noStrike">
                <a:solidFill>
                  <a:srgbClr val="0000ff"/>
                </a:solidFill>
                <a:latin typeface="Tahoma"/>
                <a:ea typeface="隶书"/>
              </a:rPr>
              <a:t>老师、家长</a:t>
            </a:r>
            <a:endParaRPr b="0" lang="en-US" sz="98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800" spc="-1" strike="noStrike">
                <a:solidFill>
                  <a:srgbClr val="ffffff"/>
                </a:solidFill>
                <a:latin typeface="Tahoma"/>
                <a:ea typeface="隶书"/>
              </a:rPr>
              <a:t>共同期待着</a:t>
            </a:r>
            <a:endParaRPr b="0" lang="en-US" sz="98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spcBef>
                <a:spcPts val="36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800" spc="-1" strike="noStrike" u="sng">
                <a:solidFill>
                  <a:srgbClr val="ccccff"/>
                </a:solidFill>
                <a:uFillTx/>
                <a:latin typeface="Tahoma"/>
                <a:ea typeface="隶书"/>
                <a:hlinkClick r:id="rId1"/>
              </a:rPr>
              <a:t>你的奇迹</a:t>
            </a:r>
            <a:endParaRPr b="0" lang="en-US" sz="1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332000" y="2492280"/>
            <a:ext cx="6696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中学班主任班会课件、教案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http://shop62905894.taobao.com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QQ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16011528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5" descr="05"/>
          <p:cNvPicPr/>
          <p:nvPr/>
        </p:nvPicPr>
        <p:blipFill>
          <a:blip r:embed="rId1"/>
          <a:srcRect l="0" t="0" r="0" b="4310"/>
          <a:stretch/>
        </p:blipFill>
        <p:spPr>
          <a:xfrm>
            <a:off x="1763640" y="1628640"/>
            <a:ext cx="7056360" cy="489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5" descr="04"/>
          <p:cNvPicPr/>
          <p:nvPr/>
        </p:nvPicPr>
        <p:blipFill>
          <a:blip r:embed="rId1"/>
          <a:srcRect l="0" t="0" r="0" b="4760"/>
          <a:stretch/>
        </p:blipFill>
        <p:spPr>
          <a:xfrm>
            <a:off x="1692360" y="1773360"/>
            <a:ext cx="7219800" cy="4895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2:31:44Z</dcterms:created>
  <dc:creator>www</dc:creator>
  <dc:description/>
  <dc:language>en-US</dc:language>
  <cp:lastModifiedBy>lenovo</cp:lastModifiedBy>
  <dcterms:modified xsi:type="dcterms:W3CDTF">2013-09-01T10:47:27Z</dcterms:modified>
  <cp:revision>284</cp:revision>
  <dc:subject/>
  <dc:title>PowerPoint 演示文稿</dc:title>
</cp:coreProperties>
</file>