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1F5F-ADFD-4B6A-95CD-AD7458E2E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45A8-9AFA-467F-A260-EFC3BFFE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B39A-DF67-4CE9-B064-D69F9EEA0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332E-A871-4E5B-A646-0AC66D277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402D-CB7B-488D-A48E-FD4D6D0A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FE67-A926-4A78-B231-DE4C24CA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2367-7486-4F7E-AF37-ECB268CE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9441-F0DA-4E69-BC6E-150233CB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8583-09D2-497F-ADBD-C9107026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6D89-FA13-48DC-A3CE-7EA26FCC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82AC-FCFF-4CCC-B5F5-D6D619E1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2216-D98E-4E75-A127-25016C0F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A13F-6C84-4B81-BF9E-E9C0A8E9D6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35270;&#39057;/%5B&#23376;&#21320;&#20070;&#31616;%5D&#39640;&#32771;_&#36825;&#26159;&#19968;&#20010;&#22278;.wmv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35270;&#39057;/&#19968;&#20999;&#30342;&#26377;&#21487;&#33021;11.flv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8839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楷体_GB2312"/>
              </a:rPr>
              <a:t>高考</a:t>
            </a:r>
            <a:br>
              <a:rPr sz="8000"/>
            </a:br>
            <a:br>
              <a:rPr sz="8000"/>
            </a:b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楷体_GB2312"/>
              </a:rPr>
              <a:t>是我们圆梦的舞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cc00"/>
                </a:solidFill>
                <a:latin typeface="Arial"/>
              </a:rPr>
              <a:t>让我们在此庄严宣誓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9372600" cy="70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2811600"/>
            <a:ext cx="7620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自信创造奇迹，拼搏书写神话。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知识改变命运，现在决定未来。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我自信，我出色；我努力，我成功。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脚踏实地山让路，持之以恒海可移。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走进教室，满怀信心；走出教室，意气风发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信心百倍</a:t>
            </a:r>
            <a:r>
              <a:rPr b="1" lang="zh-CN" sz="1800" spc="-1" strike="noStrike">
                <a:solidFill>
                  <a:srgbClr val="000000"/>
                </a:solidFill>
                <a:latin typeface="Arial Black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斗志昂扬</a:t>
            </a:r>
            <a:r>
              <a:rPr b="1" lang="zh-CN" sz="1800" spc="-1" strike="noStrike">
                <a:solidFill>
                  <a:srgbClr val="000000"/>
                </a:solidFill>
                <a:latin typeface="Arial Black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全力以赴</a:t>
            </a:r>
            <a:r>
              <a:rPr b="1" lang="zh-CN" sz="1800" spc="-1" strike="noStrike">
                <a:solidFill>
                  <a:srgbClr val="000000"/>
                </a:solidFill>
                <a:latin typeface="Arial Black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铸我辉煌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67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67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67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67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981080" y="609480"/>
            <a:ext cx="5715000" cy="62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 u="sng">
                <a:solidFill>
                  <a:srgbClr val="009999"/>
                </a:solidFill>
                <a:uFillTx/>
                <a:latin typeface="Arial"/>
                <a:ea typeface="华文行楷"/>
                <a:hlinkClick r:id="rId1"/>
              </a:rPr>
              <a:t>为了梦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TextBox 3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9753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91720" y="763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也许我们年少轻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1720" y="6271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也许我们曾经失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76400" y="12034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也许我们偶尔彷徨迷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59200" y="2367000"/>
            <a:ext cx="322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f20e2"/>
                </a:solidFill>
                <a:latin typeface="Times New Roman"/>
              </a:rPr>
              <a:t>………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07840" y="3124080"/>
            <a:ext cx="221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f20e2"/>
                </a:solidFill>
                <a:latin typeface="Times New Roman"/>
              </a:rPr>
              <a:t>…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59200" y="4114800"/>
            <a:ext cx="322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f20e2"/>
                </a:solidFill>
                <a:latin typeface="Times New Roman"/>
              </a:rPr>
              <a:t>………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7840" y="5178600"/>
            <a:ext cx="221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f20e2"/>
                </a:solidFill>
                <a:latin typeface="Times New Roman"/>
              </a:rPr>
              <a:t>…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5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7000"/>
                            </p:stCondLst>
                            <p:childTnLst>
                              <p:par>
                                <p:cTn id="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7500"/>
                            </p:stCondLst>
                            <p:childTnLst>
                              <p:par>
                                <p:cTn id="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8000"/>
                            </p:stCondLst>
                            <p:childTnLst>
                              <p:par>
                                <p:cTn id="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52480" y="1143000"/>
            <a:ext cx="6248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一切皆有可能！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52480" y="2286000"/>
            <a:ext cx="3810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从改变自己开始！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00200" y="3429000"/>
            <a:ext cx="487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只要功夫深，铁杵磨成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27000" y="1411560"/>
            <a:ext cx="511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37960"/>
                <a:tab algn="l" pos="476280"/>
                <a:tab algn="l" pos="332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华文行楷"/>
              </a:rPr>
              <a:t>让我们面对苍天大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37960"/>
                <a:tab algn="l" pos="476280"/>
                <a:tab algn="l" pos="332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37960"/>
                <a:tab algn="l" pos="476280"/>
                <a:tab algn="l" pos="332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华文行楷"/>
              </a:rPr>
              <a:t>大声喊出我的梦想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28584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5640" y="333360"/>
            <a:ext cx="756144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决 战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2009</a:t>
            </a: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年高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考出水平  考出理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24000" y="476280"/>
            <a:ext cx="94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0" algn="ctr">
              <a:lnSpc>
                <a:spcPct val="10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0" lang="zh-CN" sz="6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同样的</a:t>
            </a:r>
            <a:r>
              <a:rPr b="0" lang="zh-CN" sz="6200" spc="-1" strike="noStrike">
                <a:solidFill>
                  <a:srgbClr val="ffcc00"/>
                </a:solidFill>
                <a:latin typeface="华文行楷"/>
                <a:ea typeface="华文行楷"/>
              </a:rPr>
              <a:t>梦想</a:t>
            </a:r>
            <a:r>
              <a:rPr b="0" lang="zh-CN" sz="6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同样的</a:t>
            </a:r>
            <a:r>
              <a:rPr b="0" lang="zh-CN" sz="6200" spc="-1" strike="noStrike">
                <a:solidFill>
                  <a:srgbClr val="ffcc00"/>
                </a:solidFill>
                <a:latin typeface="华文行楷"/>
                <a:ea typeface="华文行楷"/>
              </a:rPr>
              <a:t>渴望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同样的</a:t>
            </a:r>
            <a:r>
              <a:rPr b="0" lang="zh-CN" sz="6000" spc="-1" strike="noStrike">
                <a:solidFill>
                  <a:srgbClr val="ffcc00"/>
                </a:solidFill>
                <a:latin typeface="华文行楷"/>
                <a:ea typeface="华文行楷"/>
              </a:rPr>
              <a:t>努力</a:t>
            </a: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同样的</a:t>
            </a:r>
            <a:r>
              <a:rPr b="0" lang="zh-CN" sz="6000" spc="-1" strike="noStrike">
                <a:solidFill>
                  <a:srgbClr val="ffcc00"/>
                </a:solidFill>
                <a:latin typeface="华文行楷"/>
                <a:ea typeface="华文行楷"/>
              </a:rPr>
              <a:t>竞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同样的</a:t>
            </a:r>
            <a:r>
              <a:rPr b="0" lang="zh-CN" sz="6000" spc="-1" strike="noStrike">
                <a:solidFill>
                  <a:srgbClr val="ffcc00"/>
                </a:solidFill>
                <a:latin typeface="华文行楷"/>
                <a:ea typeface="华文行楷"/>
              </a:rPr>
              <a:t>环境</a:t>
            </a: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同样的</a:t>
            </a:r>
            <a:r>
              <a:rPr b="0" lang="zh-CN" sz="6000" spc="-1" strike="noStrike">
                <a:solidFill>
                  <a:srgbClr val="ffcc00"/>
                </a:solidFill>
                <a:latin typeface="华文行楷"/>
                <a:ea typeface="华文行楷"/>
              </a:rPr>
              <a:t>起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同样的</a:t>
            </a:r>
            <a:r>
              <a:rPr b="0" lang="zh-CN" sz="6000" spc="-1" strike="noStrike">
                <a:solidFill>
                  <a:srgbClr val="ffcc00"/>
                </a:solidFill>
                <a:latin typeface="华文行楷"/>
                <a:ea typeface="华文行楷"/>
              </a:rPr>
              <a:t>知识</a:t>
            </a: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同样的</a:t>
            </a:r>
            <a:r>
              <a:rPr b="0" lang="zh-CN" sz="6000" spc="-1" strike="noStrike">
                <a:solidFill>
                  <a:srgbClr val="ffcc00"/>
                </a:solidFill>
                <a:latin typeface="华文行楷"/>
                <a:ea typeface="华文行楷"/>
              </a:rPr>
              <a:t>老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27280" y="522936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d2f1f"/>
                </a:solidFill>
                <a:latin typeface="Arial"/>
              </a:rPr>
              <a:t>我们该怎么做？？？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只有比别人（对手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336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00"/>
                </a:solidFill>
                <a:latin typeface="华文行楷"/>
                <a:ea typeface="华文行楷"/>
              </a:rPr>
              <a:t>少想家 少分心 少违纪 少请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433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才不会被别人落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33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只有比对手（别人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336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00"/>
                </a:solidFill>
                <a:latin typeface="华文行楷"/>
                <a:ea typeface="华文行楷"/>
              </a:rPr>
              <a:t>更付出 更努力 更坚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4336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00"/>
                </a:solidFill>
                <a:latin typeface="华文行楷"/>
                <a:ea typeface="华文行楷"/>
              </a:rPr>
              <a:t>更能持之以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433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才可能会超过别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33000" y="549000"/>
            <a:ext cx="67093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37960"/>
                <a:tab algn="l" pos="47628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让我们一起</a:t>
            </a:r>
            <a:r>
              <a:rPr b="0" lang="zh-CN" sz="8000" spc="-1" strike="noStrike">
                <a:solidFill>
                  <a:srgbClr val="fd2f1f"/>
                </a:solidFill>
                <a:latin typeface="华文行楷"/>
                <a:ea typeface="华文行楷"/>
              </a:rPr>
              <a:t>努力</a:t>
            </a:r>
            <a:r>
              <a:rPr b="0" lang="zh-CN" sz="8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吧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7960"/>
                <a:tab algn="l" pos="47628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7960"/>
                <a:tab algn="l" pos="47628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为了</a:t>
            </a:r>
            <a:r>
              <a:rPr b="0" lang="zh-CN" sz="8000" spc="-1" strike="noStrike">
                <a:solidFill>
                  <a:srgbClr val="000000"/>
                </a:solidFill>
                <a:latin typeface="华文行楷"/>
                <a:ea typeface="华文行楷"/>
              </a:rPr>
              <a:t>09</a:t>
            </a:r>
            <a:r>
              <a:rPr b="0" lang="zh-CN" sz="8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高考的</a:t>
            </a:r>
            <a:r>
              <a:rPr b="0" lang="zh-CN" sz="8000" spc="-1" strike="noStrike">
                <a:solidFill>
                  <a:srgbClr val="fd2f1f"/>
                </a:solidFill>
                <a:latin typeface="华文行楷"/>
                <a:ea typeface="华文行楷"/>
              </a:rPr>
              <a:t>辉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7960"/>
                <a:tab algn="l" pos="47628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</a:t>
            </a:r>
            <a:r>
              <a:rPr b="0" lang="zh-CN" sz="8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从今天开始</a:t>
            </a:r>
            <a:r>
              <a:rPr b="0" lang="zh-CN" sz="8000" spc="-1" strike="noStrike">
                <a:solidFill>
                  <a:srgbClr val="fd2f1f"/>
                </a:solidFill>
                <a:latin typeface="华文行楷"/>
                <a:ea typeface="华文行楷"/>
              </a:rPr>
              <a:t>奋斗</a:t>
            </a:r>
            <a:r>
              <a:rPr b="0" lang="zh-CN" sz="8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吧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03640" y="58770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壮志雄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5805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2f1f"/>
                </a:solidFill>
                <a:latin typeface="Arial"/>
              </a:rPr>
              <a:t>真心英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ks5u.comwww.ks5u.com</dc:creator>
  <dc:description>www.ks5u.comwww.ks5u.com</dc:description>
  <cp:keywords>www.ks5u.comwww.ks5u.comwww.ks5u.com</cp:keywords>
  <dc:language>en-US</dc:language>
  <cp:lastModifiedBy>微软系统</cp:lastModifiedBy>
  <dcterms:modified xsi:type="dcterms:W3CDTF">2010-04-09T10:57:59Z</dcterms:modified>
  <cp:revision>7</cp:revision>
  <dc:subject>www.ks5u.com</dc:subject>
  <dc:title>www.ks5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3000000000001024120</vt:lpwstr>
  </property>
  <property fmtid="{D5CDD505-2E9C-101B-9397-08002B2CF9AE}" pid="3" name="Version">
    <vt:r8>1</vt:r8>
  </property>
</Properties>
</file>